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notesMasterIdLst>
    <p:notesMasterId r:id="rId55"/>
  </p:notes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  <p:sldId id="266" r:id="rId66"/>
    <p:sldId id="267" r:id="rId67"/>
    <p:sldId id="268" r:id="rId68"/>
    <p:sldId id="269" r:id="rId69"/>
    <p:sldId id="270" r:id="rId70"/>
    <p:sldId id="271" r:id="rId71"/>
    <p:sldId id="272" r:id="rId72"/>
    <p:sldId id="273" r:id="rId73"/>
    <p:sldId id="274" r:id="rId74"/>
    <p:sldId id="275" r:id="rId75"/>
    <p:sldId id="276" r:id="rId7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notesMaster" Target="notesMasters/notesMaster1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slide" Target="slides/slide11.xml"/><Relationship Id="rId67" Type="http://schemas.openxmlformats.org/officeDocument/2006/relationships/slide" Target="slides/slide12.xml"/><Relationship Id="rId68" Type="http://schemas.openxmlformats.org/officeDocument/2006/relationships/slide" Target="slides/slide13.xml"/><Relationship Id="rId69" Type="http://schemas.openxmlformats.org/officeDocument/2006/relationships/slide" Target="slides/slide14.xml"/><Relationship Id="rId70" Type="http://schemas.openxmlformats.org/officeDocument/2006/relationships/slide" Target="slides/slide15.xml"/><Relationship Id="rId71" Type="http://schemas.openxmlformats.org/officeDocument/2006/relationships/slide" Target="slides/slide16.xml"/><Relationship Id="rId72" Type="http://schemas.openxmlformats.org/officeDocument/2006/relationships/slide" Target="slides/slide17.xml"/><Relationship Id="rId73" Type="http://schemas.openxmlformats.org/officeDocument/2006/relationships/slide" Target="slides/slide18.xml"/><Relationship Id="rId74" Type="http://schemas.openxmlformats.org/officeDocument/2006/relationships/slide" Target="slides/slide19.xml"/><Relationship Id="rId75" Type="http://schemas.openxmlformats.org/officeDocument/2006/relationships/slide" Target="slides/slide20.xml"/><Relationship Id="rId76" Type="http://schemas.openxmlformats.org/officeDocument/2006/relationships/slide" Target="slides/slide2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5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ftr" idx="15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 type="sldNum" idx="15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6CC-2B22-4998-A5BD-C6B715C6069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Zala megye nem tartozik a sűrűn lakott megyék közé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, az ország lakosságának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nem egészen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3%-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, a 2011-es népszámlálás alapján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282.179 fő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él it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megye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népessége 1980 óta folyamatosan csökken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,  a legutóbbi, 2011-es népszámláláskor 15 ezer fővel éltek kevesebben a megyében mint tíz évvel korább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megye ebben a tekintetben kétpólusú: a 2000-es években a legnagyobb arányú (10-11%) népességvesztést a Lenti és Letenyei kistérség szenvedte el, miközben a Keszthelyi és Hévízi kistérségben 1990 óta enyhén emelkedik a lakosságszá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A népességfogyás oka elsősorban a természetes fogyás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, melyet az 1990-es évektől pozitív vándorlási egyenleg nem tud ellensúlyozn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2000-es években jelentősebb, összesen nagyjából 5400 fős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vándorlási többletet a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Hévízi és Keszthelyi kistérség 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tudhat magáénak, ezen belül is a Balaton parti, továbbá a termál- és gyógyfürdőik által turisztikai vonzerőt – és munkalehetőséget – kínáló települések vonzanak betelepülők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8F6-03BF-4368-BD2E-B8070F1452F4}" type="slidenum">
              <a:rPr b="1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2011. évi népszámlálás adatai alapján a megye 7 évesnél idősebb lakosságának 12%-a kevesebb, mint 8 osztályt végzett el. Alapfokú végzettséggel 26%, szakmai végzettséggel 23% rendelkezik. 27% szerzett érettségit, 12% pedig főiskolai vagy egyetemi diplomá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1 és 2011 között jelentősen javult a diplomások aránya a nagyvárosokban, és részben a beköltözők magasabb iskolai végzettsége miatt a bevándorlási célponto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2-ben Zala megyében a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foglalkoztatottak száma 116.400 fő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vol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2001-es népszámláshoz képest a leginkább, 5%-ot meghaladó mértékben a Zalakarosi kistérségben nőtt a foglalkoztatottság, míg a Zalaegerszegi és Nagykanizsai kistérségben volt a legnagyobb, 5%-ot meghaladó mértékű visszaesés a foglalkoztatottak arányát tekintve. Ezzel együtt is a Zalaegerszegi kistérség rendelkezett megyén belül a legjobb foglalkoztatottsági mutatókk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975-E280-4A6A-8ABD-6EAE18E094AD}" type="slidenum">
              <a:rPr b="1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2011. évi népszámlálás adatai alapján a megye 7 évesnél idősebb lakosságának 12%-a kevesebb, mint 8 osztályt végzett el. Alapfokú végzettséggel 26%, szakmai végzettséggel 23% rendelkezik. 27% szerzett érettségit, 12% pedig főiskolai vagy egyetemi diplomá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1 és 2011 között jelentősen javult a diplomások aránya a nagyvárosokban, és részben a beköltözők magasabb iskolai végzettsége miatt a bevándorlási célponto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12-ben Zala megyében a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foglalkoztatottak száma 116.400 fő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vol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2001-es népszámláshoz képest a leginkább, 5%-ot meghaladó mértékben a Zalakarosi kistérségben nőtt a foglalkoztatottság, míg a Zalaegerszegi és Nagykanizsai kistérségben volt a legnagyobb, 5%-ot meghaladó mértékű visszaesés a foglalkoztatottak arányát tekintve. Ezzel együtt is a Zalaegerszegi kistérség rendelkezett megyén belül a legjobb foglalkoztatottsági mutatókk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9BD-96EE-4D4D-AB63-D42AE8DA2C69}" type="slidenum">
              <a:rPr b="1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z NFÜ adatai alapján a 2007-2013 közötti uniós forrásokkal kapcsolatos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pályázati aktivitás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nagyobb városokban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, környékükön és a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turisztikailag jelentős települések körzetében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a legerősebb, miközben 123 településről egyáltalán nem érkezett pályázat egyik témában s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7 és 2013 között összesen </a:t>
            </a: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2.422 db Zala megyei pályázat volt sikeres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, ezek 56%-a gazdaságfejlesztési, 31%-a pedig humán fejlesztési vonatkozás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Összesen 70 pályázó végzett turizmusfejlesztéssel kapcsolatos tevékenységet. Tízmilliárd forint feletti támogatást csak Zalaegerszeg, Nagykanizsa, Keszthely valamint Hévíz volt képes felszív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EFB-CBBF-4409-8940-A11C0F64658C}" type="slidenum">
              <a:rPr b="1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BAF-466B-4F7D-AFA9-7FDE2835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E99-F3E3-4E17-AEBB-A2AA1FC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C12E-B6AE-473D-8D68-DD456CD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2446-828E-4848-91E3-8582F1E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5F2EE-E84D-411D-9093-65E8B54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F335-193A-4D17-AFA6-EA2EE86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88E89-C73A-471B-A5C3-77EA97E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F44D-ADBA-4842-8590-0F880F4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2F7A-92D1-490A-A9B2-01B5569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FC8D2-1984-4941-B9AB-0ED24C97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CCF9-1EC9-4000-BBFA-04E1C129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E9B4-D790-4EF0-9792-2CFD2126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8A7-CA0A-4BC1-BAAD-5E0C68AC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7033-037A-4734-8ED1-F384947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52503-5C8B-4721-9A3D-77E534A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BC834-1CD7-4288-BA63-D03ADDB4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10C8-9A27-4DF5-9E48-067766A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E41C-6814-45FC-A414-5F605832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1CF87-26D8-418D-A5AC-1807E04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D534-B4E8-4F87-9B0B-19B8E81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633F-3AB6-4E3C-97AF-A465A09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EAD89-7500-4A1F-94D6-809E217D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CCCC2-F22A-4F2D-B4DF-CA425D85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A84-9633-4053-BF27-CF3BC6B0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2822-416C-4FF0-B9E5-BE391B3F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1B8DD-574E-4D8B-A885-BC971DF4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57855-1BAF-490C-9A78-BDF982D5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3163-C1EE-4666-AC0A-16988FD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12D9B-F4FE-496F-81E2-A2564883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4337-ECC1-459E-854B-19AD0ED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A93F0-FA22-464C-A3D2-D89648D1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D53EC-03DB-44BC-AC8C-A767736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9710C-EC8A-4780-A078-06A9529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8B4E6-84EE-4AD5-A94F-BC0C252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C16-91CA-4005-9257-2C2D646A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C143-0416-4F05-8039-C86AEBF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75C5-63A7-4699-9588-E3776E83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9BF58-C009-41F4-98EE-C119485A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89A82-8545-45C0-94F8-1921BD9E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972C1-11F2-40DF-AE9A-80A54EF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B8B16-B72D-44FA-88F4-0A4FE44A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7E4E5-9194-4C0C-8916-6B913320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E372-8D63-4268-9A75-44FDFD0D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C3C19-E821-4414-B2F1-64C2084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E2B29-07B7-4ECE-A92B-DC0E739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C00B-A418-4911-9F85-2389747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79A8B-C8CE-459D-98B7-B963DF7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103C2-F2DB-4934-B385-CA46D0B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1C26E-370D-4D6A-8A6A-70A15368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2AC39-E6BD-4842-BD55-F3C2FAA0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28053-0336-45D7-A93B-F150FB66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7D7B1-4E58-4782-A5A6-739CCFE0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6733-3491-4968-A783-22EB5479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F357-3868-4866-87CC-B94FECF0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CEDC1-DB1F-4BA2-8C6E-9AD6A6D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4B6EA-DD0F-41AD-9F89-518DD79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B12-FEEB-46E8-914D-C368CB2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85E40-9E35-46AD-B32F-A55EFABA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79DF-113D-4AEE-9294-9250487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B9C80-E044-4BC5-BC5A-F5393A5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9C9E-70B1-4369-A8F0-1128C3E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50876-332C-487E-89CC-725A1FD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97D11-EDB6-45D1-A7C3-F6BF62EE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B10F8-45A8-480A-991A-A65CDBF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808BE-2EAE-44F8-8930-0EDFF9FC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7A122-D2E5-4670-ABE8-744A059C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863BF-9F01-44B2-A06C-AB60CA8A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AA9-00B5-43F8-9D87-CB32574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F1388-A6F2-4152-8E5C-25D9714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8D8B-DF3C-40B7-AC88-2D20413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E88A-5FE3-4B9A-87DE-FDFC333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F6428-A039-4C0E-803D-2C51678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E95AE-3911-4847-8279-1A1211D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AB60B-F972-4073-A68D-6F3501E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24E85-8DC1-414F-AA34-AEF9027A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7E5AF-60E9-4F77-81F2-43204698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D5143-FC2A-4D72-84B3-92EB37C5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0730E-2C3E-4F2D-BC7C-18DF353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45D4-BF37-43B1-91FB-95F8D86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297CE-FEFA-4F40-AD35-CA45B3B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FD420-1F6D-4E05-BF49-F5F971A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1616B-375F-4F66-9268-9781409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3E284-DF08-41C4-BF93-FB5707F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E6194-01C0-46D6-B758-045D653A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0DDBF-D7E4-478A-820C-05857C4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CA833-3DE8-4782-962C-F46A470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1708B-0E92-47AF-9D28-280DDD71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AB9F1-1FEF-4BB7-9559-2D1417F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CC25-2379-481D-A2CC-97837B37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C02D-EFD1-4502-BA15-CAB2BE1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EF07A-D6EA-4EFA-B249-5F9E118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0997C-D2F4-4249-B11A-F9D1689A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82AE9-70CC-41A5-94CF-A9CC4FF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6114-AD00-4119-A7EE-5B5D097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1BD26-531B-43E8-926F-1B36172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46305-0F14-400A-9C71-4FB047D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E3199-E397-43F0-A670-F9CC6D8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09D53-ADEE-452A-BBD1-4644923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E98E2-0D81-4E38-882B-AD57378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7DB10-C6BA-470A-A3B9-69083AD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0301-DC2A-422F-B84E-A9426B35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AF9DB-B76E-4A89-AE3C-9630F70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A3251-3AA7-4FD3-A3C4-1E3C0C63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CD407-D086-4DC6-B165-CC61330C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F119C-8BA6-482C-81F8-BBA8A87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CC56F-54CE-4ED4-A534-58C7EEF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79915-9B31-4480-BCBC-1F2A6E4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C6440-4161-4FBE-A7F0-F11EFF30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A4EA5-9E54-435D-A62B-E573E65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FF69C-5630-435C-AA1C-50F4113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CEADA-9024-4549-BC5D-AC1FAD8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F4F-63CF-4F35-A29B-49F7325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36A-C8EF-4A61-8E51-F1A731D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8B9F0-EB14-45DA-B8FA-A0080D2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89FB6-D5F7-4D46-8002-21F1CDE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FD7AD-A94D-406A-AB3A-07F8FD7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28F92-B844-4EF7-8587-2C1100C7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4DAA5-5858-456C-BE56-CAC192C8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103A5-836E-451E-93A0-5B11E855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FB1B2-E38D-460A-A99D-D424413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70E3C-02A8-4099-9F92-F816A957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94A8F-4E7E-4580-9C6E-D78633DF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48E10-F12B-4777-99EA-0E030DF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16E7-8077-4744-9563-24289F2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309B0-4452-41C4-90CD-654AFEC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A9BBE-9CD3-4F22-9CB7-59D6C11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DC591-318C-484F-B5B7-F58D56A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E7F92-6EE0-438B-AB5A-E376E51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B161C-02BD-4DB1-886E-84C2990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93621-1B7C-45B7-8C94-FC5ABA03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49D79-23B9-4708-BA22-58EC9C31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61BD7-9196-4720-B322-969C7DB8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4E300-C007-4379-8ABF-E8D6C33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6FE25-FFDF-4DDD-81EC-96E883D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C578-F212-404D-BF2B-3D2400C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BD2BB-BD64-45A5-B8FB-ED3A12E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DFA29-9F0A-4081-AB12-BACF242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47C0D-70B4-4EC4-84BF-80C6B2F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55884-5354-45B0-8B5A-05BC5DF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719F0-3E4B-4C89-A35F-08BE179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5A728-3AB9-4A0E-B2AA-47D6859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E026B-F302-4855-8551-1C73C33A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D617C-6405-4738-9C2E-A7541ED7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310B5-9197-4B1E-9874-050E3FA2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7500C-B802-4BBF-A30F-7FDEA3B5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8C54-5214-4314-A032-0A588A8A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AECE5-BD42-495C-B2D8-6D44BD8D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E35AF-274C-4259-8054-6E6A3B6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953B4-3C9B-41CE-A32B-EE5B73EF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E15ED-37EA-4218-BC21-32CBA3B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90ADB-CAA7-4376-8D65-D7F85199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32F1B-8A98-4B9A-A204-EC51850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CFC64-2A92-49BE-B470-9EE7847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BAE05-C6C2-4FA2-B03F-865C4AC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2D451-FB17-4950-A3A0-07C26CB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7777D-8A55-4802-A416-CDF65E0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F0EA-C1A7-483F-A9D5-8A7426F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833A0-E9DA-4217-A3D9-BACCCB2D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40E15-2503-4842-B047-2DCC6F7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F9E21-1792-4A98-BF1A-05AD7FD8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B186B-FAC0-455C-8730-8365FC51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BB43C-5492-4A2C-8BC3-9B48419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D96A3-3837-44A9-9FAD-C2C0FAC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DB556-2781-4252-887A-BFFFF8A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34908-52D2-421E-A767-1EB1432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AB6B8-1374-4950-B359-A176EED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56546-6691-4965-9851-A35A2EC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8281-0930-400B-879A-0726DAF5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8CA4E-5BDD-4D21-9965-EA5BAEA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699B7-96B2-41CF-B441-31626920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438AA-C3E2-4F5D-BD37-183B3C5F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2F084-FB87-432C-8032-AF2D0E5D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15E96-D1A8-423B-B6F0-51F407CF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AEA35-8431-4B91-AF5B-D060B90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82705-DFF1-4D11-BBEA-546A5C0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3D650-0422-4E57-9830-B02AA71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84AD0-2F7E-4D23-985E-97DCFB3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ED308-6FFF-441D-B1E5-516C16B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52F7-11A0-45C9-B548-BEA82AE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E229D-136F-4704-AE5E-1E66439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6D9F1-1D01-4F16-8611-4530BA91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6D174-845C-4C0C-AE3A-14B6FF4D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34D7B-E073-4F84-AB24-0E9ECF6E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9B88C-BF66-42B7-83A3-B5EE64C0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BDAC7-138E-429B-976B-8534F21C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2DBAC-1DAE-4162-ACF7-601A895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EC85E-BEDF-47F5-B94A-47A34AB5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799BB-C25C-4571-9C76-81D5EBF9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97DF2-D311-429A-9838-61E0DC6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20CC-ABD9-4129-9EA5-98D7263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AF5DC-14A4-4C5C-9A0A-03CEEEA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13303-8D86-4D50-B4BB-A100A9F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40192-DB9E-469A-8CD9-E3D6B89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B4C2C-017F-4226-8E99-1C3081F6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A48AE-29FE-44B9-B59D-75E9E4F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52B1EB-D43C-4EED-8A71-555D5FCE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52B3A-9F77-41F4-ACB4-FDECE5AB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2730AD-5FE2-4E9D-9A26-246A96E5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3F264-3EC2-4D43-BD49-733FC0E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A8BB7F-EE21-4340-8229-A325506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417D-CC19-4D08-8DCA-9E07539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FBAAE-4774-49E8-BEEB-B2AD5371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2A5FF-085A-47E3-AE6A-EDE6DADD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1BA8E-8015-4BF7-B927-04148ED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72D70-72D9-4F30-B13B-0B9A149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8653C-9FC4-4E79-81F7-615174E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CF502-882E-413A-B886-FFC1C79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B00AE-67B3-4D77-B7F4-935EC1F3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F877EB-71DE-44CD-A893-8F0A8B18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4CDBCB-B32C-4D95-A2A2-CD74F8CB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112F4-4B5B-4777-9BDB-86EE3E23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2E34-04B7-48F0-84BF-3196987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FA3BA-92CE-4CB4-BDFA-CABF8D53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3BB8A-1989-4EED-BA34-8BD4B67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0AB10-2CC7-4F95-8E90-E284D2A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0CA279-40A2-49C7-81C4-35958F0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FF1B3-CE4E-4E06-B872-CBCB677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00B1A-B75C-4957-974C-03BEF6F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105BB-8D80-4B0E-BE10-342775A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AD9A3-1484-4E67-9F8A-E291A76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C8692E-D0EE-4C58-B1B8-DD677D5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C539FB-7340-44B1-88F2-92C5F07D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A3E-17A5-4630-ADCE-C7BE03C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73CA-29B3-40B6-91D7-3ECB736A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AED55-5EC6-4C3C-8DA2-BFDD8D67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BABB0E-A98A-4BE4-AC9A-BBBA293B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8AE4A-1CB0-4DDE-BCC4-65829E98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4C74D-5129-46BC-8442-D670C31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A4CAF-CEC4-4FAC-A926-C4CE940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66D5BE-FAA9-462F-9686-682BC89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7867C9-37D5-4398-8F63-CB2EDD8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579CED-7CC2-4707-84DC-B6882E3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8FE8B-D908-474E-B557-B64D375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EFC486-A8F6-4B80-8014-B8A4B63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8997-322B-4187-989C-F835A42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8E8F9B-A974-4F96-81B1-C8D514E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7E2557-9EE6-48CB-A196-22F587C8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F42B4F-250C-4868-9970-31B55DAA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B7DD9B-90C4-4F20-AF64-14D3BF93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E616B1-635E-4547-91C5-99BC3179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0D543B-3BC0-4C3F-956B-DC577995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CF7CF5-EDCC-41B8-9D28-C861507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9CE89-31E7-48F4-BE36-1A9E3B4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398C2-C303-4213-8E55-74341E5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4D396B-25EA-43FC-A984-E22B13A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9B9C-0696-449D-8431-8E67091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69877D-0ADF-44A1-9CB6-704A735A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CDCEAB-DA01-49F5-ADF9-CC720E8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85481-7F68-4BC9-A52D-464B28AA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D7EDD-057F-4024-8771-A27DE580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5A9362-F89B-419E-BCCE-4C6CC3AC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6739E5-8436-4A6C-8F67-A0E97829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69CBA9-809E-4370-B260-99AC4220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1FB479-B415-4318-B7DE-50B16BB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A4042-AD65-43A3-BBB5-2DD815D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9042DB-457F-4EBB-AA0C-3F00F76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C8DA-831F-4E66-A711-D126053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83201F-ECA8-4BBE-9B26-7F33A53F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37A5F4-C889-4C40-914B-4974C9F3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2D0924-1313-43EA-BAD5-E9736AD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ADE6FE-AC87-4438-835C-C16A292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A679E6-9963-4CED-ABF9-AF9287E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5A967-DD98-48A8-833A-2A2A96E8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6EA1DF-9474-4DDB-AC95-F109CF76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83E3A1-B0E6-49CE-BAC1-3F429C56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EBDEDE-DA87-4744-B00E-98EAC73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288AC9-9389-48CF-85B0-E3E7FA9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8675-80AD-4CD4-B4C1-0AA8FFB3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2E01A3-FD4F-4825-BE2B-016DFB8F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9BCDCC-8650-4E5B-BED1-F89841A4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88CA84-E741-4DFC-AE2F-FD16894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C9B12F-F8DC-476F-B8B8-52ABD01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0819C-5873-4FDF-B492-15DDB53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4BB284-2CC1-4107-9E15-8A1689F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9EE097-A574-47B8-8B02-3FE3F9ED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13BE74-436C-4FEE-9F46-43B5BD6C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584361-A7E2-4311-A8F0-4C2EEE47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D15274-46A6-4E37-A42B-782DA164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5281-4E30-47B7-A7A9-955F9B7B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39B62-74EA-439B-B76C-12F601B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2C959D-56E6-4C37-948F-BBBF73A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A96D71-71B9-4C6D-8CFE-D0B6AF20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2546A9-8360-446C-BE39-22D5211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1633B-1CD8-45C5-A5D6-F6D864D4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F65E20-86E5-49B2-AE15-DEE0B4D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92B1C6-D75C-4A03-BB96-9E87921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5332F7-B641-48FA-84B6-05787A71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A62B05-3D56-43FE-B851-99B0101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D8BAE4-0216-4D7B-BE14-24F169DF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CAA9-DD01-4D51-AFC4-389C21B0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45752C-74F1-4F9C-AADC-135F196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78D241-7114-4928-87EE-BC518F32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52F20C-2E0B-4328-B77E-733AB0D0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B4369-A692-43C7-BD2F-DF57EE1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E2CBB-6D1A-4797-A42A-80F2EE1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6D76F9-6853-4680-9D7E-E469D3C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18E5E-F4DF-4DBE-96A0-51EBFF9E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285C63-C1E6-480C-99EA-ABBC7214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47B4BF-DE86-4CE8-B449-651090C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D701F5-CD5A-4CA7-8AB2-A17432A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FF03-452D-4CD5-A96B-4D22541D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6FA19D-DE1E-4296-BF23-183C5C80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322998-858D-49DF-9409-264B62CD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4C8CAF-A113-40C2-9A1F-9AA9674D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FCBEEB-B9B1-4F6C-A4F3-56DF6C60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6179F-0063-4041-8120-27851E7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2C486C-321A-443D-AA0A-6312AA84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B73655-FA02-4241-AAAF-6CFCC715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B5B8B4-745A-48F8-B2AB-32C1945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F37C2D-1285-4B8A-AD7E-0F16676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E20178-3F7A-42DB-A5C4-57A91A3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A04B-41EB-43C8-B664-1D788383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0C04D2-B46F-411C-BD8E-EFA242B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CF66CC-C3A2-47CB-BF7C-E04A4F0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C617C9-C4EB-4524-BA37-2EFC3F4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86D306-25FA-498A-B216-DC5470B2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804A92-CA83-43C1-B107-A8C8F36F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1CCABE-1C95-49A4-A4EF-764D9D47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E175F0-EACB-4AF6-BA4C-6EE63DF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C89373-DA68-42F5-8067-43C7609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6A9AFF-63B2-4182-94BC-37CED0F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8BD3B9-D74B-4624-80B1-C2F6175D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94B9-6EC5-4D05-99E4-7F2C11ED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DCED1A-1AFC-4DF4-A8AA-A50881C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69071B-6E4A-4F1D-8771-04ADDE9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9331C0-9CAF-4E71-B1EB-A263A93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640910-B5DC-4A27-8717-BD2D17B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26DA4E-54C9-4A17-8506-4770BF9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54923C-7DB7-4E71-BEEB-B66B2F4B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0B145-988D-46ED-8699-19D58EC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74DF1A-E708-4973-A221-FB7AEACD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622DED-1040-421C-BE85-077437F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2545B1-8771-4D3E-864C-E0FC6F0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E5A-CEAD-499E-B0FC-83861A9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4B42-FD9D-4CFC-8242-185EBE67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1DAF0C-B863-4067-9E5E-24A6B83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5BC196-B927-4B59-B7E0-2856020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BE42ED-82BC-4002-AF5E-B30AF6FD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ECD612-21C8-4045-B9E0-CE95371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75058E-2FA9-4514-904E-6AE61E9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D66B4F-A247-4357-AA61-097A60E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9FEB27-5217-4A65-A94D-DDDC93C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064DED-D65A-4FA3-AACD-789F2D4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B80E80-DCF6-4B15-9012-7BDA7708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AFEEF8-8958-4EF0-9780-D1A65C25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61A0-6098-4EE1-8C70-32F34B4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B0413A-C838-4BC3-94BE-4CAF708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46E5A0-C33F-4A6A-9C75-3FF4688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998669-B1DD-422A-B52C-359B7DD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36479F-F803-49A7-98D1-CF8503B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994B4D-591A-4D77-A1AB-BA57E2A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981D3B-EF91-4F33-9707-0AA2B64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312B82-682D-45A3-8713-BA3A290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1FB9E0-2014-40FB-A036-6AEEA8C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EEA041-E556-4B33-A813-8405F7B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BDEB78-E29D-40A8-96E1-0EBDA7D0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1552-D069-4D3A-9818-021A0E3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D82B12-93E3-4497-9A01-B02F1786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68D84B-997C-4C6F-ACDF-B34B4541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73A8C5-950E-44A3-8D29-B04BCE7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60F873-3242-4492-830D-AAF423BC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05C69-1478-4385-BE27-2EC12FD7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03FC50-5D1B-4A4C-AB06-B46E5F3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FB8873-95BE-46B6-A5B4-9EE3FB7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D8D854-E280-4018-B8CC-5077E7B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4302DE-D8FE-4A3B-846B-4BA8357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D8785D-5B28-4C37-86DE-67274AE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BF23-BC03-4302-B91F-A0B5E04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ED6C90-1062-4309-AA1E-04CEF9B3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4DDC14-D44E-47E8-97FE-7CFA6DD1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F06F06-7201-47A6-9B0F-D566DF53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CA503A-F88F-4414-BB9D-E1F20E58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A2762B-69F2-44B3-9D72-1859B6A5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AA088B-A3EE-44B4-866A-7A4EF08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754DE5-C0C0-4FB1-8EA3-385E915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5A1B32-4C91-4AE6-B08D-A0B21ED4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0D089F-EF5D-48D6-91C7-834533C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1026B7-B836-42A8-B4AA-3793487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84E4-FDD1-4120-A863-DE7BF0B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B0C44C-D449-4B8B-BF7F-7A0E3FA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DE0B2C-0C30-4C4E-BE6D-310E2D6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9FDED7-6071-4551-9567-A41F02A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499C22-F66E-401F-B63B-5FE499DD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E5FF50-02AC-48FC-8C03-6E683D0D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2F00BD-92B0-45AD-A2F1-EFDBE87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050EA9-4A0C-4761-A1A8-2E6F5283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CDC622-849E-472F-B8ED-4D67E58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522E9C-20C4-408B-B9FC-3366F89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03E2CE-8CAE-40BF-9C26-7300E9AC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B81F-ADB7-4F44-9CE6-058C696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4232B3-3B4B-4B32-B673-93A5615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C60CCB-9941-4A74-9F6D-34FEFF8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4E1EC8-B3B3-478F-89A8-503AC988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D08023-E1F1-4921-8769-0F222F6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062B8B-99DB-40F7-AED6-1E4D4FB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286F78-4AA2-42E7-8140-C398E7CF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90A026-F553-4472-95EC-B27F2D4E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D6B356-1B12-47FD-A5C9-02EB3164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4F24BA-96A0-45D6-BBBD-658A928C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D12DC2-56B7-4917-A8C8-30935EFB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074E-EE90-4096-AC2B-AC51DD7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0B883C-1B53-4585-9B6A-39E0584A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2F61E5-DE96-4FD2-8E35-6756F6A6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99BDF0-6BC2-40E6-AEF6-7206464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A0A45E-D58F-49C2-BF83-55F94E8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C2ECA7-70F1-48AA-BFF4-590EB33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D0D517-79DB-4954-923A-2B454C7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2765DA-84CA-487A-9932-A85D5F3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0516CD-6BB2-4B5E-9B82-F04366C0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4953F0-D597-467F-8589-57A9409E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11559B-B87E-4E55-8195-518F4E0A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A2C7-5E72-4590-9B9A-36435CD5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B661AF-6B31-42A5-BEBB-A6442C4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56B8C8-FC7B-4635-B5AF-F3D53B1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C0B660-93DE-4065-946E-E7398833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41E4EE-F8B4-43EE-9771-1936A13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0D60C4-D38C-4BCC-A1D9-60C937E1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33F71D-8A3F-4B29-9DFB-5807F83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4367DD-4814-4771-813A-072BE1D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8A4428-A175-490D-85C3-914B697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7893C4-2E4D-4721-8194-62F515C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79BC1F-47F0-4938-9C12-8A753653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BD1E-5117-4BDB-A393-501F6B87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5D10BE-AF94-4629-94D3-C0D3C0A8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D92353-839A-491B-A3BD-4C0BB3DE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C3B108-D2F2-4648-AE22-230D3E84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DE6D43-8052-41C4-91E3-59866D73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17D0EC-72A8-40AF-AF1D-D0F9999F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2E272C-2BCB-41E0-A6ED-4AD19E1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470D51-7851-4FDB-A523-0AE451C0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BF35AA-EC1C-4E67-B18B-30E8217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305716-EF1A-448F-B9C6-C8D4C17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55A9FB-65F3-43BD-B9A8-25EA58E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58DE-EC10-4A98-A342-15BA8B6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AA38B5-CC5B-494D-8902-C5C87F9E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9493CD-71D8-40AA-AE57-70E21202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66FA68-653C-4A41-A100-D1FD8C20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CC9354-27A2-4168-AFD1-2452B30C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44CA6C-FAE2-450C-809A-9808F0CD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4A6F8B-8009-4B84-91F3-EF41981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75D91F-EC36-4948-BBDF-439A26E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9DD661-1707-4CF9-B738-BFCC1E31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9573D0-EEEB-420C-A304-4E3136A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D2AA54-EB89-473D-8E39-8CE5BCF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0CC-9131-415C-8C9B-95C275F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DCDA2-FB18-4550-BD8A-B2D83362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B7CDEC-2D9D-41C8-A931-CBB91DC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5F23A1-E7F8-4A9D-A44D-94074EE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392CE3-34DF-40D7-A87F-97987DC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F38766-009F-4165-96A7-F49B450C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B18649-40DE-4B65-B291-9BAB5883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A9E1F3-7F3A-4D27-9FCC-B70DD8F6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F16CE8-F7E0-4C79-9C19-09A2A5B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67A1CF-044F-4350-A886-B3C9A5B1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3F3256-B7A5-4568-8A4C-BAF7FFF0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FFB149-2CB6-4689-B597-0DF38EE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2C1E-3CD4-4D1C-8267-802D785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881942-8510-4D87-8321-6CF99218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381A7D-41D2-487C-8DEC-C608164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4FFE9A-150D-4289-BBF4-DBAADB5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09AF76-53F6-4980-8242-34CF363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54F3F7-5F92-4998-90D6-FF9B299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D0B775-CB6D-4E51-BC3F-783B721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8C9315-8E73-4DC4-94D7-65D83611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4B3159-D50C-46F7-B414-3927522C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AE7B5B-49B6-42E3-87CA-C9486B69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C920DE-87CD-463D-AF0F-B960748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EBF6-EFDE-4AE6-BFCF-812C787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CD8992-1732-4167-BC2F-AAE7827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ECE137-CA2A-4766-B5DC-3F6947B7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F382CD-5FF8-44AD-B4F3-638EF7D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7B5B20-9756-4487-8F28-67D6828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DD7C67-BA71-46C0-88B1-17AA1935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5B7CC0-AC97-4274-B063-A81BC65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FF2621-5D2F-4860-9339-9AEDFA0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CC241A-CA06-4E08-AE9C-F33587FF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D88960-2361-4FEF-ADB8-B28B99E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F5F20E-B69D-419B-92DF-9D2C1CF9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AEDB-EEC9-4B60-BF9D-79A89E2A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E5ED75-D61D-45FA-A0EE-EE3C465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EC513D-C11B-462E-B770-FE62C51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847BEC-11B4-4789-8E13-037B172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E0613F-B5B1-4635-943C-42A9B6E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0829B3-BA51-43E8-999C-8C946A4A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C93A3D-57F9-4801-B4A5-6DE639D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4F8135-41BB-4259-80DA-279CBBD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DCCD9D-8D92-4E06-A073-4612431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F1B700-F13A-4948-BC45-804AEDF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D8EAE6-0EBD-497A-857F-F72FB34F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1E761-DBED-4ECE-A21B-B6CCCAB2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F8B05A-20FC-422E-AB40-5D77AE7E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27413A-8847-4397-8914-E91BFD0F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A89BB2-F247-4903-8A9A-F76C1DF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4D5C63A-B5DA-4FC4-9F9A-CF17A9B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218716-6AA0-4B6B-88A1-E085C4D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783B6D-80A0-4AE4-9F04-49AB003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94F215-65EB-4BBB-BF9B-D98C18C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ABAAA9-B7EC-4A9D-B437-2CB90259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DA528FB-2AC3-415A-B3B7-B8789D3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8FFFF7-D0EA-4F0C-9CD0-98F2AB6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7115-94F9-4816-845A-DC591A8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AA0787-750A-4C96-82E2-3AA4C79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772817-9326-485E-8A1C-23B5A066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0583C1-8B4D-414E-8521-23F1D59F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162F8B-6F8C-40ED-AF22-511C6697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6E0682-4407-4BB3-A899-2379480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65FE94-38BD-4942-A718-B60D2F39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BA602D-28A0-4647-8CE7-E7F350E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7EFEFD-A219-4628-9EB6-86DAB7E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8E72D5-7404-4A51-8D83-07B5CF4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66568B-91AA-43C0-91C0-C8B95BE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9ECE-1508-4A26-88FD-6348338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16A8D7E-EA77-4D48-B9BB-633267D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BE6553-B8EB-4E51-98DF-81E3461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C12018-801C-4FC4-A35F-26DDB45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B4EF3D-D117-4785-AD9A-E17A28A2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BF01BC-A1DA-4299-B486-5C6C96A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E05880-F10F-4ED0-9858-61514ECE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433A3D-2236-4593-AF02-02234FE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4174E8-F6EE-4A69-9CC1-E3D5980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046C46-A3F7-44D7-A658-440FF30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87EE22-4BEA-47BB-B1DB-DA43962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F6E8-E47E-4CD7-B45F-5D536A9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F07222-89D3-4DA6-8437-DCE4F9D6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39D278-644C-4236-8A61-B3CEF345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3F3649-E31C-42F2-AA87-5DB4CFA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102163-DE73-4DAD-AB5D-E60095C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3870B0-DEFF-4C9B-8223-00DE22C2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BACF19-E3D1-4465-BC6A-C60B6AAF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144972-8564-4FED-ABD0-801BC9DF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910F02-7041-4630-A918-6579D4E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7FE7F7-2FA7-47B7-8A2E-4F014CD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734032-9128-427B-9D8F-547BBE6E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CC52-1611-4924-8105-1451204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E59D19-A159-4C97-9435-D79DCDF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868692-5869-41B2-9091-8FB3D32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0B13B3-1DDE-44F8-A2E0-9A2489E9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926B86-B369-4492-941B-DB36642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B8C591-A109-44FA-8855-C50BB7B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BE5B66-5EFA-453F-91B9-5C23BEB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D563C9-99D9-4F6F-8692-F3E61043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57B233-5664-4514-BC9E-CE8C79F9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85E7A0-3CAF-4658-AF05-FE215E0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EF4BFB-CB10-424C-B7B9-515A16C3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0495-23BB-4A89-9D28-42A13439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157178-C09A-4B57-927A-DCC0E0E9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B1DA7F-4050-46DA-BD99-34A6352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284BD4-FEB3-47D4-8976-E4A4818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2798BA-A8FA-4BA5-A826-7880C977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3424E1-B45A-4D81-8E3F-323ED03A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62CC4C-667C-4BFF-BEC6-AC1DEC7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ADC22C-5B66-4BEA-96DD-C712A1B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31D67C-B96C-4602-BBE7-117E60D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32AC49-608A-46FD-9EDB-9BF37AE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F4C8DA-0D62-4D89-8B94-AD56E2BA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F83-C72F-4BF1-B807-5BECBFEE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CC57-C7E9-4804-AB3D-2B5C0234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089C67-EECE-4EF0-871E-0EFF3C42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B288F8-7DA2-4694-A885-C884B33B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0FD1CC-B55A-4D79-B4DB-D1231033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2E8E29-0CBE-4B66-A047-DC3F502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5F9B50-0872-4FEE-AE0F-B0C86E20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07BC68-6F56-40E3-8115-D0824408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DCCACF7-2CF9-4547-BEA8-5538FC2A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5B8B8E-89B1-45EA-9AE8-4CDF23E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9178CB-FC7B-4268-A60D-66835D1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79E207-3C87-4E20-9F6F-FC1F928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F8903F-A293-4765-AAED-82456AB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83F2E2-F39B-4014-A33F-4526C136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332ECB-4311-407F-AEC7-243BAD53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541E53-D6F0-417C-857F-10C44E62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C75CA7-4C47-45EE-9F7C-8E1239A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C37DC6-774B-4C88-A496-3B8EAD72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7CF5C26-B2C3-4298-A264-0778388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0C09A4-E25E-41DB-B393-F961AAB0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83BE11-EDCF-445A-962C-5E254EA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CE14A8-C8A7-48C1-940F-136A89B0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B11109-742A-4D24-86C2-9230536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9C8889-6105-4A0F-AFD2-D7A01AA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ABC966-4B12-4547-8826-6885CCB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B178AEF-7D35-4B64-84D8-05277366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741717-4F53-4CB7-BF0E-7B594266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976-96B1-4DA8-847B-EF43D4A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3F6F-41B0-4F7A-B20F-0B95A2EB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B031-D35B-43E2-B8E1-BB6444A3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02C0-C7A2-43A0-8611-0483E296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ECE2-8C40-4FCD-9B8C-77776041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137F-C789-4159-B7F5-D59486F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06DF-186F-480C-940B-E15E639E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4CFA-7D0C-42EC-85D3-431A48F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E8E-DC5D-465D-8A62-EAC6B1A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5441-0109-4FF9-A3C4-BC6AC147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BF71-481D-4E93-85FB-293F2D9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678B9-2E5C-48A3-8119-F252DD92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1EE2-DFEC-425A-AA0C-35D7BAC8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1B7AF-DC48-4D0D-810C-3089E27F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0E6-9DF1-4F44-ABE2-E6AF2425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6049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8330E-8491-4ACA-849A-F9736BCD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EF36C-0143-44C5-8CBC-D0DE2DD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5699-5D9C-4F38-A236-520294E5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E652-3AC2-417E-8A1E-F069DE441A88}" type="slidenum">
              <a:rPr b="0" lang="hu-H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660-29F3-4FCE-ABD8-317F5D8F68C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034-9A39-4F78-BD3C-DFB5AB69311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0CF-F224-4A72-8335-F4B53158588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78AB-CC52-4C69-A8D7-ACA857941DB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9C3-969D-4C29-9A5F-03F95EC2FA0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B8D-2728-4259-9224-EAB4E0313CD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6BF-53C0-4116-8810-ED7B2F48469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BA6-AFB5-4711-BAFB-B8FAA9B23DD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82E-B39D-490E-B0B8-8CBD3CBD1FB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C70-DF40-4271-AFB5-9EA3B609957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31D-9C06-4B84-A93A-E59DDECCC3A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30AC-CEB0-43E7-9B86-8270BE0255E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626-67C9-47DD-A3A1-F011EFCBED7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FCD8-2A10-42B8-B4F0-8A205AD17CB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2F1-9F1C-4A39-A1E8-E6B16F82F5E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48C-6164-49F9-A793-3346B50C932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6B6E-2E30-4872-A2DF-23539365468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924-13BE-4D0A-922F-F9CDF26C714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4B79-C544-440D-8906-E189EFE8F9E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8B5-818D-4AC7-A428-F79BAC3A23E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A2D-3069-4C9A-B07E-2ADA4023103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D33-82BB-4AE5-BEB0-A2436CC52A0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067-0789-45D8-8E39-D4C134AE586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707-F80F-4BCA-825D-645130308F1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8AF-FDAA-4992-A0FE-A566782E579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8F1E-EAE4-4C45-BDDC-4B00A7C0C0F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5E3-D080-41B9-A83A-F455A1CCB71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229F-43F4-4306-8E2F-EC8AB25D514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27E-B86D-415E-BAC4-06511B51E68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9B42-9392-405B-91C3-97FF17C440C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B96-3327-425A-8F82-8CCC432BC22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396F-1F94-46F4-B225-67441641CFE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0BA-6947-4FB2-B90F-B3EF8EDB8EE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6E79-C3C1-4E18-A3F6-763ADA1073A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2CF-6DC1-4DD1-9452-527CE6723E3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9757-0970-464A-B822-CC91401D837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25A-ED83-4BA7-99B6-E38B0DA19B0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7A4-1D45-400D-99D5-EB63B6044B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999A-83DC-4E52-9CA5-A1173316A23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E9CB-F87C-4DF0-889B-223541CB84B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E9D-1464-4D28-AAF9-6BE752ABA76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8B4-1EED-43A0-8CC3-8A691B19859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0641-0B32-4563-8EAA-D277BE69A2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E1A-51A3-435C-A3F2-BA0DA7A300F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DE2-8527-4ADC-AEB0-AD39D74F74E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4C5-96C8-49D4-9159-5AF8BFB0575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5D9-E54A-4181-A9B5-E6183430BE8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299B-C0E6-42F6-B720-D933D803BF4D}" type="slidenum">
              <a:rPr b="0" lang="hu-H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544-3F75-4088-8FED-EB3CA187CB0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ala.hu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0560" y="1080"/>
            <a:ext cx="60498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2f5897"/>
                </a:solidFill>
                <a:latin typeface="Verdana"/>
                <a:ea typeface="Verdana"/>
              </a:rPr>
              <a:t>Gazdag és harmonikusan fejlődő Zöld Zala</a:t>
            </a:r>
            <a:endParaRPr b="0" lang="en-US" sz="2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1" name="Szövegdoboz 2"/>
          <p:cNvSpPr/>
          <p:nvPr/>
        </p:nvSpPr>
        <p:spPr>
          <a:xfrm>
            <a:off x="3132000" y="624204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Verdana"/>
              </a:rPr>
              <a:t>Széchenyi Programirodák létrehozása, működtetés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hu-HU" sz="800" spc="-1" strike="noStrike">
                <a:solidFill>
                  <a:srgbClr val="000000"/>
                </a:solidFill>
                <a:latin typeface="Verdana"/>
              </a:rPr>
              <a:t>VOP-2.1.4-11-2011-000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f5897"/>
                </a:solidFill>
                <a:latin typeface="Palatino Linotype"/>
              </a:rPr>
              <a:t>A javaslattevő fázis célrendszerének összefoglalása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2199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2f5897"/>
                </a:solidFill>
                <a:latin typeface="Palatino Linotype"/>
              </a:rPr>
              <a:t>Operatív Programok 2014-2020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Gazdaságfejlesztési és Innovációs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Intelligens Közlekedésfejlesztés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Emberi Erőforrás Fejlesztési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Környezeti és Energetikai Hatékonysági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Versenyképes Közép-Magyarország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Terület- és Településfejlesztési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Magyar Halászati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Vidékfejlesztési Progra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Koordinációs OP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Century Gothic"/>
              </a:rPr>
              <a:t>A megyék az alábbi beavatkozási szintekre terveznek, valamint koordinálják az elképzeléseket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7f7f7f"/>
                </a:solidFill>
                <a:latin typeface="Century Gothic"/>
              </a:rPr>
              <a:t>megye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7f7f7f"/>
                </a:solidFill>
                <a:latin typeface="Century Gothic"/>
              </a:rPr>
              <a:t>kistérségek (MJV-ok kistérségei is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Century Gothic"/>
              </a:rPr>
              <a:t>A megyei jogú városok fejlesztési elképzelései beépítésre kerülnek a megyei dokumentumokba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Century Gothic"/>
              </a:rPr>
              <a:t>Végrehajtás során a megyei önkormányzatok Közreműködő Szervezeti feladatokat látnak majd el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2f5897"/>
                </a:solidFill>
                <a:latin typeface="Palatino Linotype"/>
              </a:rPr>
              <a:t>Terület- és Településfejlesztési Operatív Program megyei projektcsomagjai:</a:t>
            </a:r>
            <a:endParaRPr b="0" lang="en-US" sz="2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integrált gazdaságfejlesztési 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turizmusfejlesztési projektcsomag 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alternatív hálózati gazdaságfejlesztési 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vállalkozásfejlesztési projektcsomag 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foglalkoztatási együttműködési </a:t>
            </a: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projektcsomag  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7f7f7f"/>
                </a:solidFill>
                <a:latin typeface="Century Gothic"/>
              </a:rPr>
              <a:t>Zalai közösségerősítő projektcsomag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-4258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Zalai integrált gazdaságfejlesztési projektcsoma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a foglalkoztatás növelése a megyébe betelepülni szándékozó és a már a megyében működő vállalkozások számára vonzó befektetési és üzleti fejlődési környezet kialakítása révé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Zalai turizmusfejlesztési projektcsoma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a jelentős turisztikai attrakciók számának növelése, új turisztikai termékcsomagok kialakítása, a turisztikai vállalkozások által nyújtott szolgáltatások körének bővítése és minőségük javítás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13860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7f7f7f"/>
                </a:solidFill>
                <a:latin typeface="Century Gothic"/>
              </a:rPr>
              <a:t>Zalai alternatív hálózati gazdaságfejlesztési projektcsomag</a:t>
            </a:r>
            <a:r>
              <a:rPr b="0" lang="hu-HU" sz="23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7f7f7f"/>
                </a:solidFill>
                <a:latin typeface="Century Gothic"/>
              </a:rPr>
              <a:t>a zalai jelentőséggel bíró helyi termékek fejlesztésének, előállításának és értékesítésének előmozdítása, amely hozzájárul a megyén belüli falusi települések gazdasági fejlődéséhez, a turisztikai centrumok és környezetük közti gazdasági együttműködési kapcsolatok erősödéséhez, továbbá a zalai azonosságtudat erősítéséhez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7f7f7f"/>
                </a:solidFill>
                <a:latin typeface="Century Gothic"/>
              </a:rPr>
              <a:t>Zalai vállalkozásfejlesztési projektcsomag 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7f7f7f"/>
                </a:solidFill>
                <a:latin typeface="Century Gothic"/>
              </a:rPr>
              <a:t>a zalai KKV-k növekedésének elősegítése és ezzel új munkahelyek kialakítása; fejlesztéseinek megvalósításával Zala megye hozzá kíván járulni a megyei vállalkozások kibocsátásának növekedéséhez, az export és az innováció erősödéséhez; e tevékenységek a ZMVA közreműködésével valósulnak meg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-2811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7f7f7f"/>
                </a:solidFill>
                <a:latin typeface="Century Gothic"/>
              </a:rPr>
              <a:t>Zalai foglalkoztatási együttműködési projektcsomag </a:t>
            </a:r>
            <a:r>
              <a:rPr b="0" lang="hu-HU" sz="2200" spc="-1" strike="noStrike">
                <a:solidFill>
                  <a:srgbClr val="7f7f7f"/>
                </a:solidFill>
                <a:latin typeface="Century Gothic"/>
              </a:rPr>
              <a:t>egyedi, a vállalkozások fejlesztési igényeire gyorsan reagálni képes projektek megvalósítása, amik révén a munkanélküliek – átképzéssel, tréningekkel – alkalmassá válnak munkahelyek betöltésér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7f7f7f"/>
                </a:solidFill>
                <a:latin typeface="Century Gothic"/>
              </a:rPr>
              <a:t>Zalai közösségerősítő projektcsomag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7f7f7f"/>
                </a:solidFill>
                <a:latin typeface="Century Gothic"/>
              </a:rPr>
              <a:t>a zalai identitás erősítése, az elvándorlás csökkentése és a társadalmi befogadás területén mutatkozó kihívások megválaszolása megyei esélyteremtő fejlesztések (pl. megyei ösztöndíj, tehetség és gyakornok projekt), valamint családi, időseket támogató és közösségfejlesztési akciók, a megyei és helyi identitást erősítő marketing akciók, rendezvények, a kulturális és környezeti örökség megőrzését szolgáló komplex szemléletformáló programok megvalósításával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f5897"/>
                </a:solidFill>
                <a:latin typeface="Palatino Linotype"/>
              </a:rPr>
              <a:t>A  Határon Átnyúló Együttműködési Programok keretében Zala megye három ország tekintetében vesz részt a fejlesztéseket szolgáló döntéshozatali mechanizmusban, egyre növekvő szerepkörrel: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468360" y="32126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7f7f7f"/>
                </a:solidFill>
                <a:latin typeface="Century Gothic"/>
              </a:rPr>
              <a:t>Ausztria-Magyarország Határon Átnyúló Együttműködési Progra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7f7f7f"/>
                </a:solidFill>
                <a:latin typeface="Century Gothic"/>
              </a:rPr>
              <a:t>Horvátország-Magyarország Határon Átnyúló Együttműködési Progra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7f7f7f"/>
                </a:solidFill>
                <a:latin typeface="Century Gothic"/>
              </a:rPr>
              <a:t>Szlovénia-Magyarország Határon Átnyúló Együttműködési Progra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2f5897"/>
                </a:solidFill>
                <a:latin typeface="Palatino Linotype"/>
              </a:rPr>
              <a:t>A tervezés további menete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A megyei területfejlesztési koncepció elfogadását a </a:t>
            </a:r>
            <a:r>
              <a:rPr b="1" lang="hu-HU" sz="2500" spc="-1" strike="noStrike">
                <a:solidFill>
                  <a:srgbClr val="7f7f7f"/>
                </a:solidFill>
                <a:latin typeface="Century Gothic"/>
              </a:rPr>
              <a:t>területfejlesztési program</a:t>
            </a: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 elkészítése követi, ami stratégiai és operatív részből áll majd. Ezzel párhuzamosan folyik az </a:t>
            </a:r>
            <a:r>
              <a:rPr b="1" lang="hu-HU" sz="2500" spc="-1" strike="noStrike">
                <a:solidFill>
                  <a:srgbClr val="7f7f7f"/>
                </a:solidFill>
                <a:latin typeface="Century Gothic"/>
              </a:rPr>
              <a:t>EU-s részdokumentumok </a:t>
            </a: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(megyei gazdaságfejlesztési részprogram, kistérségi fejlesztési részprogramok, egyéb ágazati OP-khoz kapcsolódó részprogramok) tervezése. Ezen dokumentumok elkészítését követően </a:t>
            </a:r>
            <a:r>
              <a:rPr b="1" lang="hu-HU" sz="2500" spc="-1" strike="noStrike">
                <a:solidFill>
                  <a:srgbClr val="7f7f7f"/>
                </a:solidFill>
                <a:latin typeface="Century Gothic"/>
              </a:rPr>
              <a:t>a TOP-hoz illeszkedő megyei területfejlesztési részdokumentum továbbfejlesztése</a:t>
            </a: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 és az uniós forrásból támogatandó megyei </a:t>
            </a:r>
            <a:r>
              <a:rPr b="1" lang="hu-HU" sz="2500" spc="-1" strike="noStrike">
                <a:solidFill>
                  <a:srgbClr val="7f7f7f"/>
                </a:solidFill>
                <a:latin typeface="Century Gothic"/>
              </a:rPr>
              <a:t>projektötletek gyűjtése </a:t>
            </a: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következik. A projekt zárásának időpontja </a:t>
            </a:r>
            <a:r>
              <a:rPr b="1" lang="hu-HU" sz="2500" spc="-1" strike="noStrike" u="sng">
                <a:solidFill>
                  <a:srgbClr val="7f7f7f"/>
                </a:solidFill>
                <a:uFillTx/>
                <a:latin typeface="Century Gothic"/>
              </a:rPr>
              <a:t>2014. szeptember 3</a:t>
            </a:r>
            <a:r>
              <a:rPr b="1" lang="hu-HU" sz="2500" spc="-1" strike="noStrike">
                <a:solidFill>
                  <a:srgbClr val="7f7f7f"/>
                </a:solidFill>
                <a:latin typeface="Century Gothic"/>
              </a:rPr>
              <a:t>0</a:t>
            </a:r>
            <a:r>
              <a:rPr b="0" lang="hu-HU" sz="2500" spc="-1" strike="noStrike">
                <a:solidFill>
                  <a:srgbClr val="7f7f7f"/>
                </a:solidFill>
                <a:latin typeface="Century Gothic"/>
              </a:rPr>
              <a:t>-a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2f5897"/>
                </a:solidFill>
                <a:latin typeface="Palatino Linotype"/>
              </a:rPr>
              <a:t>Partnerség és területi koordináció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7f7f7f"/>
                </a:solidFill>
                <a:latin typeface="Century Gothic"/>
              </a:rPr>
              <a:t>A partnerség biztosítása a 218/2009. (X.6.) Korm. rendelet előírásai alapján történik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7f7f7f"/>
                </a:solidFill>
                <a:latin typeface="Century Gothic"/>
              </a:rPr>
              <a:t>A két megyei jogú várossal, Zalaegerszeggel és Nagykanizsával történő együttműködés eszköze a megyei területfejlesztési konzultációs fóru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hu-HU" sz="4400" spc="-1" strike="noStrike">
                <a:solidFill>
                  <a:srgbClr val="2f5897"/>
                </a:solidFill>
                <a:latin typeface="Palatino Linotype"/>
              </a:rPr>
              <a:t>A </a:t>
            </a:r>
            <a:r>
              <a:rPr b="0" lang="hu-HU" sz="4000" spc="-1" strike="noStrike">
                <a:solidFill>
                  <a:srgbClr val="2f5897"/>
                </a:solidFill>
                <a:latin typeface="Palatino Linotype"/>
              </a:rPr>
              <a:t>Zala Megyei Önkormányzat </a:t>
            </a:r>
            <a:br>
              <a:rPr sz="4000"/>
            </a:br>
            <a:r>
              <a:rPr b="0" lang="hu-HU" sz="4000" spc="-1" strike="noStrike">
                <a:solidFill>
                  <a:srgbClr val="2f5897"/>
                </a:solidFill>
                <a:latin typeface="Palatino Linotype"/>
              </a:rPr>
              <a:t>területfejlesztési tevékenysége</a:t>
            </a:r>
            <a:br>
              <a:rPr sz="4000"/>
            </a:br>
            <a:r>
              <a:rPr b="0" lang="hu-HU" sz="4000" spc="-1" strike="noStrike">
                <a:solidFill>
                  <a:srgbClr val="2f5897"/>
                </a:solidFill>
                <a:latin typeface="Palatino Linotype"/>
              </a:rPr>
              <a:t>az ÁROP-1.2.11/A-2013-2013-0004 azonosító számú pályázat keretében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2184" name="Picture 4" descr="Fájl:Coa Hungary County Zala (2010-).svg"/>
          <p:cNvPicPr/>
          <p:nvPr/>
        </p:nvPicPr>
        <p:blipFill>
          <a:blip r:embed="rId1"/>
          <a:stretch/>
        </p:blipFill>
        <p:spPr>
          <a:xfrm>
            <a:off x="3995640" y="4653000"/>
            <a:ext cx="12240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A célcsoportokkal való </a:t>
            </a: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konzultáció</a:t>
            </a: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s lehetőség megteremtése kiemelt hangsúlyt kapott a tervezés folyamatában, </a:t>
            </a: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tíz fórum </a:t>
            </a: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lebonyolítására kerül sor, amelyre a kormányzati, az önkormányzati, az üzleti és civil szektor képviselői is meghívást kaptak, hogy fejlesztési elképzeléseik megfelelő figyelmet kapjanak a megyei tervezés során. Mindezeken túl </a:t>
            </a: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kérdőíves felmérések</a:t>
            </a: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et is végeztünk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További fórumok </a:t>
            </a: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megtartását is tervezzük, amelyben a területfejlesztési tervezési tevékenység támogatására elnyert pályázata révén segítségünkre lesz a </a:t>
            </a: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Széchenyi Programiroda </a:t>
            </a:r>
            <a:r>
              <a:rPr b="0" lang="hu-HU" sz="2400" spc="-1" strike="noStrike">
                <a:solidFill>
                  <a:srgbClr val="7f7f7f"/>
                </a:solidFill>
                <a:latin typeface="Century Gothic"/>
              </a:rPr>
              <a:t>i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049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Szövegdoboz 3"/>
          <p:cNvSpPr/>
          <p:nvPr/>
        </p:nvSpPr>
        <p:spPr>
          <a:xfrm>
            <a:off x="3059280" y="630864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Verdana"/>
                <a:ea typeface="Verdana"/>
              </a:rPr>
              <a:t>Széchenyi Programirodák létrehozása, működtetése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Verdana"/>
                <a:ea typeface="Verdana"/>
              </a:rPr>
              <a:t>VOP-2.1.4-11-2011-000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2" name="Picture 2" descr=""/>
          <p:cNvPicPr/>
          <p:nvPr/>
        </p:nvPicPr>
        <p:blipFill>
          <a:blip r:embed="rId1"/>
          <a:stretch/>
        </p:blipFill>
        <p:spPr>
          <a:xfrm>
            <a:off x="420840" y="2852640"/>
            <a:ext cx="82296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A megyei önkormányzatok 2012. január 1-től terület- és vidékfejlesztési, területrendezési és koordinációs feladatokat látnak el. A megváltozott feladatkör elsősorban a 2012-2014 években a következő uniós ciklusra való felkészülést, tervezést foglalja magába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A feladat ellátásának anyagi fedezetéül az elnyert ÁROP pályázat szolgál, 90 millió Ft-os keretösszeggel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f7f7f"/>
                </a:solidFill>
                <a:latin typeface="Century Gothic"/>
              </a:rPr>
              <a:t>A tervezés során a megye elkészíti területfejlesztési koncepcióját és programját, valamint a következő ciklus operatív programjaihoz kapcsolódó részdokumentumokat, továbbá egy, a megvalósítani kívánt fejlesztéseket tartalmazó projektlistá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-5317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2f5897"/>
                </a:solidFill>
                <a:latin typeface="Palatino Linotype"/>
              </a:rPr>
              <a:t>A megyei területfejlesztési koncepció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Helyzetelemzés – helyzetértékelés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hu-HU" sz="1900" spc="-1" strike="noStrike">
                <a:solidFill>
                  <a:srgbClr val="7f7f7f"/>
                </a:solidFill>
                <a:latin typeface="Century Gothic"/>
              </a:rPr>
              <a:t>97/2012. (XI.28.) KH határozat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Javaslattevő fázis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hu-HU" sz="1900" spc="-1" strike="noStrike">
                <a:solidFill>
                  <a:srgbClr val="7f7f7f"/>
                </a:solidFill>
                <a:latin typeface="Century Gothic"/>
              </a:rPr>
              <a:t>31/2013. (VI.13.) KH határozat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Területi hatásvizsgálat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>
              <a:lnSpc>
                <a:spcPct val="60000"/>
              </a:lnSpc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7f7f7f"/>
                </a:solidFill>
                <a:latin typeface="Century Gothic"/>
              </a:rPr>
              <a:t>A dokumentumba beépítésre kerül a </a:t>
            </a: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megyei szakképzés-fejlesztési koncepció</a:t>
            </a:r>
            <a:r>
              <a:rPr b="0" lang="hu-HU" sz="1900" spc="-1" strike="noStrike">
                <a:solidFill>
                  <a:srgbClr val="7f7f7f"/>
                </a:solidFill>
                <a:latin typeface="Century Gothic"/>
              </a:rPr>
              <a:t> is.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 algn="just">
              <a:lnSpc>
                <a:spcPct val="60000"/>
              </a:lnSpc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A koncepció társadalmi és államigazgatási egyeztetése lezajlott. Elfogadásához az illetékes szakminiszter is hozzájárult, amelyre az Országos Fejlesztési és Területfejlesztési Koncepció elfogadását követően, várhatóan a 2013. december 19-i közgyűlésen kerül sor. 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511920" indent="-511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A dokumentumok megtekinthetők a  </a:t>
            </a:r>
            <a:r>
              <a:rPr b="0" lang="hu-HU" sz="19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www.zala.hu</a:t>
            </a:r>
            <a:r>
              <a:rPr b="1" lang="hu-HU" sz="1900" spc="-1" strike="noStrike">
                <a:solidFill>
                  <a:srgbClr val="7f7f7f"/>
                </a:solidFill>
                <a:latin typeface="Century Gothic"/>
              </a:rPr>
              <a:t> weboldalon.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0" y="17424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Csökkenő lélekszámú kistelepülések, vonzó turisztikai célpont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0" name="Kép 5" descr=""/>
          <p:cNvPicPr/>
          <p:nvPr/>
        </p:nvPicPr>
        <p:blipFill>
          <a:blip r:embed="rId1"/>
          <a:stretch/>
        </p:blipFill>
        <p:spPr>
          <a:xfrm>
            <a:off x="520560" y="1208160"/>
            <a:ext cx="799308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1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0" y="17424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Javuló iskolázottság és foglalkoztatottság a nagyvárosokb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3" name="Kép 1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120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Javuló iskolázottság és foglalkoztatottság a nagyvárosokb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2001 és 2011 között jelentősen javult a diplomások aránya a nagyvárosokban, és a bevándorlási célpontok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2012-ben Zala megyében a </a:t>
            </a: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foglalkoztatottak száma 116.400 fő</a:t>
            </a: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 vol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A 2001-es népszámláshoz képest leginkább a Zalakarosi kistérségben nőtt a foglalkoztatottság, míg a Zalaegerszegi és Nagykanizsai kistérségben volt a legnagyobb visszaesé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Ezzel együtt is a </a:t>
            </a: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Zalaegerszegi kistérség </a:t>
            </a: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rendelkezett megyén belül a legjobb foglalkoztatottsági mutatókkal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Európai Uniós források eloszlása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7" name="Picture 2" descr=""/>
          <p:cNvPicPr/>
          <p:nvPr/>
        </p:nvPicPr>
        <p:blipFill>
          <a:blip r:embed="rId1"/>
          <a:stretch/>
        </p:blipFill>
        <p:spPr>
          <a:xfrm>
            <a:off x="755640" y="1279440"/>
            <a:ext cx="787392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6:19:00Z</dcterms:created>
  <dc:creator>Lunk Tamás</dc:creator>
  <dc:description/>
  <dc:language>en-US</dc:language>
  <cp:lastModifiedBy>Harmath Judit</cp:lastModifiedBy>
  <dcterms:modified xsi:type="dcterms:W3CDTF">2013-12-02T06:48:30Z</dcterms:modified>
  <cp:revision>85</cp:revision>
  <dc:subject/>
  <dc:title>1. dia</dc:title>
</cp:coreProperties>
</file>