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E70-8EBF-46A4-BC42-6E6DEE67B37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69A-33D3-42D0-B110-49CAC5DA66F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772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89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négy tengely  forrás lehatárolása jól tükrözi a programban megfogalmazott prioritásokat szakmapolitikai kiemeléseket melyek az I-II  tengely intézkedéseinek minél gyorsabb  és rugalmasabb végrehajtását is indukál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 számának helye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571-B6C0-4B13-9314-2F7DAFAA9A2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772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 az a dátum ahonnan úgy a támogatási jogcímeket mint a  kötelezettség vállalást a kifizetés szempontjából érdemben ütemezni leh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324-E6BF-4F30-BC07-3D4F680E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51E-D400-478D-A7F9-D3B1A2D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6E0-2EB6-4587-9A99-60E27EF4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A5C-F078-4E72-8DB8-602BEDB6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089-0B6A-4067-BEA8-C23A2F5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16B-C683-4B84-A45B-61149BCC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213-871E-42A6-BCA3-B0CB22C6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E54-B22E-47BE-96B6-4275EC6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A9D-51F4-4FDA-9163-E4CED253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344-801E-4570-B1C3-F4103A9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C58-173B-4ECC-8360-BB637CA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B1D-F4EA-4B4E-B2D2-D2D0755F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2opaque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D75-FEE7-4BFD-B665-E92F3424830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background2opaqueplu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0" y="765000"/>
            <a:ext cx="635652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Mezőgazdasági és Vidékfejlesztési Hivatal tevékenységének bemut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VH_logo_szines_tif"/>
          <p:cNvPicPr/>
          <p:nvPr/>
        </p:nvPicPr>
        <p:blipFill>
          <a:blip r:embed="rId2"/>
          <a:stretch/>
        </p:blipFill>
        <p:spPr>
          <a:xfrm>
            <a:off x="6810480" y="5424480"/>
            <a:ext cx="2333520" cy="1433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908000" y="3645000"/>
            <a:ext cx="590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Horváth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Kirendeltség-vez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MVH Zala Megyei Kirende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364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Zalaegerszeg, 2012. február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mogatások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Területalapú és közvetlen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gységes területalapú támogatás (Zalában 4 ezer ügyfél, ca. 10 mrd 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egészítő támo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lkülönített cukortámogatás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lkülönített zöldség-gyümölcs támo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dolgozóipari célú málna- és földieper-termeszté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eményítő felhasználá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árított takarmány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ÚMVP intézkedés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z ÚMVP  4  tengely keretébe foglalta a támogatandó intézkedések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200" spc="-1" strike="noStrike" u="sng">
                <a:solidFill>
                  <a:srgbClr val="000000"/>
                </a:solidFill>
                <a:uFillTx/>
                <a:latin typeface="Calibri"/>
              </a:rPr>
              <a:t>I. tengely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: a mezőgazdaság, erdészet, élelmiszertermelés versenyképességének javítását, technikai fejlesztésé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10 intézkedéscsoport 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szolgálja, melyek a teljes támogatási kere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47 %-át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teszik ki </a:t>
            </a: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(ÁTK, Gép, ÉLIP, Szárító, Kertészet,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200" spc="-1" strike="noStrike" u="sng">
                <a:solidFill>
                  <a:srgbClr val="000000"/>
                </a:solidFill>
                <a:uFillTx/>
                <a:latin typeface="Calibri"/>
              </a:rPr>
              <a:t>II. tengely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: A környezet és a vidék fejlesztésére, a mezőgazdasági területek fenntartható használatára irányuló jövedelempótló támogatásokra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10 intézkedés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, melyek a támogatási kere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32 %-át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teszik ki </a:t>
            </a: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(AKG, NATURA, KAT, Ültetvény,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200" spc="-1" strike="noStrike" u="sng">
                <a:solidFill>
                  <a:srgbClr val="000000"/>
                </a:solidFill>
                <a:uFillTx/>
                <a:latin typeface="Calibri"/>
              </a:rPr>
              <a:t>III. tengely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: A vidéki élet minősége, a vidéki gazdaság javítása, a  munkahelyteremtés elősegítése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8 intézkedési körben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a teljes támogatási kere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14%-át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teszi 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200" spc="-1" strike="noStrike" u="sng">
                <a:solidFill>
                  <a:srgbClr val="000000"/>
                </a:solidFill>
                <a:uFillTx/>
                <a:latin typeface="Calibri"/>
              </a:rPr>
              <a:t>IV. tengely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: a LEADER helyi fejlesztési stratégiák megvalósításának támogatása az elfogadott indikatív kere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5 %-át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teszi 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Technikai segítségnyújtás keretében a program végrehajtásának költségei, melyek a keret </a:t>
            </a:r>
            <a:r>
              <a:rPr b="0" lang="hu-HU" sz="2200" spc="-1" strike="noStrike">
                <a:solidFill>
                  <a:srgbClr val="cc0000"/>
                </a:solidFill>
                <a:latin typeface="Calibri"/>
              </a:rPr>
              <a:t>2%-át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teszik 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Támogatások I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zövegdoboz 2"/>
          <p:cNvSpPr/>
          <p:nvPr/>
        </p:nvSpPr>
        <p:spPr>
          <a:xfrm>
            <a:off x="285840" y="1197000"/>
            <a:ext cx="84294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MVA I. teng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Állattartó telepek korszerű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Gépek, technológiai berendezések besze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ertészeti gépek, technológiai berendezések beszerz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övénytermesztés létesítményeinek korszerű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ertészet korszerű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zőgazdasági termékek értéknövelése (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pl. Zalai Baromfifeldolgozó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ntözés, melio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zőgazdasági út létrehozása, fejl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iatal gazdá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080040" y="4572000"/>
            <a:ext cx="3063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mogatások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églalap 2"/>
          <p:cNvSpPr/>
          <p:nvPr/>
        </p:nvSpPr>
        <p:spPr>
          <a:xfrm>
            <a:off x="539640" y="1413000"/>
            <a:ext cx="631836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MVA II. teng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edvezőtlen adottságú területe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atura 2000 gyepterületeken kompenzációs támo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zőgazdasági földterületek erdősítése (EM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ás-, és lágyszárú energiaültetvények telep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Ültetvények korszerűsítése, telep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rdő-környezetvédelem (EK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em termelő beruházások erdőterületen (EN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grár-környezetgazdálkodás(A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000920" y="3567240"/>
            <a:ext cx="21430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581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Támoga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57360"/>
            <a:ext cx="840096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MVA III. teng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stérségi közlekedési szolgáltatások fejlesztése (tanyabus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ntegrált közösségi és szolgáltató tér kialakítása (IKSZ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alumegújítás és – fejleszté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Vidéki örökség megőrzéséne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ikrovállalkozások létrehozásának és fejlesztéséne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urisztikai tevékenységek ösztönzésé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ámoga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188040" y="4643280"/>
            <a:ext cx="295596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7152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Támoga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36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MVA IV. tengely –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ADER egy francia mozaikszó: Liasion Entre Actions pour l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Development de l'Economie Rurale, melynek jelentése: Közösségi kezdeményezés a vidék gazdasági fejlesztése érdeké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U-ban 1991-től, Magyarországon 2004-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96 db Helyi Leader Akciócsoport  (lefedik az ország területé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elyi Vidékfejlesztési Straté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elyi feltételek – helyi dö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PME katalógus – helyi jogcí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Kép 1" descr="image001"/>
          <p:cNvPicPr/>
          <p:nvPr/>
        </p:nvPicPr>
        <p:blipFill>
          <a:blip r:embed="rId1"/>
          <a:stretch/>
        </p:blipFill>
        <p:spPr>
          <a:xfrm>
            <a:off x="395280" y="5661000"/>
            <a:ext cx="2305080" cy="108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565600" y="4297320"/>
            <a:ext cx="3357720" cy="246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MVA kimutatás 2007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362800" cy="4637160"/>
        </p:xfrm>
        <a:graphic>
          <a:graphicData uri="http://schemas.openxmlformats.org/drawingml/2006/table">
            <a:tbl>
              <a:tblPr/>
              <a:tblGrid>
                <a:gridCol w="1859040"/>
                <a:gridCol w="928440"/>
                <a:gridCol w="928800"/>
                <a:gridCol w="930240"/>
                <a:gridCol w="928800"/>
                <a:gridCol w="928800"/>
                <a:gridCol w="930240"/>
                <a:gridCol w="928440"/>
              </a:tblGrid>
              <a:tr h="6048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la meg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érkezett támogatási kérelm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ámogatott támogatási kérelm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érkezett kifizetési kérelem 2012-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ifize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ifizetés 2011 végéi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áma (d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ényelt támogatási összeg                   (F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áma (d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ítélt támogatási összeg                   (F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áma (d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sszesen                            (F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sszesen  (F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. tengely Versenyképesség javító intézkedé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665 196 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89 643 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32 332 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. tengely Környezetvédelmi intézkedé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98 039 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21 260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 404 5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5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. tengely. Vidékfejlesztési intézkedé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610 620 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44 515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93 278 8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. tengely L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7 740 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42 351 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 401 0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Összese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661 596 8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497 771 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296 416 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00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15920"/>
            <a:ext cx="8858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Ügyintézés foly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59280" y="1714680"/>
            <a:ext cx="42847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folyamat1"/>
          <p:cNvPicPr/>
          <p:nvPr/>
        </p:nvPicPr>
        <p:blipFill>
          <a:blip r:embed="rId1"/>
          <a:srcRect l="0" t="0" r="0" b="42767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Ügyintézés foly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olyamat1"/>
          <p:cNvPicPr/>
          <p:nvPr/>
        </p:nvPicPr>
        <p:blipFill>
          <a:blip r:embed="rId1"/>
          <a:srcRect l="0" t="47231" r="0" b="0"/>
          <a:stretch/>
        </p:blipFill>
        <p:spPr>
          <a:xfrm>
            <a:off x="781200" y="1601640"/>
            <a:ext cx="7581600" cy="452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Garamond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MVH bemutat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űködését 2003. július 1-jén a SAPARD Hivatal és az Agrárintervenciós Központ általános jogutódjaként kezdte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vidékfejlesztési miniszter felügyelete alatt álló, önálló jogi személyiséggel rendelkező, országos hatáskörű központi hivatal, önállóan gazdálkodó központ költségvetési sz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udapesti központból és 19 megyei kirendeltségből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lkalmazottak száma cca. 1650 f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ljárását a 2007. évi XVII. törvény szabályo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378480" y="4857840"/>
            <a:ext cx="2765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Eljá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ljárásjogi kereteket az ún. MVH törvény (2007. évi XVII. tv.) rögzíti, melynek háttérjogszabálya a 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ámogatások VM rendeletben jelennek meg, vagy az alapján pályázati felhívás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yomtatványok, útmutatók -  MVH Közlemény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enyújtás: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postai ú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elektronikusan (jogcímtől füg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irendelt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yei kirendeltségek (12 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gionális illetékességű megyei kirendeltségek (7 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normatív jellegű támogatások kezelésén felül , EMVA beruházási és vidékfejlesztési típusú jogcímeket is keze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gyobb alkalmazotti létszám – Zala megyei Kirendeltség: 75 f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Kép 1" descr="Kirendeltésgek térképe"/>
          <p:cNvPicPr/>
          <p:nvPr/>
        </p:nvPicPr>
        <p:blipFill>
          <a:blip r:embed="rId1"/>
          <a:stretch/>
        </p:blipFill>
        <p:spPr>
          <a:xfrm>
            <a:off x="2195640" y="3071880"/>
            <a:ext cx="6092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zervezeti_ábra"/>
          <p:cNvPicPr/>
          <p:nvPr/>
        </p:nvPicPr>
        <p:blipFill>
          <a:blip r:embed="rId1"/>
          <a:stretch/>
        </p:blipFill>
        <p:spPr>
          <a:xfrm>
            <a:off x="-6127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Pénzügyi alap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ezelt pénzügyi alap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emzeti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APARD – Előcsatlakozási a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MOGA - Európai Mezőgazdasági Orientációs és Garancia A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VOP - Agrár- és Vidékfejlesztési Operatív Program (2004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2007-től kezdődő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MVA - Európai Mezőgazdasági Vidékfejlesztési Alap (UMV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MGA - Európai Mezőgazdasági Garancia A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HA - Európai Halászati A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2765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3"/>
          <p:cNvSpPr/>
          <p:nvPr/>
        </p:nvSpPr>
        <p:spPr>
          <a:xfrm>
            <a:off x="755640" y="1557360"/>
            <a:ext cx="2160720" cy="431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alibri"/>
              </a:rPr>
              <a:t>EM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250920" y="2637000"/>
            <a:ext cx="3168720" cy="431640"/>
          </a:xfrm>
          <a:prstGeom prst="flowChartAlternateProcess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50920" y="3357720"/>
            <a:ext cx="3168720" cy="431640"/>
          </a:xfrm>
          <a:prstGeom prst="flowChartAlternateProcess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ü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250920" y="4076640"/>
            <a:ext cx="3168720" cy="432000"/>
          </a:xfrm>
          <a:prstGeom prst="flowChartAlternateProcess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nterven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79280" y="4797360"/>
            <a:ext cx="3384720" cy="647640"/>
          </a:xfrm>
          <a:prstGeom prst="flowChartAlternateProcess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özvetlen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5867280" y="2637000"/>
            <a:ext cx="2735280" cy="1863720"/>
          </a:xfrm>
          <a:prstGeom prst="flowChartAlternateProcess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Közö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hozzájárulá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idékfejleszté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programok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(ÚMV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alibri"/>
              </a:rPr>
              <a:t>A KAP finanszírozása a 2007. pénzügyi évtő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6156360" y="1557360"/>
            <a:ext cx="2160720" cy="431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alibri"/>
              </a:rPr>
              <a:t>EM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1"/>
          <p:cNvCxnSpPr>
            <a:stCxn id="67" idx="2"/>
            <a:endCxn id="68" idx="0"/>
          </p:cNvCxnSpPr>
          <p:nvPr/>
        </p:nvCxnSpPr>
        <p:spPr>
          <a:xfrm flipH="1">
            <a:off x="1834560" y="198900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12"/>
          <p:cNvCxnSpPr>
            <a:stCxn id="74" idx="2"/>
            <a:endCxn id="72" idx="0"/>
          </p:cNvCxnSpPr>
          <p:nvPr/>
        </p:nvCxnSpPr>
        <p:spPr>
          <a:xfrm flipH="1">
            <a:off x="7235640" y="1989000"/>
            <a:ext cx="216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Line 13"/>
          <p:cNvSpPr/>
          <p:nvPr/>
        </p:nvSpPr>
        <p:spPr>
          <a:xfrm>
            <a:off x="4572000" y="1413000"/>
            <a:ext cx="0" cy="525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71640" y="6021360"/>
            <a:ext cx="35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KAP pillérjeinek szét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MVH_logo_szines_tif"/>
          <p:cNvPicPr/>
          <p:nvPr/>
        </p:nvPicPr>
        <p:blipFill>
          <a:blip r:embed="rId1"/>
          <a:stretch/>
        </p:blipFill>
        <p:spPr>
          <a:xfrm>
            <a:off x="6810480" y="5424480"/>
            <a:ext cx="2333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mogatások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őlő-bor termékpálya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(telepítés, kivágás, borlepár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j-termékpálya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(iskolate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Zöldség-gyümölcs termékpálya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(TÉSZ-ek, iskolagyümö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rmészetes édesítőszerek termékpál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éz termékpály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öbb termékpályát érintő intézkedés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(promoció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ü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xportengedélyezés (export-bizonyítvá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xport-visszatérítés 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(magasabb belső ár eset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mogatáso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ntervenciós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Gabona intervenció, tárolás, érték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j-tejtermék magántárolás, interven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ús magántár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Cukor interven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U Élelmiszersegél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0" t="0" r="0" b="11019"/>
          <a:stretch/>
        </p:blipFill>
        <p:spPr>
          <a:xfrm>
            <a:off x="5265720" y="4714920"/>
            <a:ext cx="3878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08:29:59Z</dcterms:created>
  <dc:creator>Bori Tamás</dc:creator>
  <dc:description/>
  <dc:language>en-US</dc:language>
  <cp:lastModifiedBy>Margit Simonné Nagy</cp:lastModifiedBy>
  <cp:lastPrinted>2012-01-31T10:42:58Z</cp:lastPrinted>
  <dcterms:modified xsi:type="dcterms:W3CDTF">2012-01-31T10:45:08Z</dcterms:modified>
  <cp:revision>509</cp:revision>
  <dc:subject/>
  <dc:title>SPS modell végrehajtási kérdései</dc:title>
</cp:coreProperties>
</file>