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2.wmf" ContentType="image/x-wmf"/>
  <Override PartName="/ppt/media/image20.jpeg" ContentType="image/jpeg"/>
  <Override PartName="/ppt/media/image2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9.jpeg" ContentType="image/jpeg"/>
  <Override PartName="/ppt/media/image11.wmf" ContentType="image/x-wmf"/>
  <Override PartName="/ppt/media/image10.jpeg" ContentType="image/jpeg"/>
  <Override PartName="/ppt/media/image13.wmf" ContentType="image/x-wmf"/>
  <Override PartName="/ppt/media/image8.jpeg" ContentType="image/jpeg"/>
  <Override PartName="/ppt/media/image38.png" ContentType="image/png"/>
  <Override PartName="/ppt/media/image9.jpeg" ContentType="image/jpeg"/>
  <Override PartName="/ppt/media/image30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7.png" ContentType="image/pn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2057-0CAE-4C43-858F-F6F483CBA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2316-8AFB-44DE-9DA4-5F0E740D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EEA3-1150-454A-AFB1-ECF9C94F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6CE1-76BF-4BCF-BC99-C16D06CB9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0971-1C32-4E67-98D3-AD465DA2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A832-6E40-4897-AEF5-789E012E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11DB-AFA1-424C-B898-F4B74A76D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EE96-E8E6-41A4-B8E7-0B5C4C00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53D32-CFA4-4BD7-B443-5A45ECB02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AED8-862D-4CAF-AAEC-678CA15F1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C84F5-2441-4622-B766-49F9DB82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8AE-AC13-47E9-808F-DE099FB7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427B8-B26D-429B-9882-C2844F03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BD45-2F78-4704-877B-2CD57337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8698-7382-4269-A59C-1EA8FC7C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85599-5242-4733-8406-D51F2BA7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342C-5578-473C-8A43-58D63F06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A2FB-BB62-4E77-8156-7A55A5589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D1E5-F59D-40A8-BDE2-51F7B15D8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440B-2FA5-41F5-9913-B4FCC72B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B7D-450C-4E5C-8BB5-961A08A9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619-9749-46D9-BC03-5B693DBC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9E6B-4C52-4F45-A821-6A9DC627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082D-193A-4B38-B1E2-6C18FF8B0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C3790-D7D8-4E19-94C3-F97ED8477D54}" type="datetime">
              <a:rPr b="0" lang="hu-HU" sz="1200" spc="-1" strike="noStrike">
                <a:solidFill>
                  <a:srgbClr val="000000"/>
                </a:solidFill>
                <a:latin typeface="Tahoma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F6CD-47B4-4156-8192-32A119746DCE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d3d3d3"/>
                </a:gs>
                <a:gs pos="100000">
                  <a:srgbClr val="cbcb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d3d3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A889-1C32-42E2-882B-E8BA4F8F5FB7}" type="datetime">
              <a:rPr b="0" lang="hu-HU" sz="1200" spc="-1" strike="noStrike">
                <a:solidFill>
                  <a:srgbClr val="000000"/>
                </a:solidFill>
                <a:latin typeface="Tahoma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a29e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1CF2-38DD-48DC-AA2D-2246429D5182}" type="slidenum">
              <a:rPr b="0" lang="hu-H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79cd6b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5498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0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000" y="2708280"/>
            <a:ext cx="806436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Zala Megyei Rendőr-főkapitányság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 2008. évi tevékenysége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948360" y="692280"/>
            <a:ext cx="1408320" cy="187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BE3AB-D6E7-438B-8F88-C04BD48AF195}" type="slidenum">
              <a:t>1</a:t>
            </a:fld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bűncselekmény/lakosság arány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rendőrkapitányságonként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532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842A-DD99-492A-9D76-72F55D093F61}" type="slidenum">
              <a:t>10</a:t>
            </a:fld>
          </a:p>
        </p:txBody>
      </p:sp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vagyon elleni (nem erőszakos) bűncselekmény/lakosság arány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187280" y="1663560"/>
            <a:ext cx="6697800" cy="5194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519E-66C0-464A-8B67-E864D47276A4}" type="slidenum">
              <a:t>11</a:t>
            </a:fld>
          </a:p>
        </p:txBody>
      </p:sp>
    </p:spTree>
  </p:cSld>
  <p:transition spd="slow">
    <p:split dir="out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erőszakos és garázda  jellegű bűncselekmény/lakosság arány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187280" y="1523880"/>
            <a:ext cx="6842160" cy="5334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7301-24CB-4334-AA31-6D055C243E5A}" type="slidenum">
              <a:t>12</a:t>
            </a:fld>
          </a:p>
        </p:txBody>
      </p:sp>
    </p:spTree>
  </p:cSld>
  <p:transition spd="slow">
    <p:split dir="out" orient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cselekménye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39680" y="5954760"/>
            <a:ext cx="2352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A 18. az országos rangsorb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(országosan 408.407 bc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7" name=""/>
          <p:cNvGraphicFramePr/>
          <p:nvPr/>
        </p:nvGraphicFramePr>
        <p:xfrm>
          <a:off x="395280" y="1557360"/>
          <a:ext cx="8291520" cy="4857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557360"/>
                    <a:ext cx="829152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2F88-F67C-4DF1-82B8-AC6ED332A734}" type="slidenum">
              <a:t>13</a:t>
            </a:fld>
          </a:p>
        </p:txBody>
      </p:sp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cselekmények alakulása</a:t>
            </a:r>
            <a:r>
              <a:rPr b="1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(százezer lakosra)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439680" y="5881680"/>
            <a:ext cx="2352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A 19. az országos rangsorb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(országosan 4065 bc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"/>
          <p:cNvGraphicFramePr/>
          <p:nvPr/>
        </p:nvGraphicFramePr>
        <p:xfrm>
          <a:off x="468360" y="1579680"/>
          <a:ext cx="8002440" cy="46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579680"/>
                    <a:ext cx="8002440" cy="46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AB18-2D2B-401E-BA78-41D4533F5530}" type="slidenum">
              <a:t>14</a:t>
            </a:fld>
          </a:p>
        </p:txBody>
      </p:sp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cselekmények alakulása</a:t>
            </a:r>
            <a:r>
              <a:rPr b="0" lang="en-US" sz="3600" spc="-1" strike="noStrike">
                <a:solidFill>
                  <a:srgbClr val="00a29e"/>
                </a:solidFill>
                <a:latin typeface="Times New Roman"/>
              </a:rPr>
              <a:t> </a:t>
            </a:r>
            <a:br>
              <a:rPr sz="3600"/>
            </a:br>
            <a:r>
              <a:rPr b="0" lang="en-US" sz="2000" spc="-1" strike="noStrike">
                <a:solidFill>
                  <a:srgbClr val="00a29e"/>
                </a:solidFill>
                <a:latin typeface="Times New Roman"/>
              </a:rPr>
              <a:t>(rendőrkapitányságonként)</a:t>
            </a: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46120" y="1922400"/>
          <a:ext cx="8039160" cy="3965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922400"/>
                    <a:ext cx="803916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1979640" y="5229360"/>
            <a:ext cx="57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29e"/>
                </a:solidFill>
                <a:latin typeface="Times New Roman"/>
              </a:rPr>
              <a:t>-12,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35280" y="522936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29e"/>
                </a:solidFill>
                <a:latin typeface="Times New Roman"/>
              </a:rPr>
              <a:t>-31,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08720" y="5229360"/>
            <a:ext cx="93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29e"/>
                </a:solidFill>
                <a:latin typeface="Times New Roman"/>
              </a:rPr>
              <a:t>-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5157720"/>
            <a:ext cx="122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29e"/>
                </a:solidFill>
                <a:latin typeface="Times New Roman"/>
              </a:rPr>
              <a:t>-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1D34-0C5A-44F3-94C6-F061E64FB816}" type="slidenum">
              <a:t>15</a:t>
            </a:fld>
          </a:p>
        </p:txBody>
      </p:sp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cselekmények megoszlása</a:t>
            </a:r>
            <a:r>
              <a:rPr b="1" lang="en-US" sz="4000" spc="-1" strike="noStrike">
                <a:solidFill>
                  <a:srgbClr val="00a29e"/>
                </a:solidFill>
                <a:latin typeface="Arial"/>
              </a:rPr>
              <a:t>  </a:t>
            </a:r>
            <a:br>
              <a:rPr sz="40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2008</a:t>
            </a:r>
            <a:r>
              <a:rPr b="1" lang="en-US" sz="2400" spc="-1" strike="noStrike">
                <a:solidFill>
                  <a:srgbClr val="00a29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480" y="1600200"/>
          <a:ext cx="8839080" cy="44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80" y="1600200"/>
                    <a:ext cx="883908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CB1-13AB-4F7D-9A96-5EC43E7FFE04}" type="slidenum">
              <a:t>16</a:t>
            </a:fld>
          </a:p>
        </p:txBody>
      </p:sp>
    </p:spTree>
  </p:cSld>
  <p:transition spd="slow">
    <p:split dir="out" orient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vagyon elleni bűncselekmények megoszlása</a:t>
            </a:r>
            <a:r>
              <a:rPr b="1" lang="en-US" sz="4000" spc="-1" strike="noStrike">
                <a:solidFill>
                  <a:srgbClr val="00a29e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2000" spc="-1" strike="noStrike">
                <a:solidFill>
                  <a:srgbClr val="00a29e"/>
                </a:solidFill>
                <a:latin typeface="Arial"/>
              </a:rPr>
              <a:t>2008.</a:t>
            </a: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546120" y="1268280"/>
          <a:ext cx="7569360" cy="53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6120" y="1268280"/>
                    <a:ext cx="7569360" cy="53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CB7F-AEEB-4F60-AD6B-A4391E9938CF}" type="slidenum">
              <a:t>17</a:t>
            </a:fld>
          </a:p>
        </p:txBody>
      </p:sp>
    </p:spTree>
  </p:cSld>
  <p:transition spd="slow">
    <p:split dir="out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kiemelt bűncselekmények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153120" y="5877000"/>
            <a:ext cx="22626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A 8. az országos rangsorb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(országosan 208.377 bcs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5950080"/>
            <a:ext cx="536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a29e"/>
                </a:solidFill>
                <a:latin typeface="Times New Roman"/>
              </a:rPr>
              <a:t>37,6 %-os felderítési mutató (az országos átlag 29,2 % volt 2008-b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469800" y="1841400"/>
          <a:ext cx="7861320" cy="42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1841400"/>
                    <a:ext cx="786132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5C57-438A-4AD5-8783-6AFEBB2A6442}" type="slidenum">
              <a:t>18</a:t>
            </a:fld>
          </a:p>
        </p:txBody>
      </p:sp>
    </p:spTree>
  </p:cSld>
  <p:transition spd="slow">
    <p:split dir="out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családon belüli erőszak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lakulása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8360" y="5950080"/>
            <a:ext cx="251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a29e"/>
                </a:solidFill>
                <a:latin typeface="Times New Roman"/>
              </a:rPr>
              <a:t>A 2008. évben 315 esetet regisztráltun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71600" y="1778040"/>
          <a:ext cx="786924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778040"/>
                    <a:ext cx="786924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027E-B39A-4A57-B284-0813C8494932}" type="slidenum">
              <a:t>19</a:t>
            </a:fld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ntegráció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a29e"/>
                </a:solidFill>
                <a:latin typeface="Times New Roman"/>
              </a:rPr>
              <a:t>Az integráció célj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feladatarányos létszámú, költséghatékony, EU- kompatibilis szervezet kialakítás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az irányító szervezet csökkenté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a vezetői létszám csökkenté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a párhuzamosságok kiiktatása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új típusú, szolgáltató Rendőrség megteremté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a schengeni feladatok maradéktalan teljesítése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Letenyei Határrendészeti Kirendeltség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sármelléki nemzetközi repülőtér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477de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a29e"/>
                </a:solidFill>
                <a:latin typeface="Times New Roman"/>
              </a:rPr>
              <a:t>nemzetközi kapcsolatok, autópály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BF93-4809-459F-B2B3-92F996F9417E}" type="slidenum">
              <a:t>2</a:t>
            </a:fld>
          </a:p>
        </p:txBody>
      </p:sp>
    </p:spTree>
  </p:cSld>
  <p:transition spd="slow">
    <p:split dir="out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a29e"/>
                </a:solidFill>
                <a:latin typeface="Times New Roman"/>
              </a:rPr>
              <a:t>A bűncselekményekkel okozott kár, </a:t>
            </a:r>
            <a:br>
              <a:rPr sz="3500"/>
            </a:br>
            <a:r>
              <a:rPr b="1" lang="en-US" sz="3500" spc="-1" strike="noStrike">
                <a:solidFill>
                  <a:srgbClr val="00a29e"/>
                </a:solidFill>
                <a:latin typeface="Times New Roman"/>
              </a:rPr>
              <a:t>illetve vagyoni hátrány</a:t>
            </a: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324000" y="1484280"/>
          <a:ext cx="8424720" cy="4327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424720" cy="43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24000" y="5805360"/>
            <a:ext cx="84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kárbiztosítás aránya 4,5 %-ról 21 %-r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a vagyoni hátrány biztosításának aránya 4,3 %-ról 13 %-ra emelkedet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34C-3AC0-4F47-8574-630CE8CA3480}" type="slidenum">
              <a:t>20</a:t>
            </a:fld>
          </a:p>
        </p:txBody>
      </p:sp>
    </p:spTree>
  </p:cSld>
  <p:transition spd="slow">
    <p:split dir="out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elkövető/lakosság arány megyénként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912000" cy="529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DF1F-0942-416A-8906-0144925E8A66}" type="slidenum">
              <a:t>21</a:t>
            </a:fld>
          </a:p>
        </p:txBody>
      </p:sp>
    </p:spTree>
  </p:cSld>
  <p:transition spd="slow">
    <p:split dir="out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elkövető/lakosság arány rendőrkapitányságonként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507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076D-5EED-4AB1-A531-8EAB20A23F40}" type="slidenum">
              <a:t>22</a:t>
            </a:fld>
          </a:p>
        </p:txBody>
      </p:sp>
    </p:spTree>
  </p:cSld>
  <p:transition spd="slow">
    <p:split dir="out" orient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elkövetők megoszlása</a:t>
            </a:r>
            <a:r>
              <a:rPr b="1" lang="en-US" sz="4000" spc="-1" strike="noStrike">
                <a:solidFill>
                  <a:srgbClr val="00a29e"/>
                </a:solidFill>
                <a:latin typeface="Arial"/>
              </a:rPr>
              <a:t>  </a:t>
            </a:r>
            <a:br>
              <a:rPr sz="4000"/>
            </a:br>
            <a:r>
              <a:rPr b="0" lang="en-US" sz="2000" spc="-1" strike="noStrike">
                <a:solidFill>
                  <a:srgbClr val="00a29e"/>
                </a:solidFill>
                <a:latin typeface="Arial"/>
              </a:rPr>
              <a:t>2008.</a:t>
            </a: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2" name=""/>
          <p:cNvGraphicFramePr/>
          <p:nvPr/>
        </p:nvGraphicFramePr>
        <p:xfrm>
          <a:off x="755640" y="1916280"/>
          <a:ext cx="7283520" cy="457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916280"/>
                    <a:ext cx="72835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3180-67D6-473C-AA27-1BE8B936B64E}" type="slidenum">
              <a:t>23</a:t>
            </a:fld>
          </a:p>
        </p:txBody>
      </p:sp>
    </p:spTree>
  </p:cSld>
  <p:transition spd="slow">
    <p:split dir="out" orient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elkövetők kor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 szerinti megoszlása  </a:t>
            </a:r>
            <a:br>
              <a:rPr sz="3600"/>
            </a:br>
            <a:r>
              <a:rPr b="0" lang="en-US" sz="2000" spc="-1" strike="noStrike">
                <a:solidFill>
                  <a:srgbClr val="00a29e"/>
                </a:solidFill>
                <a:latin typeface="Times New Roman"/>
              </a:rPr>
              <a:t>2008.</a:t>
            </a: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468360" y="1628640"/>
          <a:ext cx="7210440" cy="454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72104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E4B-9572-4367-804A-84D60FD5C960}" type="slidenum">
              <a:t>24</a:t>
            </a:fld>
          </a:p>
        </p:txBody>
      </p:sp>
    </p:spTree>
  </p:cSld>
  <p:transition spd="slow"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természetes személy sértettek megoszlása</a:t>
            </a:r>
            <a:r>
              <a:rPr b="1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49360" y="1844640"/>
          <a:ext cx="7713720" cy="42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844640"/>
                    <a:ext cx="7713720" cy="42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6C7-9B50-438E-8FB7-B9679F070C24}" type="slidenum">
              <a:t>25</a:t>
            </a:fld>
          </a:p>
        </p:txBody>
      </p:sp>
    </p:spTree>
  </p:cSld>
  <p:transition spd="slow">
    <p:split dir="out" orient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felderítési eredményesség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12000" y="5950080"/>
            <a:ext cx="3132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A 13. az országos rangsorb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(országos átlag 47,8 % volt 2008-b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5" name=""/>
          <p:cNvGraphicFramePr/>
          <p:nvPr/>
        </p:nvGraphicFramePr>
        <p:xfrm>
          <a:off x="250920" y="1557360"/>
          <a:ext cx="8507160" cy="4546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557360"/>
                    <a:ext cx="8507160" cy="45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3BD3-4E7B-4BD5-9D0F-8E5B22DEDB01}" type="slidenum">
              <a:t>26</a:t>
            </a:fld>
          </a:p>
        </p:txBody>
      </p:sp>
    </p:spTree>
  </p:cSld>
  <p:transition spd="slow">
    <p:split dir="out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felderítési eredményesség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lakulása</a:t>
            </a:r>
            <a:br>
              <a:rPr sz="36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(rendőrkapitányságonként)</a:t>
            </a: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468360" y="1700280"/>
          <a:ext cx="829152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9152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935E-173A-4A26-A5F2-003D09E5EC2D}" type="slidenum">
              <a:t>27</a:t>
            </a:fld>
          </a:p>
        </p:txBody>
      </p:sp>
    </p:spTree>
  </p:cSld>
  <p:transition spd="slow"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nyomozáseredményesség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148440" y="5954760"/>
            <a:ext cx="26938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A 12. az országos rangsorban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a29e"/>
                </a:solidFill>
                <a:latin typeface="Times New Roman"/>
              </a:rPr>
              <a:t>(országosan 53,6 % volt 2008-be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4" name=""/>
          <p:cNvGraphicFramePr/>
          <p:nvPr/>
        </p:nvGraphicFramePr>
        <p:xfrm>
          <a:off x="395280" y="1628640"/>
          <a:ext cx="8002440" cy="41655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628640"/>
                    <a:ext cx="8002440" cy="41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6B58-144A-4BCB-9412-904EC9CD9500}" type="slidenum">
              <a:t>28</a:t>
            </a:fld>
          </a:p>
        </p:txBody>
      </p:sp>
    </p:spTree>
  </p:cSld>
  <p:transition spd="slow"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nyomozáseredményességi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mutatók alakulása</a:t>
            </a:r>
            <a:br>
              <a:rPr sz="36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(rendőrkapitányságonként)</a:t>
            </a:r>
            <a:br>
              <a:rPr sz="3600"/>
            </a:br>
            <a:endParaRPr b="0" lang="en-US" sz="2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250920" y="1628640"/>
          <a:ext cx="8362800" cy="4392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628640"/>
                    <a:ext cx="836280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A45D-94E6-428E-8244-4CA2E452E781}" type="slidenum">
              <a:t>29</a:t>
            </a:fld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személyi állomány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állománycsoportok szerinti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79280" y="1557360"/>
          <a:ext cx="8686800" cy="4708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557360"/>
                    <a:ext cx="8686800" cy="470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D3F6-19C2-45A6-A2B6-E5F0E30DC2B3}" type="slidenum">
              <a:t>3</a:t>
            </a:fld>
          </a:p>
        </p:txBody>
      </p:sp>
    </p:spTree>
  </p:cSld>
  <p:transition spd="slow">
    <p:split dir="out" orient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Times New Roman"/>
              </a:rPr>
              <a:t>A közterületen elkövetett ismertté vált bűncselekmények/lakosság arány rendőrkapitányságonként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1258920" y="1731960"/>
            <a:ext cx="66960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B582-948E-4309-A24A-C9EE6F715082}" type="slidenum">
              <a:t>30</a:t>
            </a:fld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elfogott személyek számána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457200" y="1415880"/>
          <a:ext cx="8435880" cy="4677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415880"/>
                    <a:ext cx="8435880" cy="46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60AB-D3E3-40E8-99C6-6ED5CFFA22D7}" type="slidenum">
              <a:t>31</a:t>
            </a:fld>
          </a:p>
        </p:txBody>
      </p:sp>
    </p:spTree>
  </p:cSld>
  <p:transition spd="slow">
    <p:split dir="out" orient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előállított személyek számána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468360" y="1989000"/>
          <a:ext cx="8218440" cy="43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989000"/>
                    <a:ext cx="8218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F79-D06A-48F7-8E0F-6380C7781CFD}" type="slidenum">
              <a:t>32</a:t>
            </a:fld>
          </a:p>
        </p:txBody>
      </p:sp>
    </p:spTree>
  </p:cSld>
  <p:transition spd="slow">
    <p:split dir="out" orient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szabálysértési feljelentések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68360" y="1700280"/>
          <a:ext cx="79311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79311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3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8455-59D5-414E-8CB1-06EDC5C7EFEF}" type="slidenum">
              <a:t>33</a:t>
            </a:fld>
          </a:p>
        </p:txBody>
      </p:sp>
    </p:spTree>
  </p:cSld>
  <p:transition spd="slow">
    <p:split dir="out" orient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büntető feljelentések számána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"/>
          <p:cNvGraphicFramePr/>
          <p:nvPr/>
        </p:nvGraphicFramePr>
        <p:xfrm>
          <a:off x="468360" y="1916280"/>
          <a:ext cx="8218440" cy="4309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16280"/>
                    <a:ext cx="8218440" cy="43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1D4-AA78-432A-AB9B-F214C9EA3DB7}" type="slidenum">
              <a:t>34</a:t>
            </a:fld>
          </a:p>
        </p:txBody>
      </p:sp>
    </p:spTree>
  </p:cSld>
  <p:transition spd="slow">
    <p:split dir="out" orient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helyszíni bírságolások számána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395280" y="1844640"/>
          <a:ext cx="8435880" cy="3903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844640"/>
                    <a:ext cx="8435880" cy="39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1938-3AB5-4710-B03B-F10280002701}" type="slidenum">
              <a:t>35</a:t>
            </a:fld>
          </a:p>
        </p:txBody>
      </p:sp>
    </p:spTree>
  </p:cSld>
  <p:transition spd="slow">
    <p:split dir="out" orient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sérüléssel járó közlekedési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balesetek számának alakulása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4" name=""/>
          <p:cNvGraphicFramePr/>
          <p:nvPr/>
        </p:nvGraphicFramePr>
        <p:xfrm>
          <a:off x="611280" y="1700280"/>
          <a:ext cx="7931160" cy="4518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1700280"/>
                    <a:ext cx="7931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6D8B-2676-4EE2-BF77-6330306A6DC8}" type="slidenum">
              <a:t>36</a:t>
            </a:fld>
          </a:p>
        </p:txBody>
      </p:sp>
    </p:spTree>
  </p:cSld>
  <p:transition spd="slow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közlekedési ellenőrzések során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tett intézkedések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8" name=""/>
          <p:cNvGraphicFramePr/>
          <p:nvPr/>
        </p:nvGraphicFramePr>
        <p:xfrm>
          <a:off x="468360" y="1989000"/>
          <a:ext cx="8291520" cy="4332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1989000"/>
                    <a:ext cx="8291520" cy="43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BC92-9932-40FC-86DF-8CE0048C88CA}" type="slidenum">
              <a:t>37</a:t>
            </a:fld>
          </a:p>
        </p:txBody>
      </p:sp>
    </p:spTree>
  </p:cSld>
  <p:transition spd="slow">
    <p:split dir="out" orient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járművezetéstől eltiltás aránya</a:t>
            </a:r>
            <a:br>
              <a:rPr sz="36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a kiemelt közlekedési szabálysértések elkövetése során</a:t>
            </a:r>
            <a:r>
              <a:rPr b="0" lang="en-US" sz="44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250920" y="1700280"/>
          <a:ext cx="8686800" cy="4302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686800" cy="43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2163-3440-453D-97DC-55DF34C0367F}" type="slidenum">
              <a:t>38</a:t>
            </a:fld>
          </a:p>
        </p:txBody>
      </p:sp>
    </p:spTree>
  </p:cSld>
  <p:transition spd="slow">
    <p:split dir="out" orient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A határszakaszok védelme és a </a:t>
            </a:r>
            <a:br>
              <a:rPr sz="3200"/>
            </a:br>
            <a:r>
              <a:rPr b="1" lang="en-US" sz="3200" spc="-1" strike="noStrike">
                <a:solidFill>
                  <a:srgbClr val="00a29e"/>
                </a:solidFill>
                <a:latin typeface="Arial"/>
              </a:rPr>
              <a:t>határforgalom ellenőrzése </a:t>
            </a:r>
            <a:endParaRPr b="0" lang="en-US" sz="32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74680" y="1727280"/>
            <a:ext cx="8201160" cy="49053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516040" y="2638440"/>
            <a:ext cx="14446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876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309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52360" y="3241800"/>
            <a:ext cx="139716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2616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421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133880" y="3036960"/>
            <a:ext cx="2506680" cy="1915920"/>
          </a:xfrm>
          <a:custGeom>
            <a:avLst/>
            <a:gdLst>
              <a:gd name="textAreaLeft" fmla="*/ 626760 w 2506680"/>
              <a:gd name="textAreaRight" fmla="*/ 1880280 w 2506680"/>
              <a:gd name="textAreaTop" fmla="*/ 478800 h 1915920"/>
              <a:gd name="textAreaBottom" fmla="*/ 1437120 h 19159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ZÁ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7: 56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008: 3 f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54160" y="4813200"/>
            <a:ext cx="14842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247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85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135320" y="5899320"/>
            <a:ext cx="16588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1089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2463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30840" y="4511520"/>
            <a:ext cx="15544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1184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1892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048040"/>
            <a:ext cx="150948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2055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2010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338120" y="5837400"/>
            <a:ext cx="1500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332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129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63720" y="3560760"/>
            <a:ext cx="153216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0160" rIns="20160" tIns="20160" bIns="20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7: 492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08: 217 f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80040" y="5775480"/>
            <a:ext cx="2687760" cy="3711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chengen-i külső ha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3360" y="2257560"/>
            <a:ext cx="2736720" cy="3715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Times New Roman"/>
              </a:rPr>
              <a:t>Schengen-i belső hatá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0480" y="1709640"/>
            <a:ext cx="768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llegális migrációhoz kapcsolódó jogellenes cselekmények megoszl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2"/>
          <a:stretch/>
        </p:blipFill>
        <p:spPr>
          <a:xfrm>
            <a:off x="7956720" y="33336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68FB-80CE-424E-B0BE-1F4D9C0A3651}" type="slidenum">
              <a:t>39</a:t>
            </a:fld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állomány megoszlása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korcsoportok szerint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89040" y="1773360"/>
          <a:ext cx="7751520" cy="450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773360"/>
                    <a:ext cx="7751520" cy="45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C3FF-B72A-4A0B-86E8-E7D6F25892FD}" type="slidenum">
              <a:t>4</a:t>
            </a:fld>
          </a:p>
        </p:txBody>
      </p:sp>
    </p:spTree>
  </p:cSld>
  <p:transition spd="slow">
    <p:split dir="out" orient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Új típusú gazdálkodás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1814400" y="3294000"/>
            <a:ext cx="1324080" cy="1143000"/>
          </a:xfrm>
          <a:prstGeom prst="rect">
            <a:avLst/>
          </a:prstGeom>
          <a:ln w="0">
            <a:noFill/>
          </a:ln>
        </p:spPr>
      </p:pic>
      <p:grpSp>
        <p:nvGrpSpPr>
          <p:cNvPr id="321" name=""/>
          <p:cNvGrpSpPr/>
          <p:nvPr/>
        </p:nvGrpSpPr>
        <p:grpSpPr>
          <a:xfrm>
            <a:off x="179280" y="1773360"/>
            <a:ext cx="7189920" cy="4122000"/>
            <a:chOff x="179280" y="1773360"/>
            <a:chExt cx="7189920" cy="4122000"/>
          </a:xfrm>
        </p:grpSpPr>
        <p:sp>
          <p:nvSpPr>
            <p:cNvPr id="322" name=""/>
            <p:cNvSpPr/>
            <p:nvPr/>
          </p:nvSpPr>
          <p:spPr>
            <a:xfrm>
              <a:off x="2840760" y="2432880"/>
              <a:ext cx="1463400" cy="1676160"/>
            </a:xfrm>
            <a:custGeom>
              <a:avLst/>
              <a:gdLst/>
              <a:ahLst/>
              <a:rect l="l" t="t" r="r" b="b"/>
              <a:pathLst>
                <a:path w="1934" h="2243">
                  <a:moveTo>
                    <a:pt x="385" y="83"/>
                  </a:moveTo>
                  <a:lnTo>
                    <a:pt x="393" y="91"/>
                  </a:lnTo>
                  <a:lnTo>
                    <a:pt x="401" y="82"/>
                  </a:lnTo>
                  <a:lnTo>
                    <a:pt x="411" y="82"/>
                  </a:lnTo>
                  <a:lnTo>
                    <a:pt x="416" y="94"/>
                  </a:lnTo>
                  <a:lnTo>
                    <a:pt x="428" y="100"/>
                  </a:lnTo>
                  <a:lnTo>
                    <a:pt x="422" y="106"/>
                  </a:lnTo>
                  <a:lnTo>
                    <a:pt x="419" y="118"/>
                  </a:lnTo>
                  <a:lnTo>
                    <a:pt x="425" y="135"/>
                  </a:lnTo>
                  <a:lnTo>
                    <a:pt x="407" y="143"/>
                  </a:lnTo>
                  <a:lnTo>
                    <a:pt x="407" y="154"/>
                  </a:lnTo>
                  <a:lnTo>
                    <a:pt x="393" y="166"/>
                  </a:lnTo>
                  <a:lnTo>
                    <a:pt x="348" y="191"/>
                  </a:lnTo>
                  <a:lnTo>
                    <a:pt x="336" y="203"/>
                  </a:lnTo>
                  <a:lnTo>
                    <a:pt x="347" y="209"/>
                  </a:lnTo>
                  <a:lnTo>
                    <a:pt x="347" y="220"/>
                  </a:lnTo>
                  <a:lnTo>
                    <a:pt x="342" y="233"/>
                  </a:lnTo>
                  <a:lnTo>
                    <a:pt x="366" y="263"/>
                  </a:lnTo>
                  <a:lnTo>
                    <a:pt x="410" y="295"/>
                  </a:lnTo>
                  <a:lnTo>
                    <a:pt x="422" y="315"/>
                  </a:lnTo>
                  <a:lnTo>
                    <a:pt x="476" y="353"/>
                  </a:lnTo>
                  <a:lnTo>
                    <a:pt x="475" y="367"/>
                  </a:lnTo>
                  <a:lnTo>
                    <a:pt x="483" y="379"/>
                  </a:lnTo>
                  <a:lnTo>
                    <a:pt x="503" y="383"/>
                  </a:lnTo>
                  <a:lnTo>
                    <a:pt x="516" y="401"/>
                  </a:lnTo>
                  <a:lnTo>
                    <a:pt x="516" y="414"/>
                  </a:lnTo>
                  <a:lnTo>
                    <a:pt x="534" y="420"/>
                  </a:lnTo>
                  <a:lnTo>
                    <a:pt x="547" y="414"/>
                  </a:lnTo>
                  <a:lnTo>
                    <a:pt x="555" y="401"/>
                  </a:lnTo>
                  <a:lnTo>
                    <a:pt x="573" y="401"/>
                  </a:lnTo>
                  <a:lnTo>
                    <a:pt x="597" y="409"/>
                  </a:lnTo>
                  <a:lnTo>
                    <a:pt x="626" y="427"/>
                  </a:lnTo>
                  <a:lnTo>
                    <a:pt x="672" y="441"/>
                  </a:lnTo>
                  <a:lnTo>
                    <a:pt x="695" y="433"/>
                  </a:lnTo>
                  <a:lnTo>
                    <a:pt x="728" y="445"/>
                  </a:lnTo>
                  <a:lnTo>
                    <a:pt x="732" y="460"/>
                  </a:lnTo>
                  <a:lnTo>
                    <a:pt x="750" y="473"/>
                  </a:lnTo>
                  <a:lnTo>
                    <a:pt x="789" y="487"/>
                  </a:lnTo>
                  <a:lnTo>
                    <a:pt x="800" y="475"/>
                  </a:lnTo>
                  <a:lnTo>
                    <a:pt x="821" y="478"/>
                  </a:lnTo>
                  <a:lnTo>
                    <a:pt x="839" y="468"/>
                  </a:lnTo>
                  <a:lnTo>
                    <a:pt x="879" y="462"/>
                  </a:lnTo>
                  <a:lnTo>
                    <a:pt x="961" y="489"/>
                  </a:lnTo>
                  <a:lnTo>
                    <a:pt x="1004" y="484"/>
                  </a:lnTo>
                  <a:lnTo>
                    <a:pt x="1053" y="509"/>
                  </a:lnTo>
                  <a:lnTo>
                    <a:pt x="1056" y="520"/>
                  </a:lnTo>
                  <a:lnTo>
                    <a:pt x="1043" y="527"/>
                  </a:lnTo>
                  <a:lnTo>
                    <a:pt x="1029" y="544"/>
                  </a:lnTo>
                  <a:lnTo>
                    <a:pt x="1017" y="547"/>
                  </a:lnTo>
                  <a:lnTo>
                    <a:pt x="1021" y="567"/>
                  </a:lnTo>
                  <a:lnTo>
                    <a:pt x="1019" y="588"/>
                  </a:lnTo>
                  <a:lnTo>
                    <a:pt x="1050" y="589"/>
                  </a:lnTo>
                  <a:lnTo>
                    <a:pt x="1063" y="600"/>
                  </a:lnTo>
                  <a:lnTo>
                    <a:pt x="1058" y="631"/>
                  </a:lnTo>
                  <a:lnTo>
                    <a:pt x="1077" y="679"/>
                  </a:lnTo>
                  <a:lnTo>
                    <a:pt x="1086" y="684"/>
                  </a:lnTo>
                  <a:lnTo>
                    <a:pt x="1092" y="708"/>
                  </a:lnTo>
                  <a:lnTo>
                    <a:pt x="1088" y="712"/>
                  </a:lnTo>
                  <a:lnTo>
                    <a:pt x="1092" y="717"/>
                  </a:lnTo>
                  <a:lnTo>
                    <a:pt x="1097" y="719"/>
                  </a:lnTo>
                  <a:lnTo>
                    <a:pt x="1104" y="739"/>
                  </a:lnTo>
                  <a:lnTo>
                    <a:pt x="1116" y="756"/>
                  </a:lnTo>
                  <a:lnTo>
                    <a:pt x="1146" y="741"/>
                  </a:lnTo>
                  <a:lnTo>
                    <a:pt x="1145" y="733"/>
                  </a:lnTo>
                  <a:lnTo>
                    <a:pt x="1139" y="730"/>
                  </a:lnTo>
                  <a:lnTo>
                    <a:pt x="1117" y="724"/>
                  </a:lnTo>
                  <a:lnTo>
                    <a:pt x="1117" y="715"/>
                  </a:lnTo>
                  <a:lnTo>
                    <a:pt x="1119" y="696"/>
                  </a:lnTo>
                  <a:lnTo>
                    <a:pt x="1128" y="687"/>
                  </a:lnTo>
                  <a:lnTo>
                    <a:pt x="1145" y="679"/>
                  </a:lnTo>
                  <a:lnTo>
                    <a:pt x="1161" y="643"/>
                  </a:lnTo>
                  <a:lnTo>
                    <a:pt x="1173" y="642"/>
                  </a:lnTo>
                  <a:lnTo>
                    <a:pt x="1214" y="665"/>
                  </a:lnTo>
                  <a:lnTo>
                    <a:pt x="1245" y="706"/>
                  </a:lnTo>
                  <a:lnTo>
                    <a:pt x="1254" y="713"/>
                  </a:lnTo>
                  <a:lnTo>
                    <a:pt x="1251" y="731"/>
                  </a:lnTo>
                  <a:lnTo>
                    <a:pt x="1239" y="739"/>
                  </a:lnTo>
                  <a:lnTo>
                    <a:pt x="1247" y="751"/>
                  </a:lnTo>
                  <a:lnTo>
                    <a:pt x="1247" y="773"/>
                  </a:lnTo>
                  <a:lnTo>
                    <a:pt x="1275" y="826"/>
                  </a:lnTo>
                  <a:lnTo>
                    <a:pt x="1297" y="846"/>
                  </a:lnTo>
                  <a:lnTo>
                    <a:pt x="1320" y="844"/>
                  </a:lnTo>
                  <a:lnTo>
                    <a:pt x="1305" y="867"/>
                  </a:lnTo>
                  <a:lnTo>
                    <a:pt x="1311" y="873"/>
                  </a:lnTo>
                  <a:lnTo>
                    <a:pt x="1317" y="888"/>
                  </a:lnTo>
                  <a:lnTo>
                    <a:pt x="1339" y="912"/>
                  </a:lnTo>
                  <a:lnTo>
                    <a:pt x="1334" y="947"/>
                  </a:lnTo>
                  <a:lnTo>
                    <a:pt x="1349" y="959"/>
                  </a:lnTo>
                  <a:lnTo>
                    <a:pt x="1319" y="987"/>
                  </a:lnTo>
                  <a:lnTo>
                    <a:pt x="1319" y="1007"/>
                  </a:lnTo>
                  <a:lnTo>
                    <a:pt x="1315" y="1015"/>
                  </a:lnTo>
                  <a:lnTo>
                    <a:pt x="1328" y="1030"/>
                  </a:lnTo>
                  <a:lnTo>
                    <a:pt x="1321" y="1047"/>
                  </a:lnTo>
                  <a:lnTo>
                    <a:pt x="1358" y="1078"/>
                  </a:lnTo>
                  <a:lnTo>
                    <a:pt x="1376" y="1104"/>
                  </a:lnTo>
                  <a:lnTo>
                    <a:pt x="1385" y="1110"/>
                  </a:lnTo>
                  <a:lnTo>
                    <a:pt x="1424" y="1079"/>
                  </a:lnTo>
                  <a:lnTo>
                    <a:pt x="1429" y="1071"/>
                  </a:lnTo>
                  <a:lnTo>
                    <a:pt x="1443" y="1087"/>
                  </a:lnTo>
                  <a:lnTo>
                    <a:pt x="1457" y="1084"/>
                  </a:lnTo>
                  <a:lnTo>
                    <a:pt x="1467" y="1089"/>
                  </a:lnTo>
                  <a:lnTo>
                    <a:pt x="1483" y="1069"/>
                  </a:lnTo>
                  <a:lnTo>
                    <a:pt x="1500" y="1084"/>
                  </a:lnTo>
                  <a:lnTo>
                    <a:pt x="1481" y="1116"/>
                  </a:lnTo>
                  <a:lnTo>
                    <a:pt x="1471" y="1141"/>
                  </a:lnTo>
                  <a:lnTo>
                    <a:pt x="1445" y="1171"/>
                  </a:lnTo>
                  <a:lnTo>
                    <a:pt x="1513" y="1223"/>
                  </a:lnTo>
                  <a:lnTo>
                    <a:pt x="1542" y="1266"/>
                  </a:lnTo>
                  <a:lnTo>
                    <a:pt x="1542" y="1288"/>
                  </a:lnTo>
                  <a:lnTo>
                    <a:pt x="1557" y="1295"/>
                  </a:lnTo>
                  <a:lnTo>
                    <a:pt x="1581" y="1319"/>
                  </a:lnTo>
                  <a:lnTo>
                    <a:pt x="1673" y="1380"/>
                  </a:lnTo>
                  <a:lnTo>
                    <a:pt x="1724" y="1407"/>
                  </a:lnTo>
                  <a:lnTo>
                    <a:pt x="1757" y="1450"/>
                  </a:lnTo>
                  <a:lnTo>
                    <a:pt x="1759" y="1455"/>
                  </a:lnTo>
                  <a:lnTo>
                    <a:pt x="1757" y="1471"/>
                  </a:lnTo>
                  <a:lnTo>
                    <a:pt x="1759" y="1481"/>
                  </a:lnTo>
                  <a:lnTo>
                    <a:pt x="1795" y="1522"/>
                  </a:lnTo>
                  <a:lnTo>
                    <a:pt x="1758" y="1625"/>
                  </a:lnTo>
                  <a:lnTo>
                    <a:pt x="1823" y="1651"/>
                  </a:lnTo>
                  <a:lnTo>
                    <a:pt x="1860" y="1684"/>
                  </a:lnTo>
                  <a:lnTo>
                    <a:pt x="1878" y="1691"/>
                  </a:lnTo>
                  <a:lnTo>
                    <a:pt x="1881" y="1709"/>
                  </a:lnTo>
                  <a:lnTo>
                    <a:pt x="1893" y="1728"/>
                  </a:lnTo>
                  <a:lnTo>
                    <a:pt x="1893" y="1743"/>
                  </a:lnTo>
                  <a:lnTo>
                    <a:pt x="1905" y="1767"/>
                  </a:lnTo>
                  <a:lnTo>
                    <a:pt x="1907" y="1779"/>
                  </a:lnTo>
                  <a:lnTo>
                    <a:pt x="1867" y="1831"/>
                  </a:lnTo>
                  <a:lnTo>
                    <a:pt x="1845" y="1847"/>
                  </a:lnTo>
                  <a:lnTo>
                    <a:pt x="1844" y="1863"/>
                  </a:lnTo>
                  <a:lnTo>
                    <a:pt x="1837" y="1882"/>
                  </a:lnTo>
                  <a:lnTo>
                    <a:pt x="1842" y="1897"/>
                  </a:lnTo>
                  <a:lnTo>
                    <a:pt x="1859" y="1924"/>
                  </a:lnTo>
                  <a:lnTo>
                    <a:pt x="1850" y="1931"/>
                  </a:lnTo>
                  <a:lnTo>
                    <a:pt x="1866" y="1954"/>
                  </a:lnTo>
                  <a:lnTo>
                    <a:pt x="1867" y="1963"/>
                  </a:lnTo>
                  <a:lnTo>
                    <a:pt x="1881" y="1981"/>
                  </a:lnTo>
                  <a:lnTo>
                    <a:pt x="1904" y="2055"/>
                  </a:lnTo>
                  <a:lnTo>
                    <a:pt x="1927" y="2061"/>
                  </a:lnTo>
                  <a:lnTo>
                    <a:pt x="1934" y="2080"/>
                  </a:lnTo>
                  <a:lnTo>
                    <a:pt x="1927" y="2093"/>
                  </a:lnTo>
                  <a:lnTo>
                    <a:pt x="1910" y="2128"/>
                  </a:lnTo>
                  <a:lnTo>
                    <a:pt x="1874" y="2109"/>
                  </a:lnTo>
                  <a:lnTo>
                    <a:pt x="1855" y="2119"/>
                  </a:lnTo>
                  <a:lnTo>
                    <a:pt x="1826" y="2121"/>
                  </a:lnTo>
                  <a:lnTo>
                    <a:pt x="1796" y="2142"/>
                  </a:lnTo>
                  <a:lnTo>
                    <a:pt x="1782" y="2145"/>
                  </a:lnTo>
                  <a:lnTo>
                    <a:pt x="1772" y="2154"/>
                  </a:lnTo>
                  <a:lnTo>
                    <a:pt x="1758" y="2185"/>
                  </a:lnTo>
                  <a:lnTo>
                    <a:pt x="1755" y="2212"/>
                  </a:lnTo>
                  <a:lnTo>
                    <a:pt x="1712" y="2193"/>
                  </a:lnTo>
                  <a:lnTo>
                    <a:pt x="1686" y="2191"/>
                  </a:lnTo>
                  <a:lnTo>
                    <a:pt x="1641" y="2164"/>
                  </a:lnTo>
                  <a:lnTo>
                    <a:pt x="1613" y="2140"/>
                  </a:lnTo>
                  <a:lnTo>
                    <a:pt x="1607" y="2149"/>
                  </a:lnTo>
                  <a:lnTo>
                    <a:pt x="1589" y="2201"/>
                  </a:lnTo>
                  <a:lnTo>
                    <a:pt x="1561" y="2243"/>
                  </a:lnTo>
                  <a:lnTo>
                    <a:pt x="1508" y="2230"/>
                  </a:lnTo>
                  <a:lnTo>
                    <a:pt x="1477" y="2243"/>
                  </a:lnTo>
                  <a:lnTo>
                    <a:pt x="1457" y="2225"/>
                  </a:lnTo>
                  <a:lnTo>
                    <a:pt x="1424" y="2191"/>
                  </a:lnTo>
                  <a:lnTo>
                    <a:pt x="1385" y="2176"/>
                  </a:lnTo>
                  <a:lnTo>
                    <a:pt x="1355" y="2157"/>
                  </a:lnTo>
                  <a:lnTo>
                    <a:pt x="1314" y="2099"/>
                  </a:lnTo>
                  <a:lnTo>
                    <a:pt x="1290" y="2076"/>
                  </a:lnTo>
                  <a:lnTo>
                    <a:pt x="1284" y="2059"/>
                  </a:lnTo>
                  <a:lnTo>
                    <a:pt x="1274" y="2003"/>
                  </a:lnTo>
                  <a:lnTo>
                    <a:pt x="1268" y="1985"/>
                  </a:lnTo>
                  <a:lnTo>
                    <a:pt x="1224" y="1901"/>
                  </a:lnTo>
                  <a:lnTo>
                    <a:pt x="1213" y="1890"/>
                  </a:lnTo>
                  <a:lnTo>
                    <a:pt x="1188" y="1915"/>
                  </a:lnTo>
                  <a:lnTo>
                    <a:pt x="1161" y="1915"/>
                  </a:lnTo>
                  <a:lnTo>
                    <a:pt x="1109" y="1894"/>
                  </a:lnTo>
                  <a:lnTo>
                    <a:pt x="1104" y="1902"/>
                  </a:lnTo>
                  <a:lnTo>
                    <a:pt x="1075" y="2022"/>
                  </a:lnTo>
                  <a:lnTo>
                    <a:pt x="1065" y="2037"/>
                  </a:lnTo>
                  <a:lnTo>
                    <a:pt x="1056" y="2043"/>
                  </a:lnTo>
                  <a:lnTo>
                    <a:pt x="1040" y="2041"/>
                  </a:lnTo>
                  <a:lnTo>
                    <a:pt x="1040" y="2031"/>
                  </a:lnTo>
                  <a:lnTo>
                    <a:pt x="1002" y="2019"/>
                  </a:lnTo>
                  <a:lnTo>
                    <a:pt x="966" y="2055"/>
                  </a:lnTo>
                  <a:lnTo>
                    <a:pt x="943" y="2056"/>
                  </a:lnTo>
                  <a:lnTo>
                    <a:pt x="888" y="2074"/>
                  </a:lnTo>
                  <a:lnTo>
                    <a:pt x="878" y="2083"/>
                  </a:lnTo>
                  <a:lnTo>
                    <a:pt x="869" y="2115"/>
                  </a:lnTo>
                  <a:lnTo>
                    <a:pt x="821" y="2063"/>
                  </a:lnTo>
                  <a:lnTo>
                    <a:pt x="840" y="2019"/>
                  </a:lnTo>
                  <a:lnTo>
                    <a:pt x="858" y="1996"/>
                  </a:lnTo>
                  <a:lnTo>
                    <a:pt x="884" y="1941"/>
                  </a:lnTo>
                  <a:lnTo>
                    <a:pt x="851" y="1918"/>
                  </a:lnTo>
                  <a:lnTo>
                    <a:pt x="833" y="1894"/>
                  </a:lnTo>
                  <a:lnTo>
                    <a:pt x="799" y="1882"/>
                  </a:lnTo>
                  <a:lnTo>
                    <a:pt x="776" y="1865"/>
                  </a:lnTo>
                  <a:lnTo>
                    <a:pt x="769" y="1863"/>
                  </a:lnTo>
                  <a:lnTo>
                    <a:pt x="770" y="1843"/>
                  </a:lnTo>
                  <a:lnTo>
                    <a:pt x="755" y="1834"/>
                  </a:lnTo>
                  <a:lnTo>
                    <a:pt x="717" y="1846"/>
                  </a:lnTo>
                  <a:lnTo>
                    <a:pt x="689" y="1926"/>
                  </a:lnTo>
                  <a:lnTo>
                    <a:pt x="678" y="1912"/>
                  </a:lnTo>
                  <a:lnTo>
                    <a:pt x="630" y="1918"/>
                  </a:lnTo>
                  <a:lnTo>
                    <a:pt x="591" y="1963"/>
                  </a:lnTo>
                  <a:lnTo>
                    <a:pt x="584" y="1967"/>
                  </a:lnTo>
                  <a:lnTo>
                    <a:pt x="559" y="1974"/>
                  </a:lnTo>
                  <a:lnTo>
                    <a:pt x="551" y="1983"/>
                  </a:lnTo>
                  <a:lnTo>
                    <a:pt x="539" y="2026"/>
                  </a:lnTo>
                  <a:lnTo>
                    <a:pt x="505" y="2045"/>
                  </a:lnTo>
                  <a:lnTo>
                    <a:pt x="453" y="2023"/>
                  </a:lnTo>
                  <a:lnTo>
                    <a:pt x="450" y="2013"/>
                  </a:lnTo>
                  <a:lnTo>
                    <a:pt x="416" y="2015"/>
                  </a:lnTo>
                  <a:lnTo>
                    <a:pt x="373" y="2002"/>
                  </a:lnTo>
                  <a:lnTo>
                    <a:pt x="368" y="2008"/>
                  </a:lnTo>
                  <a:lnTo>
                    <a:pt x="366" y="2017"/>
                  </a:lnTo>
                  <a:lnTo>
                    <a:pt x="366" y="2023"/>
                  </a:lnTo>
                  <a:lnTo>
                    <a:pt x="367" y="2032"/>
                  </a:lnTo>
                  <a:lnTo>
                    <a:pt x="369" y="2044"/>
                  </a:lnTo>
                  <a:lnTo>
                    <a:pt x="380" y="2052"/>
                  </a:lnTo>
                  <a:lnTo>
                    <a:pt x="385" y="2057"/>
                  </a:lnTo>
                  <a:lnTo>
                    <a:pt x="391" y="2068"/>
                  </a:lnTo>
                  <a:lnTo>
                    <a:pt x="389" y="2077"/>
                  </a:lnTo>
                  <a:lnTo>
                    <a:pt x="381" y="2091"/>
                  </a:lnTo>
                  <a:lnTo>
                    <a:pt x="377" y="2083"/>
                  </a:lnTo>
                  <a:lnTo>
                    <a:pt x="365" y="2065"/>
                  </a:lnTo>
                  <a:lnTo>
                    <a:pt x="349" y="2046"/>
                  </a:lnTo>
                  <a:lnTo>
                    <a:pt x="311" y="2020"/>
                  </a:lnTo>
                  <a:lnTo>
                    <a:pt x="293" y="2002"/>
                  </a:lnTo>
                  <a:lnTo>
                    <a:pt x="272" y="1944"/>
                  </a:lnTo>
                  <a:lnTo>
                    <a:pt x="265" y="1907"/>
                  </a:lnTo>
                  <a:lnTo>
                    <a:pt x="264" y="1902"/>
                  </a:lnTo>
                  <a:lnTo>
                    <a:pt x="260" y="1883"/>
                  </a:lnTo>
                  <a:lnTo>
                    <a:pt x="257" y="1861"/>
                  </a:lnTo>
                  <a:lnTo>
                    <a:pt x="255" y="1793"/>
                  </a:lnTo>
                  <a:lnTo>
                    <a:pt x="266" y="1756"/>
                  </a:lnTo>
                  <a:lnTo>
                    <a:pt x="297" y="1704"/>
                  </a:lnTo>
                  <a:lnTo>
                    <a:pt x="315" y="1639"/>
                  </a:lnTo>
                  <a:lnTo>
                    <a:pt x="317" y="1625"/>
                  </a:lnTo>
                  <a:lnTo>
                    <a:pt x="312" y="1585"/>
                  </a:lnTo>
                  <a:lnTo>
                    <a:pt x="313" y="1577"/>
                  </a:lnTo>
                  <a:lnTo>
                    <a:pt x="297" y="1577"/>
                  </a:lnTo>
                  <a:lnTo>
                    <a:pt x="273" y="1578"/>
                  </a:lnTo>
                  <a:lnTo>
                    <a:pt x="249" y="1570"/>
                  </a:lnTo>
                  <a:lnTo>
                    <a:pt x="239" y="1548"/>
                  </a:lnTo>
                  <a:lnTo>
                    <a:pt x="260" y="1522"/>
                  </a:lnTo>
                  <a:lnTo>
                    <a:pt x="251" y="1513"/>
                  </a:lnTo>
                  <a:lnTo>
                    <a:pt x="228" y="1510"/>
                  </a:lnTo>
                  <a:lnTo>
                    <a:pt x="234" y="1491"/>
                  </a:lnTo>
                  <a:lnTo>
                    <a:pt x="209" y="1468"/>
                  </a:lnTo>
                  <a:lnTo>
                    <a:pt x="192" y="1439"/>
                  </a:lnTo>
                  <a:lnTo>
                    <a:pt x="182" y="1438"/>
                  </a:lnTo>
                  <a:lnTo>
                    <a:pt x="123" y="1374"/>
                  </a:lnTo>
                  <a:lnTo>
                    <a:pt x="114" y="1350"/>
                  </a:lnTo>
                  <a:lnTo>
                    <a:pt x="84" y="1324"/>
                  </a:lnTo>
                  <a:lnTo>
                    <a:pt x="95" y="1301"/>
                  </a:lnTo>
                  <a:lnTo>
                    <a:pt x="129" y="1277"/>
                  </a:lnTo>
                  <a:lnTo>
                    <a:pt x="126" y="1219"/>
                  </a:lnTo>
                  <a:lnTo>
                    <a:pt x="121" y="1203"/>
                  </a:lnTo>
                  <a:lnTo>
                    <a:pt x="101" y="1177"/>
                  </a:lnTo>
                  <a:lnTo>
                    <a:pt x="85" y="1149"/>
                  </a:lnTo>
                  <a:lnTo>
                    <a:pt x="45" y="1145"/>
                  </a:lnTo>
                  <a:lnTo>
                    <a:pt x="41" y="1129"/>
                  </a:lnTo>
                  <a:lnTo>
                    <a:pt x="9" y="1087"/>
                  </a:lnTo>
                  <a:lnTo>
                    <a:pt x="6" y="1077"/>
                  </a:lnTo>
                  <a:lnTo>
                    <a:pt x="5" y="1049"/>
                  </a:lnTo>
                  <a:lnTo>
                    <a:pt x="13" y="1011"/>
                  </a:lnTo>
                  <a:lnTo>
                    <a:pt x="0" y="982"/>
                  </a:lnTo>
                  <a:lnTo>
                    <a:pt x="12" y="958"/>
                  </a:lnTo>
                  <a:lnTo>
                    <a:pt x="38" y="941"/>
                  </a:lnTo>
                  <a:lnTo>
                    <a:pt x="38" y="919"/>
                  </a:lnTo>
                  <a:lnTo>
                    <a:pt x="59" y="907"/>
                  </a:lnTo>
                  <a:lnTo>
                    <a:pt x="68" y="881"/>
                  </a:lnTo>
                  <a:lnTo>
                    <a:pt x="93" y="857"/>
                  </a:lnTo>
                  <a:lnTo>
                    <a:pt x="116" y="846"/>
                  </a:lnTo>
                  <a:lnTo>
                    <a:pt x="117" y="843"/>
                  </a:lnTo>
                  <a:lnTo>
                    <a:pt x="74" y="807"/>
                  </a:lnTo>
                  <a:lnTo>
                    <a:pt x="96" y="809"/>
                  </a:lnTo>
                  <a:lnTo>
                    <a:pt x="111" y="805"/>
                  </a:lnTo>
                  <a:lnTo>
                    <a:pt x="128" y="786"/>
                  </a:lnTo>
                  <a:lnTo>
                    <a:pt x="161" y="805"/>
                  </a:lnTo>
                  <a:lnTo>
                    <a:pt x="197" y="809"/>
                  </a:lnTo>
                  <a:lnTo>
                    <a:pt x="233" y="821"/>
                  </a:lnTo>
                  <a:lnTo>
                    <a:pt x="236" y="816"/>
                  </a:lnTo>
                  <a:lnTo>
                    <a:pt x="233" y="783"/>
                  </a:lnTo>
                  <a:lnTo>
                    <a:pt x="225" y="759"/>
                  </a:lnTo>
                  <a:lnTo>
                    <a:pt x="213" y="741"/>
                  </a:lnTo>
                  <a:lnTo>
                    <a:pt x="221" y="730"/>
                  </a:lnTo>
                  <a:lnTo>
                    <a:pt x="217" y="720"/>
                  </a:lnTo>
                  <a:lnTo>
                    <a:pt x="221" y="708"/>
                  </a:lnTo>
                  <a:lnTo>
                    <a:pt x="216" y="702"/>
                  </a:lnTo>
                  <a:lnTo>
                    <a:pt x="258" y="695"/>
                  </a:lnTo>
                  <a:lnTo>
                    <a:pt x="279" y="681"/>
                  </a:lnTo>
                  <a:lnTo>
                    <a:pt x="319" y="700"/>
                  </a:lnTo>
                  <a:lnTo>
                    <a:pt x="336" y="682"/>
                  </a:lnTo>
                  <a:lnTo>
                    <a:pt x="337" y="666"/>
                  </a:lnTo>
                  <a:lnTo>
                    <a:pt x="326" y="660"/>
                  </a:lnTo>
                  <a:lnTo>
                    <a:pt x="321" y="645"/>
                  </a:lnTo>
                  <a:lnTo>
                    <a:pt x="309" y="633"/>
                  </a:lnTo>
                  <a:lnTo>
                    <a:pt x="311" y="612"/>
                  </a:lnTo>
                  <a:lnTo>
                    <a:pt x="302" y="604"/>
                  </a:lnTo>
                  <a:lnTo>
                    <a:pt x="299" y="589"/>
                  </a:lnTo>
                  <a:lnTo>
                    <a:pt x="295" y="568"/>
                  </a:lnTo>
                  <a:lnTo>
                    <a:pt x="290" y="552"/>
                  </a:lnTo>
                  <a:lnTo>
                    <a:pt x="285" y="545"/>
                  </a:lnTo>
                  <a:lnTo>
                    <a:pt x="275" y="539"/>
                  </a:lnTo>
                  <a:lnTo>
                    <a:pt x="258" y="538"/>
                  </a:lnTo>
                  <a:lnTo>
                    <a:pt x="240" y="534"/>
                  </a:lnTo>
                  <a:lnTo>
                    <a:pt x="242" y="525"/>
                  </a:lnTo>
                  <a:lnTo>
                    <a:pt x="235" y="498"/>
                  </a:lnTo>
                  <a:lnTo>
                    <a:pt x="224" y="486"/>
                  </a:lnTo>
                  <a:lnTo>
                    <a:pt x="216" y="484"/>
                  </a:lnTo>
                  <a:lnTo>
                    <a:pt x="201" y="481"/>
                  </a:lnTo>
                  <a:lnTo>
                    <a:pt x="193" y="474"/>
                  </a:lnTo>
                  <a:lnTo>
                    <a:pt x="187" y="463"/>
                  </a:lnTo>
                  <a:lnTo>
                    <a:pt x="182" y="448"/>
                  </a:lnTo>
                  <a:lnTo>
                    <a:pt x="175" y="442"/>
                  </a:lnTo>
                  <a:lnTo>
                    <a:pt x="170" y="441"/>
                  </a:lnTo>
                  <a:lnTo>
                    <a:pt x="161" y="437"/>
                  </a:lnTo>
                  <a:lnTo>
                    <a:pt x="152" y="427"/>
                  </a:lnTo>
                  <a:lnTo>
                    <a:pt x="140" y="406"/>
                  </a:lnTo>
                  <a:lnTo>
                    <a:pt x="131" y="393"/>
                  </a:lnTo>
                  <a:lnTo>
                    <a:pt x="126" y="377"/>
                  </a:lnTo>
                  <a:lnTo>
                    <a:pt x="123" y="334"/>
                  </a:lnTo>
                  <a:lnTo>
                    <a:pt x="126" y="285"/>
                  </a:lnTo>
                  <a:lnTo>
                    <a:pt x="133" y="213"/>
                  </a:lnTo>
                  <a:lnTo>
                    <a:pt x="135" y="190"/>
                  </a:lnTo>
                  <a:lnTo>
                    <a:pt x="145" y="181"/>
                  </a:lnTo>
                  <a:lnTo>
                    <a:pt x="163" y="178"/>
                  </a:lnTo>
                  <a:lnTo>
                    <a:pt x="170" y="172"/>
                  </a:lnTo>
                  <a:lnTo>
                    <a:pt x="175" y="165"/>
                  </a:lnTo>
                  <a:lnTo>
                    <a:pt x="182" y="162"/>
                  </a:lnTo>
                  <a:lnTo>
                    <a:pt x="186" y="153"/>
                  </a:lnTo>
                  <a:lnTo>
                    <a:pt x="187" y="142"/>
                  </a:lnTo>
                  <a:lnTo>
                    <a:pt x="183" y="126"/>
                  </a:lnTo>
                  <a:lnTo>
                    <a:pt x="181" y="118"/>
                  </a:lnTo>
                  <a:lnTo>
                    <a:pt x="182" y="111"/>
                  </a:lnTo>
                  <a:lnTo>
                    <a:pt x="192" y="105"/>
                  </a:lnTo>
                  <a:lnTo>
                    <a:pt x="197" y="95"/>
                  </a:lnTo>
                  <a:lnTo>
                    <a:pt x="189" y="82"/>
                  </a:lnTo>
                  <a:lnTo>
                    <a:pt x="180" y="75"/>
                  </a:lnTo>
                  <a:lnTo>
                    <a:pt x="188" y="66"/>
                  </a:lnTo>
                  <a:lnTo>
                    <a:pt x="204" y="57"/>
                  </a:lnTo>
                  <a:lnTo>
                    <a:pt x="216" y="53"/>
                  </a:lnTo>
                  <a:lnTo>
                    <a:pt x="223" y="52"/>
                  </a:lnTo>
                  <a:lnTo>
                    <a:pt x="233" y="53"/>
                  </a:lnTo>
                  <a:lnTo>
                    <a:pt x="245" y="53"/>
                  </a:lnTo>
                  <a:lnTo>
                    <a:pt x="253" y="54"/>
                  </a:lnTo>
                  <a:lnTo>
                    <a:pt x="261" y="49"/>
                  </a:lnTo>
                  <a:lnTo>
                    <a:pt x="270" y="45"/>
                  </a:lnTo>
                  <a:lnTo>
                    <a:pt x="276" y="41"/>
                  </a:lnTo>
                  <a:lnTo>
                    <a:pt x="281" y="37"/>
                  </a:lnTo>
                  <a:lnTo>
                    <a:pt x="288" y="35"/>
                  </a:lnTo>
                  <a:lnTo>
                    <a:pt x="299" y="25"/>
                  </a:lnTo>
                  <a:lnTo>
                    <a:pt x="307" y="13"/>
                  </a:lnTo>
                  <a:lnTo>
                    <a:pt x="320" y="0"/>
                  </a:lnTo>
                  <a:lnTo>
                    <a:pt x="329" y="3"/>
                  </a:lnTo>
                  <a:lnTo>
                    <a:pt x="343" y="3"/>
                  </a:lnTo>
                  <a:lnTo>
                    <a:pt x="345" y="0"/>
                  </a:lnTo>
                  <a:lnTo>
                    <a:pt x="378" y="84"/>
                  </a:lnTo>
                  <a:lnTo>
                    <a:pt x="385" y="83"/>
                  </a:lnTo>
                  <a:close/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236680" y="2965320"/>
              <a:ext cx="982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362560" y="3013200"/>
              <a:ext cx="810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48520" y="4229280"/>
              <a:ext cx="78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f598d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40240" y="3657960"/>
              <a:ext cx="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031920" y="3287880"/>
              <a:ext cx="131256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         </a:t>
              </a:r>
              <a:r>
                <a:rPr b="1" lang="en-US" sz="1000" spc="-1" strike="noStrike">
                  <a:solidFill>
                    <a:srgbClr val="4f598d"/>
                  </a:solidFill>
                  <a:latin typeface="Arial"/>
                </a:rPr>
                <a:t>Közép-  magyarország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598d"/>
                  </a:solidFill>
                  <a:latin typeface="Arial"/>
                </a:rPr>
                <a:t>              </a:t>
              </a:r>
              <a:r>
                <a:rPr b="1" lang="en-US" sz="1000" spc="-1" strike="noStrike">
                  <a:solidFill>
                    <a:srgbClr val="4f598d"/>
                  </a:solidFill>
                  <a:latin typeface="Arial"/>
                </a:rPr>
                <a:t>régió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249720" y="4491360"/>
              <a:ext cx="7362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13120" y="3285000"/>
              <a:ext cx="21960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560" rIns="70560" tIns="35280" bIns="35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4f598d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2560" y="4520880"/>
              <a:ext cx="140040" cy="34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0200" rIns="70200" tIns="34920" bIns="3492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3833640" y="1931040"/>
              <a:ext cx="3327120" cy="2476800"/>
              <a:chOff x="3833640" y="1931040"/>
              <a:chExt cx="3327120" cy="2476800"/>
            </a:xfrm>
          </p:grpSpPr>
          <p:sp>
            <p:nvSpPr>
              <p:cNvPr id="332" name=""/>
              <p:cNvSpPr/>
              <p:nvPr/>
            </p:nvSpPr>
            <p:spPr>
              <a:xfrm>
                <a:off x="5302080" y="1931040"/>
                <a:ext cx="1858680" cy="1239840"/>
              </a:xfrm>
              <a:custGeom>
                <a:avLst/>
                <a:gdLst/>
                <a:ahLst/>
                <a:rect l="l" t="t" r="r" b="b"/>
                <a:pathLst>
                  <a:path w="2459" h="1657">
                    <a:moveTo>
                      <a:pt x="1408" y="83"/>
                    </a:moveTo>
                    <a:lnTo>
                      <a:pt x="1411" y="77"/>
                    </a:lnTo>
                    <a:lnTo>
                      <a:pt x="1419" y="76"/>
                    </a:lnTo>
                    <a:lnTo>
                      <a:pt x="1431" y="58"/>
                    </a:lnTo>
                    <a:lnTo>
                      <a:pt x="1452" y="47"/>
                    </a:lnTo>
                    <a:lnTo>
                      <a:pt x="1475" y="22"/>
                    </a:lnTo>
                    <a:lnTo>
                      <a:pt x="1521" y="0"/>
                    </a:lnTo>
                    <a:lnTo>
                      <a:pt x="1542" y="0"/>
                    </a:lnTo>
                    <a:lnTo>
                      <a:pt x="1554" y="10"/>
                    </a:lnTo>
                    <a:lnTo>
                      <a:pt x="1607" y="20"/>
                    </a:lnTo>
                    <a:lnTo>
                      <a:pt x="1612" y="26"/>
                    </a:lnTo>
                    <a:lnTo>
                      <a:pt x="1606" y="38"/>
                    </a:lnTo>
                    <a:lnTo>
                      <a:pt x="1596" y="48"/>
                    </a:lnTo>
                    <a:lnTo>
                      <a:pt x="1577" y="58"/>
                    </a:lnTo>
                    <a:lnTo>
                      <a:pt x="1570" y="66"/>
                    </a:lnTo>
                    <a:lnTo>
                      <a:pt x="1589" y="84"/>
                    </a:lnTo>
                    <a:lnTo>
                      <a:pt x="1599" y="101"/>
                    </a:lnTo>
                    <a:lnTo>
                      <a:pt x="1603" y="114"/>
                    </a:lnTo>
                    <a:lnTo>
                      <a:pt x="1600" y="121"/>
                    </a:lnTo>
                    <a:lnTo>
                      <a:pt x="1614" y="131"/>
                    </a:lnTo>
                    <a:lnTo>
                      <a:pt x="1632" y="126"/>
                    </a:lnTo>
                    <a:lnTo>
                      <a:pt x="1650" y="125"/>
                    </a:lnTo>
                    <a:lnTo>
                      <a:pt x="1667" y="119"/>
                    </a:lnTo>
                    <a:lnTo>
                      <a:pt x="1674" y="122"/>
                    </a:lnTo>
                    <a:lnTo>
                      <a:pt x="1668" y="194"/>
                    </a:lnTo>
                    <a:lnTo>
                      <a:pt x="1672" y="206"/>
                    </a:lnTo>
                    <a:lnTo>
                      <a:pt x="1693" y="226"/>
                    </a:lnTo>
                    <a:lnTo>
                      <a:pt x="1699" y="236"/>
                    </a:lnTo>
                    <a:lnTo>
                      <a:pt x="1699" y="281"/>
                    </a:lnTo>
                    <a:lnTo>
                      <a:pt x="1715" y="294"/>
                    </a:lnTo>
                    <a:lnTo>
                      <a:pt x="1725" y="308"/>
                    </a:lnTo>
                    <a:lnTo>
                      <a:pt x="1732" y="316"/>
                    </a:lnTo>
                    <a:lnTo>
                      <a:pt x="1739" y="344"/>
                    </a:lnTo>
                    <a:lnTo>
                      <a:pt x="1752" y="358"/>
                    </a:lnTo>
                    <a:lnTo>
                      <a:pt x="1765" y="362"/>
                    </a:lnTo>
                    <a:lnTo>
                      <a:pt x="1779" y="342"/>
                    </a:lnTo>
                    <a:lnTo>
                      <a:pt x="1792" y="340"/>
                    </a:lnTo>
                    <a:lnTo>
                      <a:pt x="1825" y="346"/>
                    </a:lnTo>
                    <a:lnTo>
                      <a:pt x="1847" y="346"/>
                    </a:lnTo>
                    <a:lnTo>
                      <a:pt x="1865" y="353"/>
                    </a:lnTo>
                    <a:lnTo>
                      <a:pt x="1881" y="344"/>
                    </a:lnTo>
                    <a:lnTo>
                      <a:pt x="1899" y="336"/>
                    </a:lnTo>
                    <a:lnTo>
                      <a:pt x="1912" y="335"/>
                    </a:lnTo>
                    <a:lnTo>
                      <a:pt x="1920" y="343"/>
                    </a:lnTo>
                    <a:lnTo>
                      <a:pt x="1923" y="355"/>
                    </a:lnTo>
                    <a:lnTo>
                      <a:pt x="1919" y="361"/>
                    </a:lnTo>
                    <a:lnTo>
                      <a:pt x="1939" y="365"/>
                    </a:lnTo>
                    <a:lnTo>
                      <a:pt x="1942" y="373"/>
                    </a:lnTo>
                    <a:lnTo>
                      <a:pt x="1941" y="386"/>
                    </a:lnTo>
                    <a:lnTo>
                      <a:pt x="1955" y="413"/>
                    </a:lnTo>
                    <a:lnTo>
                      <a:pt x="1978" y="421"/>
                    </a:lnTo>
                    <a:lnTo>
                      <a:pt x="1993" y="438"/>
                    </a:lnTo>
                    <a:lnTo>
                      <a:pt x="2010" y="448"/>
                    </a:lnTo>
                    <a:lnTo>
                      <a:pt x="2023" y="445"/>
                    </a:lnTo>
                    <a:lnTo>
                      <a:pt x="2027" y="457"/>
                    </a:lnTo>
                    <a:lnTo>
                      <a:pt x="2007" y="473"/>
                    </a:lnTo>
                    <a:lnTo>
                      <a:pt x="2010" y="486"/>
                    </a:lnTo>
                    <a:lnTo>
                      <a:pt x="2022" y="511"/>
                    </a:lnTo>
                    <a:lnTo>
                      <a:pt x="2028" y="522"/>
                    </a:lnTo>
                    <a:lnTo>
                      <a:pt x="2039" y="532"/>
                    </a:lnTo>
                    <a:lnTo>
                      <a:pt x="2050" y="547"/>
                    </a:lnTo>
                    <a:lnTo>
                      <a:pt x="2045" y="558"/>
                    </a:lnTo>
                    <a:lnTo>
                      <a:pt x="2046" y="571"/>
                    </a:lnTo>
                    <a:lnTo>
                      <a:pt x="2047" y="583"/>
                    </a:lnTo>
                    <a:lnTo>
                      <a:pt x="2045" y="594"/>
                    </a:lnTo>
                    <a:lnTo>
                      <a:pt x="2051" y="605"/>
                    </a:lnTo>
                    <a:lnTo>
                      <a:pt x="2046" y="617"/>
                    </a:lnTo>
                    <a:lnTo>
                      <a:pt x="2045" y="620"/>
                    </a:lnTo>
                    <a:lnTo>
                      <a:pt x="2045" y="626"/>
                    </a:lnTo>
                    <a:lnTo>
                      <a:pt x="2049" y="628"/>
                    </a:lnTo>
                    <a:lnTo>
                      <a:pt x="2064" y="659"/>
                    </a:lnTo>
                    <a:lnTo>
                      <a:pt x="2070" y="659"/>
                    </a:lnTo>
                    <a:lnTo>
                      <a:pt x="2075" y="655"/>
                    </a:lnTo>
                    <a:lnTo>
                      <a:pt x="2077" y="640"/>
                    </a:lnTo>
                    <a:lnTo>
                      <a:pt x="2087" y="636"/>
                    </a:lnTo>
                    <a:lnTo>
                      <a:pt x="2099" y="646"/>
                    </a:lnTo>
                    <a:lnTo>
                      <a:pt x="2113" y="653"/>
                    </a:lnTo>
                    <a:lnTo>
                      <a:pt x="2152" y="660"/>
                    </a:lnTo>
                    <a:lnTo>
                      <a:pt x="2163" y="656"/>
                    </a:lnTo>
                    <a:lnTo>
                      <a:pt x="2176" y="642"/>
                    </a:lnTo>
                    <a:lnTo>
                      <a:pt x="2189" y="640"/>
                    </a:lnTo>
                    <a:lnTo>
                      <a:pt x="2203" y="623"/>
                    </a:lnTo>
                    <a:lnTo>
                      <a:pt x="2219" y="617"/>
                    </a:lnTo>
                    <a:lnTo>
                      <a:pt x="2225" y="610"/>
                    </a:lnTo>
                    <a:lnTo>
                      <a:pt x="2236" y="613"/>
                    </a:lnTo>
                    <a:lnTo>
                      <a:pt x="2247" y="607"/>
                    </a:lnTo>
                    <a:lnTo>
                      <a:pt x="2255" y="606"/>
                    </a:lnTo>
                    <a:lnTo>
                      <a:pt x="2267" y="611"/>
                    </a:lnTo>
                    <a:lnTo>
                      <a:pt x="2274" y="620"/>
                    </a:lnTo>
                    <a:lnTo>
                      <a:pt x="2281" y="622"/>
                    </a:lnTo>
                    <a:lnTo>
                      <a:pt x="2289" y="613"/>
                    </a:lnTo>
                    <a:lnTo>
                      <a:pt x="2290" y="606"/>
                    </a:lnTo>
                    <a:lnTo>
                      <a:pt x="2304" y="602"/>
                    </a:lnTo>
                    <a:lnTo>
                      <a:pt x="2331" y="605"/>
                    </a:lnTo>
                    <a:lnTo>
                      <a:pt x="2332" y="613"/>
                    </a:lnTo>
                    <a:lnTo>
                      <a:pt x="2328" y="626"/>
                    </a:lnTo>
                    <a:lnTo>
                      <a:pt x="2328" y="631"/>
                    </a:lnTo>
                    <a:lnTo>
                      <a:pt x="2339" y="635"/>
                    </a:lnTo>
                    <a:lnTo>
                      <a:pt x="2341" y="617"/>
                    </a:lnTo>
                    <a:lnTo>
                      <a:pt x="2345" y="611"/>
                    </a:lnTo>
                    <a:lnTo>
                      <a:pt x="2358" y="611"/>
                    </a:lnTo>
                    <a:lnTo>
                      <a:pt x="2365" y="619"/>
                    </a:lnTo>
                    <a:lnTo>
                      <a:pt x="2370" y="653"/>
                    </a:lnTo>
                    <a:lnTo>
                      <a:pt x="2369" y="658"/>
                    </a:lnTo>
                    <a:lnTo>
                      <a:pt x="2379" y="676"/>
                    </a:lnTo>
                    <a:lnTo>
                      <a:pt x="2386" y="684"/>
                    </a:lnTo>
                    <a:lnTo>
                      <a:pt x="2394" y="685"/>
                    </a:lnTo>
                    <a:lnTo>
                      <a:pt x="2400" y="690"/>
                    </a:lnTo>
                    <a:lnTo>
                      <a:pt x="2416" y="734"/>
                    </a:lnTo>
                    <a:lnTo>
                      <a:pt x="2421" y="738"/>
                    </a:lnTo>
                    <a:lnTo>
                      <a:pt x="2427" y="745"/>
                    </a:lnTo>
                    <a:lnTo>
                      <a:pt x="2436" y="757"/>
                    </a:lnTo>
                    <a:lnTo>
                      <a:pt x="2435" y="782"/>
                    </a:lnTo>
                    <a:lnTo>
                      <a:pt x="2430" y="793"/>
                    </a:lnTo>
                    <a:lnTo>
                      <a:pt x="2413" y="806"/>
                    </a:lnTo>
                    <a:lnTo>
                      <a:pt x="2412" y="820"/>
                    </a:lnTo>
                    <a:lnTo>
                      <a:pt x="2406" y="830"/>
                    </a:lnTo>
                    <a:lnTo>
                      <a:pt x="2392" y="844"/>
                    </a:lnTo>
                    <a:lnTo>
                      <a:pt x="2385" y="854"/>
                    </a:lnTo>
                    <a:lnTo>
                      <a:pt x="2386" y="868"/>
                    </a:lnTo>
                    <a:lnTo>
                      <a:pt x="2394" y="878"/>
                    </a:lnTo>
                    <a:lnTo>
                      <a:pt x="2413" y="888"/>
                    </a:lnTo>
                    <a:lnTo>
                      <a:pt x="2423" y="900"/>
                    </a:lnTo>
                    <a:lnTo>
                      <a:pt x="2434" y="906"/>
                    </a:lnTo>
                    <a:lnTo>
                      <a:pt x="2442" y="911"/>
                    </a:lnTo>
                    <a:lnTo>
                      <a:pt x="2448" y="917"/>
                    </a:lnTo>
                    <a:lnTo>
                      <a:pt x="2459" y="925"/>
                    </a:lnTo>
                    <a:lnTo>
                      <a:pt x="2443" y="934"/>
                    </a:lnTo>
                    <a:lnTo>
                      <a:pt x="2431" y="949"/>
                    </a:lnTo>
                    <a:lnTo>
                      <a:pt x="2419" y="966"/>
                    </a:lnTo>
                    <a:lnTo>
                      <a:pt x="2410" y="984"/>
                    </a:lnTo>
                    <a:lnTo>
                      <a:pt x="2401" y="1003"/>
                    </a:lnTo>
                    <a:lnTo>
                      <a:pt x="2397" y="1018"/>
                    </a:lnTo>
                    <a:lnTo>
                      <a:pt x="2377" y="1027"/>
                    </a:lnTo>
                    <a:lnTo>
                      <a:pt x="2352" y="1038"/>
                    </a:lnTo>
                    <a:lnTo>
                      <a:pt x="2334" y="1044"/>
                    </a:lnTo>
                    <a:lnTo>
                      <a:pt x="2320" y="1055"/>
                    </a:lnTo>
                    <a:lnTo>
                      <a:pt x="2308" y="1062"/>
                    </a:lnTo>
                    <a:lnTo>
                      <a:pt x="2296" y="1061"/>
                    </a:lnTo>
                    <a:lnTo>
                      <a:pt x="2286" y="1062"/>
                    </a:lnTo>
                    <a:lnTo>
                      <a:pt x="2280" y="1066"/>
                    </a:lnTo>
                    <a:lnTo>
                      <a:pt x="2274" y="1081"/>
                    </a:lnTo>
                    <a:lnTo>
                      <a:pt x="2274" y="1105"/>
                    </a:lnTo>
                    <a:lnTo>
                      <a:pt x="2281" y="1122"/>
                    </a:lnTo>
                    <a:lnTo>
                      <a:pt x="2292" y="1142"/>
                    </a:lnTo>
                    <a:lnTo>
                      <a:pt x="2293" y="1151"/>
                    </a:lnTo>
                    <a:lnTo>
                      <a:pt x="2285" y="1158"/>
                    </a:lnTo>
                    <a:lnTo>
                      <a:pt x="2275" y="1165"/>
                    </a:lnTo>
                    <a:lnTo>
                      <a:pt x="2265" y="1170"/>
                    </a:lnTo>
                    <a:lnTo>
                      <a:pt x="2254" y="1171"/>
                    </a:lnTo>
                    <a:lnTo>
                      <a:pt x="2243" y="1169"/>
                    </a:lnTo>
                    <a:lnTo>
                      <a:pt x="2218" y="1169"/>
                    </a:lnTo>
                    <a:lnTo>
                      <a:pt x="2208" y="1175"/>
                    </a:lnTo>
                    <a:lnTo>
                      <a:pt x="2200" y="1183"/>
                    </a:lnTo>
                    <a:lnTo>
                      <a:pt x="2188" y="1198"/>
                    </a:lnTo>
                    <a:lnTo>
                      <a:pt x="2181" y="1211"/>
                    </a:lnTo>
                    <a:lnTo>
                      <a:pt x="2176" y="1226"/>
                    </a:lnTo>
                    <a:lnTo>
                      <a:pt x="2167" y="1246"/>
                    </a:lnTo>
                    <a:lnTo>
                      <a:pt x="2154" y="1261"/>
                    </a:lnTo>
                    <a:lnTo>
                      <a:pt x="2136" y="1277"/>
                    </a:lnTo>
                    <a:lnTo>
                      <a:pt x="2121" y="1285"/>
                    </a:lnTo>
                    <a:lnTo>
                      <a:pt x="2106" y="1286"/>
                    </a:lnTo>
                    <a:lnTo>
                      <a:pt x="2077" y="1294"/>
                    </a:lnTo>
                    <a:lnTo>
                      <a:pt x="2055" y="1298"/>
                    </a:lnTo>
                    <a:lnTo>
                      <a:pt x="2031" y="1303"/>
                    </a:lnTo>
                    <a:lnTo>
                      <a:pt x="2009" y="1303"/>
                    </a:lnTo>
                    <a:lnTo>
                      <a:pt x="1986" y="1294"/>
                    </a:lnTo>
                    <a:lnTo>
                      <a:pt x="1961" y="1273"/>
                    </a:lnTo>
                    <a:lnTo>
                      <a:pt x="1939" y="1259"/>
                    </a:lnTo>
                    <a:lnTo>
                      <a:pt x="1927" y="1248"/>
                    </a:lnTo>
                    <a:lnTo>
                      <a:pt x="1901" y="1235"/>
                    </a:lnTo>
                    <a:lnTo>
                      <a:pt x="1882" y="1229"/>
                    </a:lnTo>
                    <a:lnTo>
                      <a:pt x="1851" y="1236"/>
                    </a:lnTo>
                    <a:lnTo>
                      <a:pt x="1845" y="1241"/>
                    </a:lnTo>
                    <a:lnTo>
                      <a:pt x="1837" y="1252"/>
                    </a:lnTo>
                    <a:lnTo>
                      <a:pt x="1833" y="1271"/>
                    </a:lnTo>
                    <a:lnTo>
                      <a:pt x="1827" y="1296"/>
                    </a:lnTo>
                    <a:lnTo>
                      <a:pt x="1822" y="1328"/>
                    </a:lnTo>
                    <a:lnTo>
                      <a:pt x="1818" y="1343"/>
                    </a:lnTo>
                    <a:lnTo>
                      <a:pt x="1818" y="1354"/>
                    </a:lnTo>
                    <a:lnTo>
                      <a:pt x="1812" y="1356"/>
                    </a:lnTo>
                    <a:lnTo>
                      <a:pt x="1798" y="1355"/>
                    </a:lnTo>
                    <a:lnTo>
                      <a:pt x="1779" y="1349"/>
                    </a:lnTo>
                    <a:lnTo>
                      <a:pt x="1765" y="1349"/>
                    </a:lnTo>
                    <a:lnTo>
                      <a:pt x="1745" y="1346"/>
                    </a:lnTo>
                    <a:lnTo>
                      <a:pt x="1726" y="1342"/>
                    </a:lnTo>
                    <a:lnTo>
                      <a:pt x="1708" y="1333"/>
                    </a:lnTo>
                    <a:lnTo>
                      <a:pt x="1701" y="1328"/>
                    </a:lnTo>
                    <a:lnTo>
                      <a:pt x="1693" y="1319"/>
                    </a:lnTo>
                    <a:lnTo>
                      <a:pt x="1689" y="1312"/>
                    </a:lnTo>
                    <a:lnTo>
                      <a:pt x="1685" y="1296"/>
                    </a:lnTo>
                    <a:lnTo>
                      <a:pt x="1683" y="1291"/>
                    </a:lnTo>
                    <a:lnTo>
                      <a:pt x="1679" y="1289"/>
                    </a:lnTo>
                    <a:lnTo>
                      <a:pt x="1675" y="1292"/>
                    </a:lnTo>
                    <a:lnTo>
                      <a:pt x="1673" y="1298"/>
                    </a:lnTo>
                    <a:lnTo>
                      <a:pt x="1672" y="1321"/>
                    </a:lnTo>
                    <a:lnTo>
                      <a:pt x="1672" y="1340"/>
                    </a:lnTo>
                    <a:lnTo>
                      <a:pt x="1668" y="1354"/>
                    </a:lnTo>
                    <a:lnTo>
                      <a:pt x="1654" y="1367"/>
                    </a:lnTo>
                    <a:lnTo>
                      <a:pt x="1647" y="1367"/>
                    </a:lnTo>
                    <a:lnTo>
                      <a:pt x="1635" y="1363"/>
                    </a:lnTo>
                    <a:lnTo>
                      <a:pt x="1621" y="1370"/>
                    </a:lnTo>
                    <a:lnTo>
                      <a:pt x="1614" y="1376"/>
                    </a:lnTo>
                    <a:lnTo>
                      <a:pt x="1608" y="1388"/>
                    </a:lnTo>
                    <a:lnTo>
                      <a:pt x="1602" y="1409"/>
                    </a:lnTo>
                    <a:lnTo>
                      <a:pt x="1595" y="1428"/>
                    </a:lnTo>
                    <a:lnTo>
                      <a:pt x="1582" y="1438"/>
                    </a:lnTo>
                    <a:lnTo>
                      <a:pt x="1571" y="1447"/>
                    </a:lnTo>
                    <a:lnTo>
                      <a:pt x="1561" y="1457"/>
                    </a:lnTo>
                    <a:lnTo>
                      <a:pt x="1552" y="1475"/>
                    </a:lnTo>
                    <a:lnTo>
                      <a:pt x="1545" y="1496"/>
                    </a:lnTo>
                    <a:lnTo>
                      <a:pt x="1531" y="1520"/>
                    </a:lnTo>
                    <a:lnTo>
                      <a:pt x="1518" y="1542"/>
                    </a:lnTo>
                    <a:lnTo>
                      <a:pt x="1507" y="1555"/>
                    </a:lnTo>
                    <a:lnTo>
                      <a:pt x="1504" y="1564"/>
                    </a:lnTo>
                    <a:lnTo>
                      <a:pt x="1498" y="1579"/>
                    </a:lnTo>
                    <a:lnTo>
                      <a:pt x="1495" y="1596"/>
                    </a:lnTo>
                    <a:lnTo>
                      <a:pt x="1489" y="1634"/>
                    </a:lnTo>
                    <a:lnTo>
                      <a:pt x="1480" y="1649"/>
                    </a:lnTo>
                    <a:lnTo>
                      <a:pt x="1469" y="1654"/>
                    </a:lnTo>
                    <a:lnTo>
                      <a:pt x="1456" y="1657"/>
                    </a:lnTo>
                    <a:lnTo>
                      <a:pt x="1446" y="1655"/>
                    </a:lnTo>
                    <a:lnTo>
                      <a:pt x="1435" y="1651"/>
                    </a:lnTo>
                    <a:lnTo>
                      <a:pt x="1426" y="1651"/>
                    </a:lnTo>
                    <a:lnTo>
                      <a:pt x="1419" y="1651"/>
                    </a:lnTo>
                    <a:lnTo>
                      <a:pt x="1410" y="1656"/>
                    </a:lnTo>
                    <a:lnTo>
                      <a:pt x="1397" y="1603"/>
                    </a:lnTo>
                    <a:lnTo>
                      <a:pt x="1387" y="1604"/>
                    </a:lnTo>
                    <a:lnTo>
                      <a:pt x="1390" y="1588"/>
                    </a:lnTo>
                    <a:lnTo>
                      <a:pt x="1369" y="1549"/>
                    </a:lnTo>
                    <a:lnTo>
                      <a:pt x="1371" y="1522"/>
                    </a:lnTo>
                    <a:lnTo>
                      <a:pt x="1365" y="1514"/>
                    </a:lnTo>
                    <a:lnTo>
                      <a:pt x="1369" y="1494"/>
                    </a:lnTo>
                    <a:lnTo>
                      <a:pt x="1353" y="1486"/>
                    </a:lnTo>
                    <a:lnTo>
                      <a:pt x="1330" y="1465"/>
                    </a:lnTo>
                    <a:lnTo>
                      <a:pt x="1312" y="1471"/>
                    </a:lnTo>
                    <a:lnTo>
                      <a:pt x="1303" y="1505"/>
                    </a:lnTo>
                    <a:lnTo>
                      <a:pt x="1290" y="1534"/>
                    </a:lnTo>
                    <a:lnTo>
                      <a:pt x="1283" y="1543"/>
                    </a:lnTo>
                    <a:lnTo>
                      <a:pt x="1265" y="1553"/>
                    </a:lnTo>
                    <a:lnTo>
                      <a:pt x="1261" y="1559"/>
                    </a:lnTo>
                    <a:lnTo>
                      <a:pt x="1269" y="1580"/>
                    </a:lnTo>
                    <a:lnTo>
                      <a:pt x="1255" y="1579"/>
                    </a:lnTo>
                    <a:lnTo>
                      <a:pt x="1251" y="1571"/>
                    </a:lnTo>
                    <a:lnTo>
                      <a:pt x="1253" y="1559"/>
                    </a:lnTo>
                    <a:lnTo>
                      <a:pt x="1234" y="1547"/>
                    </a:lnTo>
                    <a:lnTo>
                      <a:pt x="1230" y="1532"/>
                    </a:lnTo>
                    <a:lnTo>
                      <a:pt x="1236" y="1512"/>
                    </a:lnTo>
                    <a:lnTo>
                      <a:pt x="1246" y="1498"/>
                    </a:lnTo>
                    <a:lnTo>
                      <a:pt x="1225" y="1488"/>
                    </a:lnTo>
                    <a:lnTo>
                      <a:pt x="1212" y="1466"/>
                    </a:lnTo>
                    <a:lnTo>
                      <a:pt x="1195" y="1472"/>
                    </a:lnTo>
                    <a:lnTo>
                      <a:pt x="1203" y="1416"/>
                    </a:lnTo>
                    <a:lnTo>
                      <a:pt x="1169" y="1405"/>
                    </a:lnTo>
                    <a:lnTo>
                      <a:pt x="1161" y="1391"/>
                    </a:lnTo>
                    <a:lnTo>
                      <a:pt x="1150" y="1391"/>
                    </a:lnTo>
                    <a:lnTo>
                      <a:pt x="1147" y="1374"/>
                    </a:lnTo>
                    <a:lnTo>
                      <a:pt x="1135" y="1370"/>
                    </a:lnTo>
                    <a:lnTo>
                      <a:pt x="1134" y="1362"/>
                    </a:lnTo>
                    <a:lnTo>
                      <a:pt x="1128" y="1369"/>
                    </a:lnTo>
                    <a:lnTo>
                      <a:pt x="1125" y="1358"/>
                    </a:lnTo>
                    <a:lnTo>
                      <a:pt x="1068" y="1367"/>
                    </a:lnTo>
                    <a:lnTo>
                      <a:pt x="1066" y="1374"/>
                    </a:lnTo>
                    <a:lnTo>
                      <a:pt x="1069" y="1402"/>
                    </a:lnTo>
                    <a:lnTo>
                      <a:pt x="1066" y="1418"/>
                    </a:lnTo>
                    <a:lnTo>
                      <a:pt x="1032" y="1453"/>
                    </a:lnTo>
                    <a:lnTo>
                      <a:pt x="1026" y="1469"/>
                    </a:lnTo>
                    <a:lnTo>
                      <a:pt x="1013" y="1476"/>
                    </a:lnTo>
                    <a:lnTo>
                      <a:pt x="1009" y="1480"/>
                    </a:lnTo>
                    <a:lnTo>
                      <a:pt x="973" y="1474"/>
                    </a:lnTo>
                    <a:lnTo>
                      <a:pt x="964" y="1470"/>
                    </a:lnTo>
                    <a:lnTo>
                      <a:pt x="955" y="1456"/>
                    </a:lnTo>
                    <a:lnTo>
                      <a:pt x="906" y="1446"/>
                    </a:lnTo>
                    <a:lnTo>
                      <a:pt x="913" y="1426"/>
                    </a:lnTo>
                    <a:lnTo>
                      <a:pt x="915" y="1408"/>
                    </a:lnTo>
                    <a:lnTo>
                      <a:pt x="852" y="1405"/>
                    </a:lnTo>
                    <a:lnTo>
                      <a:pt x="847" y="1404"/>
                    </a:lnTo>
                    <a:lnTo>
                      <a:pt x="831" y="1369"/>
                    </a:lnTo>
                    <a:lnTo>
                      <a:pt x="815" y="1362"/>
                    </a:lnTo>
                    <a:lnTo>
                      <a:pt x="805" y="1361"/>
                    </a:lnTo>
                    <a:lnTo>
                      <a:pt x="799" y="1375"/>
                    </a:lnTo>
                    <a:lnTo>
                      <a:pt x="774" y="1372"/>
                    </a:lnTo>
                    <a:lnTo>
                      <a:pt x="729" y="1374"/>
                    </a:lnTo>
                    <a:lnTo>
                      <a:pt x="720" y="1364"/>
                    </a:lnTo>
                    <a:lnTo>
                      <a:pt x="724" y="1344"/>
                    </a:lnTo>
                    <a:lnTo>
                      <a:pt x="721" y="1337"/>
                    </a:lnTo>
                    <a:lnTo>
                      <a:pt x="681" y="1289"/>
                    </a:lnTo>
                    <a:lnTo>
                      <a:pt x="611" y="1246"/>
                    </a:lnTo>
                    <a:lnTo>
                      <a:pt x="615" y="1211"/>
                    </a:lnTo>
                    <a:lnTo>
                      <a:pt x="607" y="1186"/>
                    </a:lnTo>
                    <a:lnTo>
                      <a:pt x="617" y="1135"/>
                    </a:lnTo>
                    <a:lnTo>
                      <a:pt x="618" y="1102"/>
                    </a:lnTo>
                    <a:lnTo>
                      <a:pt x="623" y="1086"/>
                    </a:lnTo>
                    <a:lnTo>
                      <a:pt x="634" y="1062"/>
                    </a:lnTo>
                    <a:lnTo>
                      <a:pt x="640" y="1060"/>
                    </a:lnTo>
                    <a:lnTo>
                      <a:pt x="624" y="1055"/>
                    </a:lnTo>
                    <a:lnTo>
                      <a:pt x="628" y="1040"/>
                    </a:lnTo>
                    <a:lnTo>
                      <a:pt x="622" y="1020"/>
                    </a:lnTo>
                    <a:lnTo>
                      <a:pt x="636" y="982"/>
                    </a:lnTo>
                    <a:lnTo>
                      <a:pt x="634" y="977"/>
                    </a:lnTo>
                    <a:lnTo>
                      <a:pt x="583" y="958"/>
                    </a:lnTo>
                    <a:lnTo>
                      <a:pt x="574" y="970"/>
                    </a:lnTo>
                    <a:lnTo>
                      <a:pt x="559" y="966"/>
                    </a:lnTo>
                    <a:lnTo>
                      <a:pt x="557" y="983"/>
                    </a:lnTo>
                    <a:lnTo>
                      <a:pt x="546" y="985"/>
                    </a:lnTo>
                    <a:lnTo>
                      <a:pt x="456" y="977"/>
                    </a:lnTo>
                    <a:lnTo>
                      <a:pt x="455" y="985"/>
                    </a:lnTo>
                    <a:lnTo>
                      <a:pt x="437" y="989"/>
                    </a:lnTo>
                    <a:lnTo>
                      <a:pt x="396" y="988"/>
                    </a:lnTo>
                    <a:lnTo>
                      <a:pt x="376" y="995"/>
                    </a:lnTo>
                    <a:lnTo>
                      <a:pt x="353" y="982"/>
                    </a:lnTo>
                    <a:lnTo>
                      <a:pt x="336" y="991"/>
                    </a:lnTo>
                    <a:lnTo>
                      <a:pt x="317" y="995"/>
                    </a:lnTo>
                    <a:lnTo>
                      <a:pt x="303" y="998"/>
                    </a:lnTo>
                    <a:lnTo>
                      <a:pt x="291" y="1010"/>
                    </a:lnTo>
                    <a:lnTo>
                      <a:pt x="253" y="1018"/>
                    </a:lnTo>
                    <a:lnTo>
                      <a:pt x="244" y="988"/>
                    </a:lnTo>
                    <a:lnTo>
                      <a:pt x="204" y="967"/>
                    </a:lnTo>
                    <a:lnTo>
                      <a:pt x="190" y="953"/>
                    </a:lnTo>
                    <a:lnTo>
                      <a:pt x="160" y="932"/>
                    </a:lnTo>
                    <a:lnTo>
                      <a:pt x="148" y="919"/>
                    </a:lnTo>
                    <a:lnTo>
                      <a:pt x="130" y="919"/>
                    </a:lnTo>
                    <a:lnTo>
                      <a:pt x="118" y="911"/>
                    </a:lnTo>
                    <a:lnTo>
                      <a:pt x="87" y="907"/>
                    </a:lnTo>
                    <a:lnTo>
                      <a:pt x="76" y="926"/>
                    </a:lnTo>
                    <a:lnTo>
                      <a:pt x="66" y="914"/>
                    </a:lnTo>
                    <a:lnTo>
                      <a:pt x="54" y="920"/>
                    </a:lnTo>
                    <a:lnTo>
                      <a:pt x="40" y="916"/>
                    </a:lnTo>
                    <a:lnTo>
                      <a:pt x="35" y="917"/>
                    </a:lnTo>
                    <a:lnTo>
                      <a:pt x="34" y="917"/>
                    </a:lnTo>
                    <a:lnTo>
                      <a:pt x="35" y="904"/>
                    </a:lnTo>
                    <a:lnTo>
                      <a:pt x="0" y="841"/>
                    </a:lnTo>
                    <a:lnTo>
                      <a:pt x="1" y="835"/>
                    </a:lnTo>
                    <a:lnTo>
                      <a:pt x="13" y="828"/>
                    </a:lnTo>
                    <a:lnTo>
                      <a:pt x="19" y="811"/>
                    </a:lnTo>
                    <a:lnTo>
                      <a:pt x="27" y="811"/>
                    </a:lnTo>
                    <a:lnTo>
                      <a:pt x="64" y="763"/>
                    </a:lnTo>
                    <a:lnTo>
                      <a:pt x="64" y="757"/>
                    </a:lnTo>
                    <a:lnTo>
                      <a:pt x="67" y="751"/>
                    </a:lnTo>
                    <a:lnTo>
                      <a:pt x="87" y="769"/>
                    </a:lnTo>
                    <a:lnTo>
                      <a:pt x="101" y="761"/>
                    </a:lnTo>
                    <a:lnTo>
                      <a:pt x="112" y="763"/>
                    </a:lnTo>
                    <a:lnTo>
                      <a:pt x="117" y="770"/>
                    </a:lnTo>
                    <a:lnTo>
                      <a:pt x="118" y="796"/>
                    </a:lnTo>
                    <a:lnTo>
                      <a:pt x="129" y="791"/>
                    </a:lnTo>
                    <a:lnTo>
                      <a:pt x="181" y="796"/>
                    </a:lnTo>
                    <a:lnTo>
                      <a:pt x="191" y="792"/>
                    </a:lnTo>
                    <a:lnTo>
                      <a:pt x="193" y="785"/>
                    </a:lnTo>
                    <a:lnTo>
                      <a:pt x="191" y="773"/>
                    </a:lnTo>
                    <a:lnTo>
                      <a:pt x="192" y="763"/>
                    </a:lnTo>
                    <a:lnTo>
                      <a:pt x="217" y="739"/>
                    </a:lnTo>
                    <a:lnTo>
                      <a:pt x="237" y="731"/>
                    </a:lnTo>
                    <a:lnTo>
                      <a:pt x="238" y="754"/>
                    </a:lnTo>
                    <a:lnTo>
                      <a:pt x="251" y="769"/>
                    </a:lnTo>
                    <a:lnTo>
                      <a:pt x="268" y="780"/>
                    </a:lnTo>
                    <a:lnTo>
                      <a:pt x="298" y="788"/>
                    </a:lnTo>
                    <a:lnTo>
                      <a:pt x="336" y="798"/>
                    </a:lnTo>
                    <a:lnTo>
                      <a:pt x="351" y="796"/>
                    </a:lnTo>
                    <a:lnTo>
                      <a:pt x="366" y="782"/>
                    </a:lnTo>
                    <a:lnTo>
                      <a:pt x="430" y="782"/>
                    </a:lnTo>
                    <a:lnTo>
                      <a:pt x="443" y="780"/>
                    </a:lnTo>
                    <a:lnTo>
                      <a:pt x="441" y="761"/>
                    </a:lnTo>
                    <a:lnTo>
                      <a:pt x="443" y="749"/>
                    </a:lnTo>
                    <a:lnTo>
                      <a:pt x="451" y="748"/>
                    </a:lnTo>
                    <a:lnTo>
                      <a:pt x="462" y="758"/>
                    </a:lnTo>
                    <a:lnTo>
                      <a:pt x="471" y="760"/>
                    </a:lnTo>
                    <a:lnTo>
                      <a:pt x="475" y="756"/>
                    </a:lnTo>
                    <a:lnTo>
                      <a:pt x="480" y="726"/>
                    </a:lnTo>
                    <a:lnTo>
                      <a:pt x="478" y="709"/>
                    </a:lnTo>
                    <a:lnTo>
                      <a:pt x="469" y="679"/>
                    </a:lnTo>
                    <a:lnTo>
                      <a:pt x="472" y="674"/>
                    </a:lnTo>
                    <a:lnTo>
                      <a:pt x="493" y="670"/>
                    </a:lnTo>
                    <a:lnTo>
                      <a:pt x="493" y="666"/>
                    </a:lnTo>
                    <a:lnTo>
                      <a:pt x="483" y="654"/>
                    </a:lnTo>
                    <a:lnTo>
                      <a:pt x="465" y="641"/>
                    </a:lnTo>
                    <a:lnTo>
                      <a:pt x="451" y="624"/>
                    </a:lnTo>
                    <a:lnTo>
                      <a:pt x="447" y="607"/>
                    </a:lnTo>
                    <a:lnTo>
                      <a:pt x="450" y="599"/>
                    </a:lnTo>
                    <a:lnTo>
                      <a:pt x="462" y="588"/>
                    </a:lnTo>
                    <a:lnTo>
                      <a:pt x="481" y="540"/>
                    </a:lnTo>
                    <a:lnTo>
                      <a:pt x="495" y="533"/>
                    </a:lnTo>
                    <a:lnTo>
                      <a:pt x="511" y="508"/>
                    </a:lnTo>
                    <a:lnTo>
                      <a:pt x="531" y="504"/>
                    </a:lnTo>
                    <a:lnTo>
                      <a:pt x="539" y="491"/>
                    </a:lnTo>
                    <a:lnTo>
                      <a:pt x="583" y="494"/>
                    </a:lnTo>
                    <a:lnTo>
                      <a:pt x="598" y="493"/>
                    </a:lnTo>
                    <a:lnTo>
                      <a:pt x="617" y="473"/>
                    </a:lnTo>
                    <a:lnTo>
                      <a:pt x="641" y="467"/>
                    </a:lnTo>
                    <a:lnTo>
                      <a:pt x="643" y="455"/>
                    </a:lnTo>
                    <a:lnTo>
                      <a:pt x="663" y="455"/>
                    </a:lnTo>
                    <a:lnTo>
                      <a:pt x="675" y="440"/>
                    </a:lnTo>
                    <a:lnTo>
                      <a:pt x="702" y="460"/>
                    </a:lnTo>
                    <a:lnTo>
                      <a:pt x="718" y="463"/>
                    </a:lnTo>
                    <a:lnTo>
                      <a:pt x="760" y="475"/>
                    </a:lnTo>
                    <a:lnTo>
                      <a:pt x="773" y="472"/>
                    </a:lnTo>
                    <a:lnTo>
                      <a:pt x="799" y="476"/>
                    </a:lnTo>
                    <a:lnTo>
                      <a:pt x="822" y="467"/>
                    </a:lnTo>
                    <a:lnTo>
                      <a:pt x="862" y="470"/>
                    </a:lnTo>
                    <a:lnTo>
                      <a:pt x="868" y="463"/>
                    </a:lnTo>
                    <a:lnTo>
                      <a:pt x="869" y="449"/>
                    </a:lnTo>
                    <a:lnTo>
                      <a:pt x="873" y="449"/>
                    </a:lnTo>
                    <a:lnTo>
                      <a:pt x="874" y="457"/>
                    </a:lnTo>
                    <a:lnTo>
                      <a:pt x="885" y="440"/>
                    </a:lnTo>
                    <a:lnTo>
                      <a:pt x="901" y="436"/>
                    </a:lnTo>
                    <a:lnTo>
                      <a:pt x="907" y="442"/>
                    </a:lnTo>
                    <a:lnTo>
                      <a:pt x="911" y="444"/>
                    </a:lnTo>
                    <a:lnTo>
                      <a:pt x="907" y="454"/>
                    </a:lnTo>
                    <a:lnTo>
                      <a:pt x="918" y="455"/>
                    </a:lnTo>
                    <a:lnTo>
                      <a:pt x="924" y="436"/>
                    </a:lnTo>
                    <a:lnTo>
                      <a:pt x="933" y="433"/>
                    </a:lnTo>
                    <a:lnTo>
                      <a:pt x="947" y="442"/>
                    </a:lnTo>
                    <a:lnTo>
                      <a:pt x="954" y="439"/>
                    </a:lnTo>
                    <a:lnTo>
                      <a:pt x="969" y="425"/>
                    </a:lnTo>
                    <a:lnTo>
                      <a:pt x="972" y="409"/>
                    </a:lnTo>
                    <a:lnTo>
                      <a:pt x="983" y="400"/>
                    </a:lnTo>
                    <a:lnTo>
                      <a:pt x="1014" y="395"/>
                    </a:lnTo>
                    <a:lnTo>
                      <a:pt x="1042" y="368"/>
                    </a:lnTo>
                    <a:lnTo>
                      <a:pt x="1062" y="376"/>
                    </a:lnTo>
                    <a:lnTo>
                      <a:pt x="1074" y="376"/>
                    </a:lnTo>
                    <a:lnTo>
                      <a:pt x="1103" y="361"/>
                    </a:lnTo>
                    <a:lnTo>
                      <a:pt x="1108" y="360"/>
                    </a:lnTo>
                    <a:lnTo>
                      <a:pt x="1134" y="371"/>
                    </a:lnTo>
                    <a:lnTo>
                      <a:pt x="1138" y="367"/>
                    </a:lnTo>
                    <a:lnTo>
                      <a:pt x="1147" y="348"/>
                    </a:lnTo>
                    <a:lnTo>
                      <a:pt x="1181" y="320"/>
                    </a:lnTo>
                    <a:lnTo>
                      <a:pt x="1205" y="280"/>
                    </a:lnTo>
                    <a:lnTo>
                      <a:pt x="1228" y="251"/>
                    </a:lnTo>
                    <a:lnTo>
                      <a:pt x="1248" y="234"/>
                    </a:lnTo>
                    <a:lnTo>
                      <a:pt x="1263" y="227"/>
                    </a:lnTo>
                    <a:lnTo>
                      <a:pt x="1281" y="228"/>
                    </a:lnTo>
                    <a:lnTo>
                      <a:pt x="1305" y="222"/>
                    </a:lnTo>
                    <a:lnTo>
                      <a:pt x="1312" y="236"/>
                    </a:lnTo>
                    <a:lnTo>
                      <a:pt x="1319" y="242"/>
                    </a:lnTo>
                    <a:lnTo>
                      <a:pt x="1325" y="244"/>
                    </a:lnTo>
                    <a:lnTo>
                      <a:pt x="1332" y="234"/>
                    </a:lnTo>
                    <a:lnTo>
                      <a:pt x="1327" y="218"/>
                    </a:lnTo>
                    <a:lnTo>
                      <a:pt x="1332" y="208"/>
                    </a:lnTo>
                    <a:lnTo>
                      <a:pt x="1348" y="222"/>
                    </a:lnTo>
                    <a:lnTo>
                      <a:pt x="1354" y="223"/>
                    </a:lnTo>
                    <a:lnTo>
                      <a:pt x="1356" y="215"/>
                    </a:lnTo>
                    <a:lnTo>
                      <a:pt x="1350" y="190"/>
                    </a:lnTo>
                    <a:lnTo>
                      <a:pt x="1354" y="182"/>
                    </a:lnTo>
                    <a:lnTo>
                      <a:pt x="1368" y="175"/>
                    </a:lnTo>
                    <a:lnTo>
                      <a:pt x="1383" y="148"/>
                    </a:lnTo>
                    <a:lnTo>
                      <a:pt x="1385" y="133"/>
                    </a:lnTo>
                    <a:lnTo>
                      <a:pt x="1386" y="120"/>
                    </a:lnTo>
                    <a:lnTo>
                      <a:pt x="1386" y="116"/>
                    </a:lnTo>
                    <a:lnTo>
                      <a:pt x="1391" y="110"/>
                    </a:lnTo>
                    <a:lnTo>
                      <a:pt x="1398" y="106"/>
                    </a:lnTo>
                    <a:lnTo>
                      <a:pt x="1408" y="83"/>
                    </a:lnTo>
                    <a:close/>
                  </a:path>
                </a:pathLst>
              </a:custGeom>
              <a:solidFill>
                <a:srgbClr val="ff99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038920" y="2610000"/>
                <a:ext cx="1329120" cy="1522440"/>
              </a:xfrm>
              <a:custGeom>
                <a:avLst/>
                <a:gdLst/>
                <a:ahLst/>
                <a:rect l="l" t="t" r="r" b="b"/>
                <a:pathLst>
                  <a:path w="1757" h="2038">
                    <a:moveTo>
                      <a:pt x="387" y="9"/>
                    </a:moveTo>
                    <a:lnTo>
                      <a:pt x="401" y="13"/>
                    </a:lnTo>
                    <a:lnTo>
                      <a:pt x="413" y="7"/>
                    </a:lnTo>
                    <a:lnTo>
                      <a:pt x="423" y="19"/>
                    </a:lnTo>
                    <a:lnTo>
                      <a:pt x="434" y="0"/>
                    </a:lnTo>
                    <a:lnTo>
                      <a:pt x="465" y="4"/>
                    </a:lnTo>
                    <a:lnTo>
                      <a:pt x="477" y="12"/>
                    </a:lnTo>
                    <a:lnTo>
                      <a:pt x="495" y="12"/>
                    </a:lnTo>
                    <a:lnTo>
                      <a:pt x="507" y="25"/>
                    </a:lnTo>
                    <a:lnTo>
                      <a:pt x="537" y="46"/>
                    </a:lnTo>
                    <a:lnTo>
                      <a:pt x="551" y="60"/>
                    </a:lnTo>
                    <a:lnTo>
                      <a:pt x="591" y="81"/>
                    </a:lnTo>
                    <a:lnTo>
                      <a:pt x="600" y="111"/>
                    </a:lnTo>
                    <a:lnTo>
                      <a:pt x="638" y="103"/>
                    </a:lnTo>
                    <a:lnTo>
                      <a:pt x="650" y="91"/>
                    </a:lnTo>
                    <a:lnTo>
                      <a:pt x="664" y="88"/>
                    </a:lnTo>
                    <a:lnTo>
                      <a:pt x="683" y="84"/>
                    </a:lnTo>
                    <a:lnTo>
                      <a:pt x="700" y="75"/>
                    </a:lnTo>
                    <a:lnTo>
                      <a:pt x="723" y="88"/>
                    </a:lnTo>
                    <a:lnTo>
                      <a:pt x="743" y="81"/>
                    </a:lnTo>
                    <a:lnTo>
                      <a:pt x="784" y="82"/>
                    </a:lnTo>
                    <a:lnTo>
                      <a:pt x="802" y="78"/>
                    </a:lnTo>
                    <a:lnTo>
                      <a:pt x="803" y="70"/>
                    </a:lnTo>
                    <a:lnTo>
                      <a:pt x="893" y="78"/>
                    </a:lnTo>
                    <a:lnTo>
                      <a:pt x="904" y="76"/>
                    </a:lnTo>
                    <a:lnTo>
                      <a:pt x="906" y="59"/>
                    </a:lnTo>
                    <a:lnTo>
                      <a:pt x="921" y="63"/>
                    </a:lnTo>
                    <a:lnTo>
                      <a:pt x="930" y="51"/>
                    </a:lnTo>
                    <a:lnTo>
                      <a:pt x="981" y="70"/>
                    </a:lnTo>
                    <a:lnTo>
                      <a:pt x="983" y="75"/>
                    </a:lnTo>
                    <a:lnTo>
                      <a:pt x="969" y="113"/>
                    </a:lnTo>
                    <a:lnTo>
                      <a:pt x="975" y="133"/>
                    </a:lnTo>
                    <a:lnTo>
                      <a:pt x="971" y="148"/>
                    </a:lnTo>
                    <a:lnTo>
                      <a:pt x="987" y="153"/>
                    </a:lnTo>
                    <a:lnTo>
                      <a:pt x="981" y="155"/>
                    </a:lnTo>
                    <a:lnTo>
                      <a:pt x="970" y="179"/>
                    </a:lnTo>
                    <a:lnTo>
                      <a:pt x="965" y="195"/>
                    </a:lnTo>
                    <a:lnTo>
                      <a:pt x="964" y="228"/>
                    </a:lnTo>
                    <a:lnTo>
                      <a:pt x="954" y="279"/>
                    </a:lnTo>
                    <a:lnTo>
                      <a:pt x="962" y="304"/>
                    </a:lnTo>
                    <a:lnTo>
                      <a:pt x="958" y="339"/>
                    </a:lnTo>
                    <a:lnTo>
                      <a:pt x="1028" y="382"/>
                    </a:lnTo>
                    <a:lnTo>
                      <a:pt x="1068" y="430"/>
                    </a:lnTo>
                    <a:lnTo>
                      <a:pt x="1071" y="437"/>
                    </a:lnTo>
                    <a:lnTo>
                      <a:pt x="1067" y="457"/>
                    </a:lnTo>
                    <a:lnTo>
                      <a:pt x="1076" y="467"/>
                    </a:lnTo>
                    <a:lnTo>
                      <a:pt x="1121" y="465"/>
                    </a:lnTo>
                    <a:lnTo>
                      <a:pt x="1146" y="468"/>
                    </a:lnTo>
                    <a:lnTo>
                      <a:pt x="1152" y="454"/>
                    </a:lnTo>
                    <a:lnTo>
                      <a:pt x="1162" y="455"/>
                    </a:lnTo>
                    <a:lnTo>
                      <a:pt x="1178" y="462"/>
                    </a:lnTo>
                    <a:lnTo>
                      <a:pt x="1194" y="497"/>
                    </a:lnTo>
                    <a:lnTo>
                      <a:pt x="1199" y="498"/>
                    </a:lnTo>
                    <a:lnTo>
                      <a:pt x="1262" y="501"/>
                    </a:lnTo>
                    <a:lnTo>
                      <a:pt x="1260" y="519"/>
                    </a:lnTo>
                    <a:lnTo>
                      <a:pt x="1253" y="539"/>
                    </a:lnTo>
                    <a:lnTo>
                      <a:pt x="1302" y="549"/>
                    </a:lnTo>
                    <a:lnTo>
                      <a:pt x="1311" y="563"/>
                    </a:lnTo>
                    <a:lnTo>
                      <a:pt x="1320" y="567"/>
                    </a:lnTo>
                    <a:lnTo>
                      <a:pt x="1356" y="573"/>
                    </a:lnTo>
                    <a:lnTo>
                      <a:pt x="1360" y="569"/>
                    </a:lnTo>
                    <a:lnTo>
                      <a:pt x="1373" y="562"/>
                    </a:lnTo>
                    <a:lnTo>
                      <a:pt x="1379" y="546"/>
                    </a:lnTo>
                    <a:lnTo>
                      <a:pt x="1413" y="511"/>
                    </a:lnTo>
                    <a:lnTo>
                      <a:pt x="1416" y="495"/>
                    </a:lnTo>
                    <a:lnTo>
                      <a:pt x="1413" y="467"/>
                    </a:lnTo>
                    <a:lnTo>
                      <a:pt x="1415" y="460"/>
                    </a:lnTo>
                    <a:lnTo>
                      <a:pt x="1472" y="451"/>
                    </a:lnTo>
                    <a:lnTo>
                      <a:pt x="1475" y="462"/>
                    </a:lnTo>
                    <a:lnTo>
                      <a:pt x="1481" y="455"/>
                    </a:lnTo>
                    <a:lnTo>
                      <a:pt x="1482" y="463"/>
                    </a:lnTo>
                    <a:lnTo>
                      <a:pt x="1494" y="467"/>
                    </a:lnTo>
                    <a:lnTo>
                      <a:pt x="1497" y="484"/>
                    </a:lnTo>
                    <a:lnTo>
                      <a:pt x="1508" y="484"/>
                    </a:lnTo>
                    <a:lnTo>
                      <a:pt x="1516" y="498"/>
                    </a:lnTo>
                    <a:lnTo>
                      <a:pt x="1550" y="509"/>
                    </a:lnTo>
                    <a:lnTo>
                      <a:pt x="1542" y="565"/>
                    </a:lnTo>
                    <a:lnTo>
                      <a:pt x="1559" y="559"/>
                    </a:lnTo>
                    <a:lnTo>
                      <a:pt x="1572" y="581"/>
                    </a:lnTo>
                    <a:lnTo>
                      <a:pt x="1593" y="591"/>
                    </a:lnTo>
                    <a:lnTo>
                      <a:pt x="1583" y="605"/>
                    </a:lnTo>
                    <a:lnTo>
                      <a:pt x="1577" y="625"/>
                    </a:lnTo>
                    <a:lnTo>
                      <a:pt x="1581" y="640"/>
                    </a:lnTo>
                    <a:lnTo>
                      <a:pt x="1600" y="652"/>
                    </a:lnTo>
                    <a:lnTo>
                      <a:pt x="1598" y="664"/>
                    </a:lnTo>
                    <a:lnTo>
                      <a:pt x="1602" y="672"/>
                    </a:lnTo>
                    <a:lnTo>
                      <a:pt x="1616" y="673"/>
                    </a:lnTo>
                    <a:lnTo>
                      <a:pt x="1608" y="652"/>
                    </a:lnTo>
                    <a:lnTo>
                      <a:pt x="1612" y="646"/>
                    </a:lnTo>
                    <a:lnTo>
                      <a:pt x="1630" y="636"/>
                    </a:lnTo>
                    <a:lnTo>
                      <a:pt x="1637" y="627"/>
                    </a:lnTo>
                    <a:lnTo>
                      <a:pt x="1650" y="598"/>
                    </a:lnTo>
                    <a:lnTo>
                      <a:pt x="1659" y="564"/>
                    </a:lnTo>
                    <a:lnTo>
                      <a:pt x="1677" y="558"/>
                    </a:lnTo>
                    <a:lnTo>
                      <a:pt x="1700" y="579"/>
                    </a:lnTo>
                    <a:lnTo>
                      <a:pt x="1716" y="587"/>
                    </a:lnTo>
                    <a:lnTo>
                      <a:pt x="1712" y="607"/>
                    </a:lnTo>
                    <a:lnTo>
                      <a:pt x="1718" y="615"/>
                    </a:lnTo>
                    <a:lnTo>
                      <a:pt x="1716" y="642"/>
                    </a:lnTo>
                    <a:lnTo>
                      <a:pt x="1737" y="681"/>
                    </a:lnTo>
                    <a:lnTo>
                      <a:pt x="1734" y="697"/>
                    </a:lnTo>
                    <a:lnTo>
                      <a:pt x="1744" y="696"/>
                    </a:lnTo>
                    <a:lnTo>
                      <a:pt x="1757" y="749"/>
                    </a:lnTo>
                    <a:lnTo>
                      <a:pt x="1726" y="797"/>
                    </a:lnTo>
                    <a:lnTo>
                      <a:pt x="1709" y="811"/>
                    </a:lnTo>
                    <a:lnTo>
                      <a:pt x="1679" y="825"/>
                    </a:lnTo>
                    <a:lnTo>
                      <a:pt x="1662" y="831"/>
                    </a:lnTo>
                    <a:lnTo>
                      <a:pt x="1661" y="832"/>
                    </a:lnTo>
                    <a:lnTo>
                      <a:pt x="1676" y="856"/>
                    </a:lnTo>
                    <a:lnTo>
                      <a:pt x="1662" y="867"/>
                    </a:lnTo>
                    <a:lnTo>
                      <a:pt x="1648" y="843"/>
                    </a:lnTo>
                    <a:lnTo>
                      <a:pt x="1648" y="844"/>
                    </a:lnTo>
                    <a:lnTo>
                      <a:pt x="1628" y="868"/>
                    </a:lnTo>
                    <a:lnTo>
                      <a:pt x="1618" y="891"/>
                    </a:lnTo>
                    <a:lnTo>
                      <a:pt x="1608" y="916"/>
                    </a:lnTo>
                    <a:lnTo>
                      <a:pt x="1604" y="947"/>
                    </a:lnTo>
                    <a:lnTo>
                      <a:pt x="1601" y="966"/>
                    </a:lnTo>
                    <a:lnTo>
                      <a:pt x="1601" y="987"/>
                    </a:lnTo>
                    <a:lnTo>
                      <a:pt x="1611" y="1000"/>
                    </a:lnTo>
                    <a:lnTo>
                      <a:pt x="1617" y="1013"/>
                    </a:lnTo>
                    <a:lnTo>
                      <a:pt x="1625" y="1033"/>
                    </a:lnTo>
                    <a:lnTo>
                      <a:pt x="1629" y="1057"/>
                    </a:lnTo>
                    <a:lnTo>
                      <a:pt x="1628" y="1086"/>
                    </a:lnTo>
                    <a:lnTo>
                      <a:pt x="1623" y="1119"/>
                    </a:lnTo>
                    <a:lnTo>
                      <a:pt x="1613" y="1144"/>
                    </a:lnTo>
                    <a:lnTo>
                      <a:pt x="1602" y="1155"/>
                    </a:lnTo>
                    <a:lnTo>
                      <a:pt x="1586" y="1162"/>
                    </a:lnTo>
                    <a:lnTo>
                      <a:pt x="1566" y="1164"/>
                    </a:lnTo>
                    <a:lnTo>
                      <a:pt x="1547" y="1168"/>
                    </a:lnTo>
                    <a:lnTo>
                      <a:pt x="1526" y="1173"/>
                    </a:lnTo>
                    <a:lnTo>
                      <a:pt x="1510" y="1183"/>
                    </a:lnTo>
                    <a:lnTo>
                      <a:pt x="1497" y="1201"/>
                    </a:lnTo>
                    <a:lnTo>
                      <a:pt x="1486" y="1217"/>
                    </a:lnTo>
                    <a:lnTo>
                      <a:pt x="1484" y="1242"/>
                    </a:lnTo>
                    <a:lnTo>
                      <a:pt x="1479" y="1263"/>
                    </a:lnTo>
                    <a:lnTo>
                      <a:pt x="1476" y="1265"/>
                    </a:lnTo>
                    <a:lnTo>
                      <a:pt x="1469" y="1275"/>
                    </a:lnTo>
                    <a:lnTo>
                      <a:pt x="1432" y="1311"/>
                    </a:lnTo>
                    <a:lnTo>
                      <a:pt x="1425" y="1319"/>
                    </a:lnTo>
                    <a:lnTo>
                      <a:pt x="1424" y="1337"/>
                    </a:lnTo>
                    <a:lnTo>
                      <a:pt x="1424" y="1368"/>
                    </a:lnTo>
                    <a:lnTo>
                      <a:pt x="1421" y="1387"/>
                    </a:lnTo>
                    <a:lnTo>
                      <a:pt x="1420" y="1395"/>
                    </a:lnTo>
                    <a:lnTo>
                      <a:pt x="1406" y="1413"/>
                    </a:lnTo>
                    <a:lnTo>
                      <a:pt x="1402" y="1423"/>
                    </a:lnTo>
                    <a:lnTo>
                      <a:pt x="1395" y="1432"/>
                    </a:lnTo>
                    <a:lnTo>
                      <a:pt x="1386" y="1449"/>
                    </a:lnTo>
                    <a:lnTo>
                      <a:pt x="1385" y="1459"/>
                    </a:lnTo>
                    <a:lnTo>
                      <a:pt x="1389" y="1468"/>
                    </a:lnTo>
                    <a:lnTo>
                      <a:pt x="1397" y="1481"/>
                    </a:lnTo>
                    <a:lnTo>
                      <a:pt x="1404" y="1492"/>
                    </a:lnTo>
                    <a:lnTo>
                      <a:pt x="1409" y="1505"/>
                    </a:lnTo>
                    <a:lnTo>
                      <a:pt x="1408" y="1518"/>
                    </a:lnTo>
                    <a:lnTo>
                      <a:pt x="1398" y="1537"/>
                    </a:lnTo>
                    <a:lnTo>
                      <a:pt x="1394" y="1548"/>
                    </a:lnTo>
                    <a:lnTo>
                      <a:pt x="1380" y="1559"/>
                    </a:lnTo>
                    <a:lnTo>
                      <a:pt x="1360" y="1569"/>
                    </a:lnTo>
                    <a:lnTo>
                      <a:pt x="1347" y="1577"/>
                    </a:lnTo>
                    <a:lnTo>
                      <a:pt x="1335" y="1591"/>
                    </a:lnTo>
                    <a:lnTo>
                      <a:pt x="1331" y="1609"/>
                    </a:lnTo>
                    <a:lnTo>
                      <a:pt x="1328" y="1626"/>
                    </a:lnTo>
                    <a:lnTo>
                      <a:pt x="1328" y="1645"/>
                    </a:lnTo>
                    <a:lnTo>
                      <a:pt x="1320" y="1659"/>
                    </a:lnTo>
                    <a:lnTo>
                      <a:pt x="1316" y="1665"/>
                    </a:lnTo>
                    <a:lnTo>
                      <a:pt x="1310" y="1675"/>
                    </a:lnTo>
                    <a:lnTo>
                      <a:pt x="1308" y="1689"/>
                    </a:lnTo>
                    <a:lnTo>
                      <a:pt x="1305" y="1698"/>
                    </a:lnTo>
                    <a:lnTo>
                      <a:pt x="1298" y="1705"/>
                    </a:lnTo>
                    <a:lnTo>
                      <a:pt x="1268" y="1710"/>
                    </a:lnTo>
                    <a:lnTo>
                      <a:pt x="1256" y="1715"/>
                    </a:lnTo>
                    <a:lnTo>
                      <a:pt x="1240" y="1723"/>
                    </a:lnTo>
                    <a:lnTo>
                      <a:pt x="1228" y="1733"/>
                    </a:lnTo>
                    <a:lnTo>
                      <a:pt x="1217" y="1739"/>
                    </a:lnTo>
                    <a:lnTo>
                      <a:pt x="1216" y="1747"/>
                    </a:lnTo>
                    <a:lnTo>
                      <a:pt x="1211" y="1757"/>
                    </a:lnTo>
                    <a:lnTo>
                      <a:pt x="1203" y="1773"/>
                    </a:lnTo>
                    <a:lnTo>
                      <a:pt x="1188" y="1792"/>
                    </a:lnTo>
                    <a:lnTo>
                      <a:pt x="1180" y="1804"/>
                    </a:lnTo>
                    <a:lnTo>
                      <a:pt x="1169" y="1817"/>
                    </a:lnTo>
                    <a:lnTo>
                      <a:pt x="1163" y="1824"/>
                    </a:lnTo>
                    <a:lnTo>
                      <a:pt x="1150" y="1834"/>
                    </a:lnTo>
                    <a:lnTo>
                      <a:pt x="1137" y="1840"/>
                    </a:lnTo>
                    <a:lnTo>
                      <a:pt x="1126" y="1843"/>
                    </a:lnTo>
                    <a:lnTo>
                      <a:pt x="1121" y="1855"/>
                    </a:lnTo>
                    <a:lnTo>
                      <a:pt x="1125" y="1866"/>
                    </a:lnTo>
                    <a:lnTo>
                      <a:pt x="1110" y="1878"/>
                    </a:lnTo>
                    <a:lnTo>
                      <a:pt x="1102" y="1881"/>
                    </a:lnTo>
                    <a:lnTo>
                      <a:pt x="1098" y="1865"/>
                    </a:lnTo>
                    <a:lnTo>
                      <a:pt x="1082" y="1866"/>
                    </a:lnTo>
                    <a:lnTo>
                      <a:pt x="1083" y="1875"/>
                    </a:lnTo>
                    <a:lnTo>
                      <a:pt x="1077" y="1884"/>
                    </a:lnTo>
                    <a:lnTo>
                      <a:pt x="1077" y="1888"/>
                    </a:lnTo>
                    <a:lnTo>
                      <a:pt x="1077" y="1895"/>
                    </a:lnTo>
                    <a:lnTo>
                      <a:pt x="1060" y="1906"/>
                    </a:lnTo>
                    <a:lnTo>
                      <a:pt x="1044" y="1923"/>
                    </a:lnTo>
                    <a:lnTo>
                      <a:pt x="1010" y="1918"/>
                    </a:lnTo>
                    <a:lnTo>
                      <a:pt x="1001" y="1923"/>
                    </a:lnTo>
                    <a:lnTo>
                      <a:pt x="987" y="1957"/>
                    </a:lnTo>
                    <a:lnTo>
                      <a:pt x="990" y="1986"/>
                    </a:lnTo>
                    <a:lnTo>
                      <a:pt x="989" y="1996"/>
                    </a:lnTo>
                    <a:lnTo>
                      <a:pt x="982" y="2001"/>
                    </a:lnTo>
                    <a:lnTo>
                      <a:pt x="962" y="1999"/>
                    </a:lnTo>
                    <a:lnTo>
                      <a:pt x="954" y="2008"/>
                    </a:lnTo>
                    <a:lnTo>
                      <a:pt x="954" y="2019"/>
                    </a:lnTo>
                    <a:lnTo>
                      <a:pt x="935" y="2010"/>
                    </a:lnTo>
                    <a:lnTo>
                      <a:pt x="932" y="2019"/>
                    </a:lnTo>
                    <a:lnTo>
                      <a:pt x="909" y="2016"/>
                    </a:lnTo>
                    <a:lnTo>
                      <a:pt x="893" y="2035"/>
                    </a:lnTo>
                    <a:lnTo>
                      <a:pt x="881" y="2033"/>
                    </a:lnTo>
                    <a:lnTo>
                      <a:pt x="874" y="2038"/>
                    </a:lnTo>
                    <a:lnTo>
                      <a:pt x="870" y="2025"/>
                    </a:lnTo>
                    <a:lnTo>
                      <a:pt x="840" y="2013"/>
                    </a:lnTo>
                    <a:lnTo>
                      <a:pt x="812" y="2034"/>
                    </a:lnTo>
                    <a:lnTo>
                      <a:pt x="812" y="2021"/>
                    </a:lnTo>
                    <a:lnTo>
                      <a:pt x="821" y="2017"/>
                    </a:lnTo>
                    <a:lnTo>
                      <a:pt x="821" y="2010"/>
                    </a:lnTo>
                    <a:lnTo>
                      <a:pt x="832" y="2005"/>
                    </a:lnTo>
                    <a:lnTo>
                      <a:pt x="832" y="1979"/>
                    </a:lnTo>
                    <a:lnTo>
                      <a:pt x="815" y="1985"/>
                    </a:lnTo>
                    <a:lnTo>
                      <a:pt x="809" y="1969"/>
                    </a:lnTo>
                    <a:lnTo>
                      <a:pt x="806" y="1965"/>
                    </a:lnTo>
                    <a:lnTo>
                      <a:pt x="795" y="1963"/>
                    </a:lnTo>
                    <a:lnTo>
                      <a:pt x="772" y="1965"/>
                    </a:lnTo>
                    <a:lnTo>
                      <a:pt x="731" y="1962"/>
                    </a:lnTo>
                    <a:lnTo>
                      <a:pt x="716" y="1956"/>
                    </a:lnTo>
                    <a:lnTo>
                      <a:pt x="628" y="1909"/>
                    </a:lnTo>
                    <a:lnTo>
                      <a:pt x="608" y="1911"/>
                    </a:lnTo>
                    <a:lnTo>
                      <a:pt x="594" y="1902"/>
                    </a:lnTo>
                    <a:lnTo>
                      <a:pt x="582" y="1903"/>
                    </a:lnTo>
                    <a:lnTo>
                      <a:pt x="566" y="1884"/>
                    </a:lnTo>
                    <a:lnTo>
                      <a:pt x="562" y="1869"/>
                    </a:lnTo>
                    <a:lnTo>
                      <a:pt x="563" y="1855"/>
                    </a:lnTo>
                    <a:lnTo>
                      <a:pt x="573" y="1843"/>
                    </a:lnTo>
                    <a:lnTo>
                      <a:pt x="558" y="1818"/>
                    </a:lnTo>
                    <a:lnTo>
                      <a:pt x="554" y="1798"/>
                    </a:lnTo>
                    <a:lnTo>
                      <a:pt x="557" y="1785"/>
                    </a:lnTo>
                    <a:lnTo>
                      <a:pt x="609" y="1755"/>
                    </a:lnTo>
                    <a:lnTo>
                      <a:pt x="621" y="1745"/>
                    </a:lnTo>
                    <a:lnTo>
                      <a:pt x="627" y="1735"/>
                    </a:lnTo>
                    <a:lnTo>
                      <a:pt x="633" y="1725"/>
                    </a:lnTo>
                    <a:lnTo>
                      <a:pt x="644" y="1715"/>
                    </a:lnTo>
                    <a:lnTo>
                      <a:pt x="644" y="1713"/>
                    </a:lnTo>
                    <a:lnTo>
                      <a:pt x="635" y="1689"/>
                    </a:lnTo>
                    <a:lnTo>
                      <a:pt x="638" y="1669"/>
                    </a:lnTo>
                    <a:lnTo>
                      <a:pt x="627" y="1657"/>
                    </a:lnTo>
                    <a:lnTo>
                      <a:pt x="635" y="1631"/>
                    </a:lnTo>
                    <a:lnTo>
                      <a:pt x="622" y="1630"/>
                    </a:lnTo>
                    <a:lnTo>
                      <a:pt x="579" y="1632"/>
                    </a:lnTo>
                    <a:lnTo>
                      <a:pt x="562" y="1621"/>
                    </a:lnTo>
                    <a:lnTo>
                      <a:pt x="546" y="1626"/>
                    </a:lnTo>
                    <a:lnTo>
                      <a:pt x="520" y="1601"/>
                    </a:lnTo>
                    <a:lnTo>
                      <a:pt x="509" y="1595"/>
                    </a:lnTo>
                    <a:lnTo>
                      <a:pt x="416" y="1577"/>
                    </a:lnTo>
                    <a:lnTo>
                      <a:pt x="399" y="1571"/>
                    </a:lnTo>
                    <a:lnTo>
                      <a:pt x="320" y="1504"/>
                    </a:lnTo>
                    <a:lnTo>
                      <a:pt x="329" y="1536"/>
                    </a:lnTo>
                    <a:lnTo>
                      <a:pt x="311" y="1542"/>
                    </a:lnTo>
                    <a:lnTo>
                      <a:pt x="278" y="1487"/>
                    </a:lnTo>
                    <a:lnTo>
                      <a:pt x="264" y="1471"/>
                    </a:lnTo>
                    <a:lnTo>
                      <a:pt x="257" y="1470"/>
                    </a:lnTo>
                    <a:lnTo>
                      <a:pt x="250" y="1467"/>
                    </a:lnTo>
                    <a:lnTo>
                      <a:pt x="213" y="1455"/>
                    </a:lnTo>
                    <a:lnTo>
                      <a:pt x="237" y="1427"/>
                    </a:lnTo>
                    <a:lnTo>
                      <a:pt x="243" y="1414"/>
                    </a:lnTo>
                    <a:lnTo>
                      <a:pt x="249" y="1378"/>
                    </a:lnTo>
                    <a:lnTo>
                      <a:pt x="250" y="1332"/>
                    </a:lnTo>
                    <a:lnTo>
                      <a:pt x="260" y="1253"/>
                    </a:lnTo>
                    <a:lnTo>
                      <a:pt x="261" y="1221"/>
                    </a:lnTo>
                    <a:lnTo>
                      <a:pt x="251" y="1163"/>
                    </a:lnTo>
                    <a:lnTo>
                      <a:pt x="242" y="1139"/>
                    </a:lnTo>
                    <a:lnTo>
                      <a:pt x="239" y="1109"/>
                    </a:lnTo>
                    <a:lnTo>
                      <a:pt x="236" y="1047"/>
                    </a:lnTo>
                    <a:lnTo>
                      <a:pt x="240" y="1045"/>
                    </a:lnTo>
                    <a:lnTo>
                      <a:pt x="239" y="1036"/>
                    </a:lnTo>
                    <a:lnTo>
                      <a:pt x="224" y="970"/>
                    </a:lnTo>
                    <a:lnTo>
                      <a:pt x="236" y="939"/>
                    </a:lnTo>
                    <a:lnTo>
                      <a:pt x="218" y="909"/>
                    </a:lnTo>
                    <a:lnTo>
                      <a:pt x="212" y="885"/>
                    </a:lnTo>
                    <a:lnTo>
                      <a:pt x="221" y="869"/>
                    </a:lnTo>
                    <a:lnTo>
                      <a:pt x="228" y="845"/>
                    </a:lnTo>
                    <a:lnTo>
                      <a:pt x="226" y="786"/>
                    </a:lnTo>
                    <a:lnTo>
                      <a:pt x="190" y="754"/>
                    </a:lnTo>
                    <a:lnTo>
                      <a:pt x="170" y="747"/>
                    </a:lnTo>
                    <a:lnTo>
                      <a:pt x="150" y="747"/>
                    </a:lnTo>
                    <a:lnTo>
                      <a:pt x="141" y="754"/>
                    </a:lnTo>
                    <a:lnTo>
                      <a:pt x="93" y="763"/>
                    </a:lnTo>
                    <a:lnTo>
                      <a:pt x="63" y="762"/>
                    </a:lnTo>
                    <a:lnTo>
                      <a:pt x="40" y="743"/>
                    </a:lnTo>
                    <a:lnTo>
                      <a:pt x="14" y="730"/>
                    </a:lnTo>
                    <a:lnTo>
                      <a:pt x="9" y="714"/>
                    </a:lnTo>
                    <a:lnTo>
                      <a:pt x="11" y="693"/>
                    </a:lnTo>
                    <a:lnTo>
                      <a:pt x="6" y="684"/>
                    </a:lnTo>
                    <a:lnTo>
                      <a:pt x="2" y="664"/>
                    </a:lnTo>
                    <a:lnTo>
                      <a:pt x="8" y="645"/>
                    </a:lnTo>
                    <a:lnTo>
                      <a:pt x="0" y="604"/>
                    </a:lnTo>
                    <a:lnTo>
                      <a:pt x="29" y="607"/>
                    </a:lnTo>
                    <a:lnTo>
                      <a:pt x="38" y="605"/>
                    </a:lnTo>
                    <a:lnTo>
                      <a:pt x="42" y="623"/>
                    </a:lnTo>
                    <a:lnTo>
                      <a:pt x="50" y="631"/>
                    </a:lnTo>
                    <a:lnTo>
                      <a:pt x="68" y="627"/>
                    </a:lnTo>
                    <a:lnTo>
                      <a:pt x="71" y="623"/>
                    </a:lnTo>
                    <a:lnTo>
                      <a:pt x="69" y="615"/>
                    </a:lnTo>
                    <a:lnTo>
                      <a:pt x="39" y="587"/>
                    </a:lnTo>
                    <a:lnTo>
                      <a:pt x="33" y="570"/>
                    </a:lnTo>
                    <a:lnTo>
                      <a:pt x="48" y="573"/>
                    </a:lnTo>
                    <a:lnTo>
                      <a:pt x="60" y="585"/>
                    </a:lnTo>
                    <a:lnTo>
                      <a:pt x="75" y="577"/>
                    </a:lnTo>
                    <a:lnTo>
                      <a:pt x="87" y="582"/>
                    </a:lnTo>
                    <a:lnTo>
                      <a:pt x="111" y="570"/>
                    </a:lnTo>
                    <a:lnTo>
                      <a:pt x="111" y="563"/>
                    </a:lnTo>
                    <a:lnTo>
                      <a:pt x="87" y="562"/>
                    </a:lnTo>
                    <a:lnTo>
                      <a:pt x="81" y="541"/>
                    </a:lnTo>
                    <a:lnTo>
                      <a:pt x="84" y="532"/>
                    </a:lnTo>
                    <a:lnTo>
                      <a:pt x="95" y="533"/>
                    </a:lnTo>
                    <a:lnTo>
                      <a:pt x="104" y="550"/>
                    </a:lnTo>
                    <a:lnTo>
                      <a:pt x="125" y="538"/>
                    </a:lnTo>
                    <a:lnTo>
                      <a:pt x="146" y="515"/>
                    </a:lnTo>
                    <a:lnTo>
                      <a:pt x="148" y="509"/>
                    </a:lnTo>
                    <a:lnTo>
                      <a:pt x="155" y="508"/>
                    </a:lnTo>
                    <a:lnTo>
                      <a:pt x="166" y="504"/>
                    </a:lnTo>
                    <a:lnTo>
                      <a:pt x="174" y="490"/>
                    </a:lnTo>
                    <a:lnTo>
                      <a:pt x="191" y="484"/>
                    </a:lnTo>
                    <a:lnTo>
                      <a:pt x="224" y="485"/>
                    </a:lnTo>
                    <a:lnTo>
                      <a:pt x="242" y="477"/>
                    </a:lnTo>
                    <a:lnTo>
                      <a:pt x="244" y="471"/>
                    </a:lnTo>
                    <a:lnTo>
                      <a:pt x="230" y="435"/>
                    </a:lnTo>
                    <a:lnTo>
                      <a:pt x="237" y="419"/>
                    </a:lnTo>
                    <a:lnTo>
                      <a:pt x="268" y="411"/>
                    </a:lnTo>
                    <a:lnTo>
                      <a:pt x="279" y="429"/>
                    </a:lnTo>
                    <a:lnTo>
                      <a:pt x="287" y="433"/>
                    </a:lnTo>
                    <a:lnTo>
                      <a:pt x="297" y="419"/>
                    </a:lnTo>
                    <a:lnTo>
                      <a:pt x="291" y="405"/>
                    </a:lnTo>
                    <a:lnTo>
                      <a:pt x="305" y="385"/>
                    </a:lnTo>
                    <a:lnTo>
                      <a:pt x="300" y="377"/>
                    </a:lnTo>
                    <a:lnTo>
                      <a:pt x="309" y="372"/>
                    </a:lnTo>
                    <a:lnTo>
                      <a:pt x="312" y="354"/>
                    </a:lnTo>
                    <a:lnTo>
                      <a:pt x="322" y="348"/>
                    </a:lnTo>
                    <a:lnTo>
                      <a:pt x="324" y="315"/>
                    </a:lnTo>
                    <a:lnTo>
                      <a:pt x="335" y="300"/>
                    </a:lnTo>
                    <a:lnTo>
                      <a:pt x="335" y="293"/>
                    </a:lnTo>
                    <a:lnTo>
                      <a:pt x="330" y="277"/>
                    </a:lnTo>
                    <a:lnTo>
                      <a:pt x="333" y="264"/>
                    </a:lnTo>
                    <a:lnTo>
                      <a:pt x="316" y="246"/>
                    </a:lnTo>
                    <a:lnTo>
                      <a:pt x="317" y="232"/>
                    </a:lnTo>
                    <a:lnTo>
                      <a:pt x="310" y="223"/>
                    </a:lnTo>
                    <a:lnTo>
                      <a:pt x="314" y="216"/>
                    </a:lnTo>
                    <a:lnTo>
                      <a:pt x="329" y="211"/>
                    </a:lnTo>
                    <a:lnTo>
                      <a:pt x="335" y="197"/>
                    </a:lnTo>
                    <a:lnTo>
                      <a:pt x="346" y="192"/>
                    </a:lnTo>
                    <a:lnTo>
                      <a:pt x="346" y="148"/>
                    </a:lnTo>
                    <a:lnTo>
                      <a:pt x="356" y="123"/>
                    </a:lnTo>
                    <a:lnTo>
                      <a:pt x="388" y="117"/>
                    </a:lnTo>
                    <a:lnTo>
                      <a:pt x="395" y="95"/>
                    </a:lnTo>
                    <a:lnTo>
                      <a:pt x="390" y="87"/>
                    </a:lnTo>
                    <a:lnTo>
                      <a:pt x="371" y="93"/>
                    </a:lnTo>
                    <a:lnTo>
                      <a:pt x="354" y="87"/>
                    </a:lnTo>
                    <a:lnTo>
                      <a:pt x="352" y="78"/>
                    </a:lnTo>
                    <a:lnTo>
                      <a:pt x="363" y="71"/>
                    </a:lnTo>
                    <a:lnTo>
                      <a:pt x="370" y="60"/>
                    </a:lnTo>
                    <a:lnTo>
                      <a:pt x="382" y="10"/>
                    </a:lnTo>
                    <a:lnTo>
                      <a:pt x="387" y="9"/>
                    </a:lnTo>
                    <a:close/>
                  </a:path>
                </a:pathLst>
              </a:custGeom>
              <a:solidFill>
                <a:srgbClr val="ff99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3833640" y="3020040"/>
                <a:ext cx="1451880" cy="1387800"/>
              </a:xfrm>
              <a:custGeom>
                <a:avLst/>
                <a:gdLst/>
                <a:ahLst/>
                <a:rect l="l" t="t" r="r" b="b"/>
                <a:pathLst>
                  <a:path w="1847" h="1855">
                    <a:moveTo>
                      <a:pt x="1447" y="0"/>
                    </a:moveTo>
                    <a:lnTo>
                      <a:pt x="1471" y="15"/>
                    </a:lnTo>
                    <a:lnTo>
                      <a:pt x="1492" y="11"/>
                    </a:lnTo>
                    <a:lnTo>
                      <a:pt x="1522" y="3"/>
                    </a:lnTo>
                    <a:lnTo>
                      <a:pt x="1544" y="5"/>
                    </a:lnTo>
                    <a:lnTo>
                      <a:pt x="1554" y="12"/>
                    </a:lnTo>
                    <a:lnTo>
                      <a:pt x="1568" y="32"/>
                    </a:lnTo>
                    <a:lnTo>
                      <a:pt x="1586" y="42"/>
                    </a:lnTo>
                    <a:lnTo>
                      <a:pt x="1594" y="83"/>
                    </a:lnTo>
                    <a:lnTo>
                      <a:pt x="1588" y="102"/>
                    </a:lnTo>
                    <a:lnTo>
                      <a:pt x="1592" y="122"/>
                    </a:lnTo>
                    <a:lnTo>
                      <a:pt x="1597" y="131"/>
                    </a:lnTo>
                    <a:lnTo>
                      <a:pt x="1595" y="152"/>
                    </a:lnTo>
                    <a:lnTo>
                      <a:pt x="1600" y="168"/>
                    </a:lnTo>
                    <a:lnTo>
                      <a:pt x="1626" y="181"/>
                    </a:lnTo>
                    <a:lnTo>
                      <a:pt x="1649" y="200"/>
                    </a:lnTo>
                    <a:lnTo>
                      <a:pt x="1679" y="201"/>
                    </a:lnTo>
                    <a:lnTo>
                      <a:pt x="1727" y="192"/>
                    </a:lnTo>
                    <a:lnTo>
                      <a:pt x="1736" y="185"/>
                    </a:lnTo>
                    <a:lnTo>
                      <a:pt x="1756" y="185"/>
                    </a:lnTo>
                    <a:lnTo>
                      <a:pt x="1776" y="192"/>
                    </a:lnTo>
                    <a:lnTo>
                      <a:pt x="1812" y="224"/>
                    </a:lnTo>
                    <a:lnTo>
                      <a:pt x="1814" y="283"/>
                    </a:lnTo>
                    <a:lnTo>
                      <a:pt x="1807" y="307"/>
                    </a:lnTo>
                    <a:lnTo>
                      <a:pt x="1798" y="323"/>
                    </a:lnTo>
                    <a:lnTo>
                      <a:pt x="1804" y="347"/>
                    </a:lnTo>
                    <a:lnTo>
                      <a:pt x="1822" y="377"/>
                    </a:lnTo>
                    <a:lnTo>
                      <a:pt x="1810" y="408"/>
                    </a:lnTo>
                    <a:lnTo>
                      <a:pt x="1825" y="474"/>
                    </a:lnTo>
                    <a:lnTo>
                      <a:pt x="1826" y="483"/>
                    </a:lnTo>
                    <a:lnTo>
                      <a:pt x="1822" y="485"/>
                    </a:lnTo>
                    <a:lnTo>
                      <a:pt x="1825" y="547"/>
                    </a:lnTo>
                    <a:lnTo>
                      <a:pt x="1828" y="577"/>
                    </a:lnTo>
                    <a:lnTo>
                      <a:pt x="1837" y="601"/>
                    </a:lnTo>
                    <a:lnTo>
                      <a:pt x="1847" y="659"/>
                    </a:lnTo>
                    <a:lnTo>
                      <a:pt x="1846" y="691"/>
                    </a:lnTo>
                    <a:lnTo>
                      <a:pt x="1836" y="770"/>
                    </a:lnTo>
                    <a:lnTo>
                      <a:pt x="1835" y="816"/>
                    </a:lnTo>
                    <a:lnTo>
                      <a:pt x="1829" y="852"/>
                    </a:lnTo>
                    <a:lnTo>
                      <a:pt x="1823" y="865"/>
                    </a:lnTo>
                    <a:lnTo>
                      <a:pt x="1799" y="893"/>
                    </a:lnTo>
                    <a:lnTo>
                      <a:pt x="1786" y="895"/>
                    </a:lnTo>
                    <a:lnTo>
                      <a:pt x="1776" y="900"/>
                    </a:lnTo>
                    <a:lnTo>
                      <a:pt x="1758" y="915"/>
                    </a:lnTo>
                    <a:lnTo>
                      <a:pt x="1752" y="930"/>
                    </a:lnTo>
                    <a:lnTo>
                      <a:pt x="1745" y="956"/>
                    </a:lnTo>
                    <a:lnTo>
                      <a:pt x="1732" y="979"/>
                    </a:lnTo>
                    <a:lnTo>
                      <a:pt x="1726" y="987"/>
                    </a:lnTo>
                    <a:lnTo>
                      <a:pt x="1699" y="995"/>
                    </a:lnTo>
                    <a:lnTo>
                      <a:pt x="1696" y="999"/>
                    </a:lnTo>
                    <a:lnTo>
                      <a:pt x="1696" y="1004"/>
                    </a:lnTo>
                    <a:lnTo>
                      <a:pt x="1692" y="1010"/>
                    </a:lnTo>
                    <a:lnTo>
                      <a:pt x="1670" y="1013"/>
                    </a:lnTo>
                    <a:lnTo>
                      <a:pt x="1646" y="1035"/>
                    </a:lnTo>
                    <a:lnTo>
                      <a:pt x="1628" y="1047"/>
                    </a:lnTo>
                    <a:lnTo>
                      <a:pt x="1612" y="1067"/>
                    </a:lnTo>
                    <a:lnTo>
                      <a:pt x="1632" y="1095"/>
                    </a:lnTo>
                    <a:lnTo>
                      <a:pt x="1631" y="1097"/>
                    </a:lnTo>
                    <a:lnTo>
                      <a:pt x="1631" y="1107"/>
                    </a:lnTo>
                    <a:lnTo>
                      <a:pt x="1633" y="1111"/>
                    </a:lnTo>
                    <a:lnTo>
                      <a:pt x="1642" y="1123"/>
                    </a:lnTo>
                    <a:lnTo>
                      <a:pt x="1625" y="1131"/>
                    </a:lnTo>
                    <a:lnTo>
                      <a:pt x="1613" y="1129"/>
                    </a:lnTo>
                    <a:lnTo>
                      <a:pt x="1608" y="1159"/>
                    </a:lnTo>
                    <a:lnTo>
                      <a:pt x="1598" y="1175"/>
                    </a:lnTo>
                    <a:lnTo>
                      <a:pt x="1607" y="1177"/>
                    </a:lnTo>
                    <a:lnTo>
                      <a:pt x="1604" y="1188"/>
                    </a:lnTo>
                    <a:lnTo>
                      <a:pt x="1597" y="1199"/>
                    </a:lnTo>
                    <a:lnTo>
                      <a:pt x="1592" y="1205"/>
                    </a:lnTo>
                    <a:lnTo>
                      <a:pt x="1609" y="1213"/>
                    </a:lnTo>
                    <a:lnTo>
                      <a:pt x="1616" y="1223"/>
                    </a:lnTo>
                    <a:lnTo>
                      <a:pt x="1622" y="1227"/>
                    </a:lnTo>
                    <a:lnTo>
                      <a:pt x="1620" y="1239"/>
                    </a:lnTo>
                    <a:lnTo>
                      <a:pt x="1612" y="1231"/>
                    </a:lnTo>
                    <a:lnTo>
                      <a:pt x="1606" y="1225"/>
                    </a:lnTo>
                    <a:lnTo>
                      <a:pt x="1586" y="1257"/>
                    </a:lnTo>
                    <a:lnTo>
                      <a:pt x="1556" y="1272"/>
                    </a:lnTo>
                    <a:lnTo>
                      <a:pt x="1562" y="1287"/>
                    </a:lnTo>
                    <a:lnTo>
                      <a:pt x="1496" y="1293"/>
                    </a:lnTo>
                    <a:lnTo>
                      <a:pt x="1498" y="1272"/>
                    </a:lnTo>
                    <a:lnTo>
                      <a:pt x="1492" y="1256"/>
                    </a:lnTo>
                    <a:lnTo>
                      <a:pt x="1453" y="1275"/>
                    </a:lnTo>
                    <a:lnTo>
                      <a:pt x="1444" y="1295"/>
                    </a:lnTo>
                    <a:lnTo>
                      <a:pt x="1420" y="1291"/>
                    </a:lnTo>
                    <a:lnTo>
                      <a:pt x="1416" y="1304"/>
                    </a:lnTo>
                    <a:lnTo>
                      <a:pt x="1412" y="1343"/>
                    </a:lnTo>
                    <a:lnTo>
                      <a:pt x="1429" y="1345"/>
                    </a:lnTo>
                    <a:lnTo>
                      <a:pt x="1435" y="1359"/>
                    </a:lnTo>
                    <a:lnTo>
                      <a:pt x="1430" y="1375"/>
                    </a:lnTo>
                    <a:lnTo>
                      <a:pt x="1430" y="1406"/>
                    </a:lnTo>
                    <a:lnTo>
                      <a:pt x="1438" y="1411"/>
                    </a:lnTo>
                    <a:lnTo>
                      <a:pt x="1436" y="1421"/>
                    </a:lnTo>
                    <a:lnTo>
                      <a:pt x="1450" y="1436"/>
                    </a:lnTo>
                    <a:lnTo>
                      <a:pt x="1448" y="1445"/>
                    </a:lnTo>
                    <a:lnTo>
                      <a:pt x="1423" y="1442"/>
                    </a:lnTo>
                    <a:lnTo>
                      <a:pt x="1418" y="1449"/>
                    </a:lnTo>
                    <a:lnTo>
                      <a:pt x="1424" y="1457"/>
                    </a:lnTo>
                    <a:lnTo>
                      <a:pt x="1445" y="1454"/>
                    </a:lnTo>
                    <a:lnTo>
                      <a:pt x="1451" y="1461"/>
                    </a:lnTo>
                    <a:lnTo>
                      <a:pt x="1452" y="1478"/>
                    </a:lnTo>
                    <a:lnTo>
                      <a:pt x="1445" y="1488"/>
                    </a:lnTo>
                    <a:lnTo>
                      <a:pt x="1445" y="1511"/>
                    </a:lnTo>
                    <a:lnTo>
                      <a:pt x="1420" y="1526"/>
                    </a:lnTo>
                    <a:lnTo>
                      <a:pt x="1399" y="1553"/>
                    </a:lnTo>
                    <a:lnTo>
                      <a:pt x="1394" y="1550"/>
                    </a:lnTo>
                    <a:lnTo>
                      <a:pt x="1384" y="1538"/>
                    </a:lnTo>
                    <a:lnTo>
                      <a:pt x="1367" y="1550"/>
                    </a:lnTo>
                    <a:lnTo>
                      <a:pt x="1328" y="1561"/>
                    </a:lnTo>
                    <a:lnTo>
                      <a:pt x="1279" y="1524"/>
                    </a:lnTo>
                    <a:lnTo>
                      <a:pt x="1265" y="1513"/>
                    </a:lnTo>
                    <a:lnTo>
                      <a:pt x="1254" y="1529"/>
                    </a:lnTo>
                    <a:lnTo>
                      <a:pt x="1241" y="1530"/>
                    </a:lnTo>
                    <a:lnTo>
                      <a:pt x="1222" y="1527"/>
                    </a:lnTo>
                    <a:lnTo>
                      <a:pt x="1201" y="1529"/>
                    </a:lnTo>
                    <a:lnTo>
                      <a:pt x="1177" y="1543"/>
                    </a:lnTo>
                    <a:lnTo>
                      <a:pt x="1172" y="1549"/>
                    </a:lnTo>
                    <a:lnTo>
                      <a:pt x="1170" y="1562"/>
                    </a:lnTo>
                    <a:lnTo>
                      <a:pt x="1169" y="1565"/>
                    </a:lnTo>
                    <a:lnTo>
                      <a:pt x="1140" y="1577"/>
                    </a:lnTo>
                    <a:lnTo>
                      <a:pt x="1115" y="1572"/>
                    </a:lnTo>
                    <a:lnTo>
                      <a:pt x="1092" y="1559"/>
                    </a:lnTo>
                    <a:lnTo>
                      <a:pt x="1086" y="1556"/>
                    </a:lnTo>
                    <a:lnTo>
                      <a:pt x="1079" y="1561"/>
                    </a:lnTo>
                    <a:lnTo>
                      <a:pt x="1058" y="1580"/>
                    </a:lnTo>
                    <a:lnTo>
                      <a:pt x="1045" y="1611"/>
                    </a:lnTo>
                    <a:lnTo>
                      <a:pt x="1024" y="1626"/>
                    </a:lnTo>
                    <a:lnTo>
                      <a:pt x="1014" y="1635"/>
                    </a:lnTo>
                    <a:lnTo>
                      <a:pt x="1012" y="1645"/>
                    </a:lnTo>
                    <a:lnTo>
                      <a:pt x="1025" y="1727"/>
                    </a:lnTo>
                    <a:lnTo>
                      <a:pt x="1037" y="1766"/>
                    </a:lnTo>
                    <a:lnTo>
                      <a:pt x="1010" y="1776"/>
                    </a:lnTo>
                    <a:lnTo>
                      <a:pt x="1001" y="1784"/>
                    </a:lnTo>
                    <a:lnTo>
                      <a:pt x="974" y="1787"/>
                    </a:lnTo>
                    <a:lnTo>
                      <a:pt x="944" y="1796"/>
                    </a:lnTo>
                    <a:lnTo>
                      <a:pt x="937" y="1794"/>
                    </a:lnTo>
                    <a:lnTo>
                      <a:pt x="926" y="1807"/>
                    </a:lnTo>
                    <a:lnTo>
                      <a:pt x="926" y="1827"/>
                    </a:lnTo>
                    <a:lnTo>
                      <a:pt x="906" y="1836"/>
                    </a:lnTo>
                    <a:lnTo>
                      <a:pt x="900" y="1832"/>
                    </a:lnTo>
                    <a:lnTo>
                      <a:pt x="853" y="1827"/>
                    </a:lnTo>
                    <a:lnTo>
                      <a:pt x="815" y="1773"/>
                    </a:lnTo>
                    <a:lnTo>
                      <a:pt x="791" y="1764"/>
                    </a:lnTo>
                    <a:lnTo>
                      <a:pt x="760" y="1769"/>
                    </a:lnTo>
                    <a:lnTo>
                      <a:pt x="745" y="1778"/>
                    </a:lnTo>
                    <a:lnTo>
                      <a:pt x="756" y="1787"/>
                    </a:lnTo>
                    <a:lnTo>
                      <a:pt x="754" y="1796"/>
                    </a:lnTo>
                    <a:lnTo>
                      <a:pt x="728" y="1793"/>
                    </a:lnTo>
                    <a:lnTo>
                      <a:pt x="709" y="1814"/>
                    </a:lnTo>
                    <a:lnTo>
                      <a:pt x="709" y="1829"/>
                    </a:lnTo>
                    <a:lnTo>
                      <a:pt x="703" y="1835"/>
                    </a:lnTo>
                    <a:lnTo>
                      <a:pt x="691" y="1855"/>
                    </a:lnTo>
                    <a:lnTo>
                      <a:pt x="659" y="1833"/>
                    </a:lnTo>
                    <a:lnTo>
                      <a:pt x="631" y="1821"/>
                    </a:lnTo>
                    <a:lnTo>
                      <a:pt x="601" y="1791"/>
                    </a:lnTo>
                    <a:lnTo>
                      <a:pt x="592" y="1793"/>
                    </a:lnTo>
                    <a:lnTo>
                      <a:pt x="588" y="1799"/>
                    </a:lnTo>
                    <a:lnTo>
                      <a:pt x="593" y="1825"/>
                    </a:lnTo>
                    <a:lnTo>
                      <a:pt x="581" y="1831"/>
                    </a:lnTo>
                    <a:lnTo>
                      <a:pt x="578" y="1825"/>
                    </a:lnTo>
                    <a:lnTo>
                      <a:pt x="578" y="1812"/>
                    </a:lnTo>
                    <a:lnTo>
                      <a:pt x="569" y="1790"/>
                    </a:lnTo>
                    <a:lnTo>
                      <a:pt x="547" y="1776"/>
                    </a:lnTo>
                    <a:lnTo>
                      <a:pt x="542" y="1765"/>
                    </a:lnTo>
                    <a:lnTo>
                      <a:pt x="540" y="1751"/>
                    </a:lnTo>
                    <a:lnTo>
                      <a:pt x="536" y="1731"/>
                    </a:lnTo>
                    <a:lnTo>
                      <a:pt x="521" y="1715"/>
                    </a:lnTo>
                    <a:lnTo>
                      <a:pt x="520" y="1713"/>
                    </a:lnTo>
                    <a:lnTo>
                      <a:pt x="500" y="1719"/>
                    </a:lnTo>
                    <a:lnTo>
                      <a:pt x="491" y="1727"/>
                    </a:lnTo>
                    <a:lnTo>
                      <a:pt x="502" y="1737"/>
                    </a:lnTo>
                    <a:lnTo>
                      <a:pt x="508" y="1752"/>
                    </a:lnTo>
                    <a:lnTo>
                      <a:pt x="493" y="1771"/>
                    </a:lnTo>
                    <a:lnTo>
                      <a:pt x="479" y="1764"/>
                    </a:lnTo>
                    <a:lnTo>
                      <a:pt x="448" y="1735"/>
                    </a:lnTo>
                    <a:lnTo>
                      <a:pt x="448" y="1727"/>
                    </a:lnTo>
                    <a:lnTo>
                      <a:pt x="455" y="1718"/>
                    </a:lnTo>
                    <a:lnTo>
                      <a:pt x="485" y="1700"/>
                    </a:lnTo>
                    <a:lnTo>
                      <a:pt x="506" y="1701"/>
                    </a:lnTo>
                    <a:lnTo>
                      <a:pt x="508" y="1689"/>
                    </a:lnTo>
                    <a:lnTo>
                      <a:pt x="503" y="1680"/>
                    </a:lnTo>
                    <a:lnTo>
                      <a:pt x="468" y="1692"/>
                    </a:lnTo>
                    <a:lnTo>
                      <a:pt x="460" y="1683"/>
                    </a:lnTo>
                    <a:lnTo>
                      <a:pt x="452" y="1667"/>
                    </a:lnTo>
                    <a:lnTo>
                      <a:pt x="440" y="1652"/>
                    </a:lnTo>
                    <a:lnTo>
                      <a:pt x="464" y="1657"/>
                    </a:lnTo>
                    <a:lnTo>
                      <a:pt x="476" y="1655"/>
                    </a:lnTo>
                    <a:lnTo>
                      <a:pt x="496" y="1637"/>
                    </a:lnTo>
                    <a:lnTo>
                      <a:pt x="512" y="1639"/>
                    </a:lnTo>
                    <a:lnTo>
                      <a:pt x="515" y="1633"/>
                    </a:lnTo>
                    <a:lnTo>
                      <a:pt x="522" y="1616"/>
                    </a:lnTo>
                    <a:lnTo>
                      <a:pt x="533" y="1599"/>
                    </a:lnTo>
                    <a:lnTo>
                      <a:pt x="545" y="1592"/>
                    </a:lnTo>
                    <a:lnTo>
                      <a:pt x="553" y="1592"/>
                    </a:lnTo>
                    <a:lnTo>
                      <a:pt x="563" y="1610"/>
                    </a:lnTo>
                    <a:lnTo>
                      <a:pt x="595" y="1590"/>
                    </a:lnTo>
                    <a:lnTo>
                      <a:pt x="614" y="1571"/>
                    </a:lnTo>
                    <a:lnTo>
                      <a:pt x="625" y="1549"/>
                    </a:lnTo>
                    <a:lnTo>
                      <a:pt x="634" y="1543"/>
                    </a:lnTo>
                    <a:lnTo>
                      <a:pt x="650" y="1538"/>
                    </a:lnTo>
                    <a:lnTo>
                      <a:pt x="659" y="1533"/>
                    </a:lnTo>
                    <a:lnTo>
                      <a:pt x="666" y="1521"/>
                    </a:lnTo>
                    <a:lnTo>
                      <a:pt x="668" y="1505"/>
                    </a:lnTo>
                    <a:lnTo>
                      <a:pt x="666" y="1494"/>
                    </a:lnTo>
                    <a:lnTo>
                      <a:pt x="656" y="1478"/>
                    </a:lnTo>
                    <a:lnTo>
                      <a:pt x="640" y="1471"/>
                    </a:lnTo>
                    <a:lnTo>
                      <a:pt x="601" y="1478"/>
                    </a:lnTo>
                    <a:lnTo>
                      <a:pt x="598" y="1467"/>
                    </a:lnTo>
                    <a:lnTo>
                      <a:pt x="601" y="1454"/>
                    </a:lnTo>
                    <a:lnTo>
                      <a:pt x="613" y="1442"/>
                    </a:lnTo>
                    <a:lnTo>
                      <a:pt x="630" y="1439"/>
                    </a:lnTo>
                    <a:lnTo>
                      <a:pt x="632" y="1431"/>
                    </a:lnTo>
                    <a:lnTo>
                      <a:pt x="629" y="1415"/>
                    </a:lnTo>
                    <a:lnTo>
                      <a:pt x="630" y="1398"/>
                    </a:lnTo>
                    <a:lnTo>
                      <a:pt x="635" y="1392"/>
                    </a:lnTo>
                    <a:lnTo>
                      <a:pt x="648" y="1388"/>
                    </a:lnTo>
                    <a:lnTo>
                      <a:pt x="682" y="1365"/>
                    </a:lnTo>
                    <a:lnTo>
                      <a:pt x="667" y="1351"/>
                    </a:lnTo>
                    <a:lnTo>
                      <a:pt x="654" y="1353"/>
                    </a:lnTo>
                    <a:lnTo>
                      <a:pt x="647" y="1350"/>
                    </a:lnTo>
                    <a:lnTo>
                      <a:pt x="629" y="1326"/>
                    </a:lnTo>
                    <a:lnTo>
                      <a:pt x="614" y="1315"/>
                    </a:lnTo>
                    <a:lnTo>
                      <a:pt x="612" y="1315"/>
                    </a:lnTo>
                    <a:lnTo>
                      <a:pt x="619" y="1302"/>
                    </a:lnTo>
                    <a:lnTo>
                      <a:pt x="612" y="1283"/>
                    </a:lnTo>
                    <a:lnTo>
                      <a:pt x="589" y="1277"/>
                    </a:lnTo>
                    <a:lnTo>
                      <a:pt x="566" y="1203"/>
                    </a:lnTo>
                    <a:lnTo>
                      <a:pt x="552" y="1185"/>
                    </a:lnTo>
                    <a:lnTo>
                      <a:pt x="551" y="1176"/>
                    </a:lnTo>
                    <a:lnTo>
                      <a:pt x="535" y="1153"/>
                    </a:lnTo>
                    <a:lnTo>
                      <a:pt x="544" y="1146"/>
                    </a:lnTo>
                    <a:lnTo>
                      <a:pt x="527" y="1119"/>
                    </a:lnTo>
                    <a:lnTo>
                      <a:pt x="522" y="1104"/>
                    </a:lnTo>
                    <a:lnTo>
                      <a:pt x="529" y="1085"/>
                    </a:lnTo>
                    <a:lnTo>
                      <a:pt x="530" y="1069"/>
                    </a:lnTo>
                    <a:lnTo>
                      <a:pt x="552" y="1053"/>
                    </a:lnTo>
                    <a:lnTo>
                      <a:pt x="592" y="1001"/>
                    </a:lnTo>
                    <a:lnTo>
                      <a:pt x="590" y="989"/>
                    </a:lnTo>
                    <a:lnTo>
                      <a:pt x="578" y="965"/>
                    </a:lnTo>
                    <a:lnTo>
                      <a:pt x="578" y="950"/>
                    </a:lnTo>
                    <a:lnTo>
                      <a:pt x="566" y="931"/>
                    </a:lnTo>
                    <a:lnTo>
                      <a:pt x="563" y="913"/>
                    </a:lnTo>
                    <a:lnTo>
                      <a:pt x="545" y="906"/>
                    </a:lnTo>
                    <a:lnTo>
                      <a:pt x="508" y="873"/>
                    </a:lnTo>
                    <a:lnTo>
                      <a:pt x="443" y="847"/>
                    </a:lnTo>
                    <a:lnTo>
                      <a:pt x="480" y="744"/>
                    </a:lnTo>
                    <a:lnTo>
                      <a:pt x="444" y="703"/>
                    </a:lnTo>
                    <a:lnTo>
                      <a:pt x="442" y="693"/>
                    </a:lnTo>
                    <a:lnTo>
                      <a:pt x="444" y="677"/>
                    </a:lnTo>
                    <a:lnTo>
                      <a:pt x="442" y="672"/>
                    </a:lnTo>
                    <a:lnTo>
                      <a:pt x="409" y="629"/>
                    </a:lnTo>
                    <a:lnTo>
                      <a:pt x="358" y="602"/>
                    </a:lnTo>
                    <a:lnTo>
                      <a:pt x="266" y="541"/>
                    </a:lnTo>
                    <a:lnTo>
                      <a:pt x="242" y="517"/>
                    </a:lnTo>
                    <a:lnTo>
                      <a:pt x="227" y="510"/>
                    </a:lnTo>
                    <a:lnTo>
                      <a:pt x="227" y="488"/>
                    </a:lnTo>
                    <a:lnTo>
                      <a:pt x="198" y="445"/>
                    </a:lnTo>
                    <a:lnTo>
                      <a:pt x="130" y="393"/>
                    </a:lnTo>
                    <a:lnTo>
                      <a:pt x="156" y="363"/>
                    </a:lnTo>
                    <a:lnTo>
                      <a:pt x="166" y="338"/>
                    </a:lnTo>
                    <a:lnTo>
                      <a:pt x="185" y="306"/>
                    </a:lnTo>
                    <a:lnTo>
                      <a:pt x="168" y="291"/>
                    </a:lnTo>
                    <a:lnTo>
                      <a:pt x="152" y="311"/>
                    </a:lnTo>
                    <a:lnTo>
                      <a:pt x="142" y="306"/>
                    </a:lnTo>
                    <a:lnTo>
                      <a:pt x="128" y="309"/>
                    </a:lnTo>
                    <a:lnTo>
                      <a:pt x="114" y="293"/>
                    </a:lnTo>
                    <a:lnTo>
                      <a:pt x="109" y="301"/>
                    </a:lnTo>
                    <a:lnTo>
                      <a:pt x="70" y="332"/>
                    </a:lnTo>
                    <a:lnTo>
                      <a:pt x="61" y="326"/>
                    </a:lnTo>
                    <a:lnTo>
                      <a:pt x="43" y="300"/>
                    </a:lnTo>
                    <a:lnTo>
                      <a:pt x="6" y="269"/>
                    </a:lnTo>
                    <a:lnTo>
                      <a:pt x="13" y="252"/>
                    </a:lnTo>
                    <a:lnTo>
                      <a:pt x="0" y="237"/>
                    </a:lnTo>
                    <a:lnTo>
                      <a:pt x="4" y="229"/>
                    </a:lnTo>
                    <a:lnTo>
                      <a:pt x="4" y="209"/>
                    </a:lnTo>
                    <a:lnTo>
                      <a:pt x="34" y="181"/>
                    </a:lnTo>
                    <a:lnTo>
                      <a:pt x="52" y="179"/>
                    </a:lnTo>
                    <a:lnTo>
                      <a:pt x="67" y="193"/>
                    </a:lnTo>
                    <a:lnTo>
                      <a:pt x="78" y="194"/>
                    </a:lnTo>
                    <a:lnTo>
                      <a:pt x="76" y="162"/>
                    </a:lnTo>
                    <a:lnTo>
                      <a:pt x="78" y="152"/>
                    </a:lnTo>
                    <a:lnTo>
                      <a:pt x="106" y="144"/>
                    </a:lnTo>
                    <a:lnTo>
                      <a:pt x="146" y="123"/>
                    </a:lnTo>
                    <a:lnTo>
                      <a:pt x="174" y="133"/>
                    </a:lnTo>
                    <a:lnTo>
                      <a:pt x="256" y="183"/>
                    </a:lnTo>
                    <a:lnTo>
                      <a:pt x="265" y="171"/>
                    </a:lnTo>
                    <a:lnTo>
                      <a:pt x="272" y="165"/>
                    </a:lnTo>
                    <a:lnTo>
                      <a:pt x="278" y="137"/>
                    </a:lnTo>
                    <a:lnTo>
                      <a:pt x="308" y="120"/>
                    </a:lnTo>
                    <a:lnTo>
                      <a:pt x="300" y="89"/>
                    </a:lnTo>
                    <a:lnTo>
                      <a:pt x="311" y="50"/>
                    </a:lnTo>
                    <a:lnTo>
                      <a:pt x="311" y="41"/>
                    </a:lnTo>
                    <a:lnTo>
                      <a:pt x="314" y="42"/>
                    </a:lnTo>
                    <a:lnTo>
                      <a:pt x="329" y="53"/>
                    </a:lnTo>
                    <a:lnTo>
                      <a:pt x="361" y="63"/>
                    </a:lnTo>
                    <a:lnTo>
                      <a:pt x="389" y="42"/>
                    </a:lnTo>
                    <a:lnTo>
                      <a:pt x="425" y="29"/>
                    </a:lnTo>
                    <a:lnTo>
                      <a:pt x="432" y="17"/>
                    </a:lnTo>
                    <a:lnTo>
                      <a:pt x="439" y="20"/>
                    </a:lnTo>
                    <a:lnTo>
                      <a:pt x="457" y="17"/>
                    </a:lnTo>
                    <a:lnTo>
                      <a:pt x="468" y="37"/>
                    </a:lnTo>
                    <a:lnTo>
                      <a:pt x="475" y="42"/>
                    </a:lnTo>
                    <a:lnTo>
                      <a:pt x="475" y="62"/>
                    </a:lnTo>
                    <a:lnTo>
                      <a:pt x="480" y="79"/>
                    </a:lnTo>
                    <a:lnTo>
                      <a:pt x="481" y="115"/>
                    </a:lnTo>
                    <a:lnTo>
                      <a:pt x="486" y="127"/>
                    </a:lnTo>
                    <a:lnTo>
                      <a:pt x="499" y="138"/>
                    </a:lnTo>
                    <a:lnTo>
                      <a:pt x="488" y="158"/>
                    </a:lnTo>
                    <a:lnTo>
                      <a:pt x="470" y="180"/>
                    </a:lnTo>
                    <a:lnTo>
                      <a:pt x="491" y="200"/>
                    </a:lnTo>
                    <a:lnTo>
                      <a:pt x="533" y="224"/>
                    </a:lnTo>
                    <a:lnTo>
                      <a:pt x="539" y="218"/>
                    </a:lnTo>
                    <a:lnTo>
                      <a:pt x="563" y="233"/>
                    </a:lnTo>
                    <a:lnTo>
                      <a:pt x="608" y="246"/>
                    </a:lnTo>
                    <a:lnTo>
                      <a:pt x="619" y="253"/>
                    </a:lnTo>
                    <a:lnTo>
                      <a:pt x="631" y="236"/>
                    </a:lnTo>
                    <a:lnTo>
                      <a:pt x="649" y="231"/>
                    </a:lnTo>
                    <a:lnTo>
                      <a:pt x="638" y="217"/>
                    </a:lnTo>
                    <a:lnTo>
                      <a:pt x="624" y="209"/>
                    </a:lnTo>
                    <a:lnTo>
                      <a:pt x="618" y="180"/>
                    </a:lnTo>
                    <a:lnTo>
                      <a:pt x="630" y="180"/>
                    </a:lnTo>
                    <a:lnTo>
                      <a:pt x="650" y="169"/>
                    </a:lnTo>
                    <a:lnTo>
                      <a:pt x="672" y="167"/>
                    </a:lnTo>
                    <a:lnTo>
                      <a:pt x="698" y="152"/>
                    </a:lnTo>
                    <a:lnTo>
                      <a:pt x="756" y="138"/>
                    </a:lnTo>
                    <a:lnTo>
                      <a:pt x="762" y="156"/>
                    </a:lnTo>
                    <a:lnTo>
                      <a:pt x="762" y="177"/>
                    </a:lnTo>
                    <a:lnTo>
                      <a:pt x="767" y="187"/>
                    </a:lnTo>
                    <a:lnTo>
                      <a:pt x="773" y="188"/>
                    </a:lnTo>
                    <a:lnTo>
                      <a:pt x="787" y="213"/>
                    </a:lnTo>
                    <a:lnTo>
                      <a:pt x="781" y="219"/>
                    </a:lnTo>
                    <a:lnTo>
                      <a:pt x="788" y="231"/>
                    </a:lnTo>
                    <a:lnTo>
                      <a:pt x="822" y="236"/>
                    </a:lnTo>
                    <a:lnTo>
                      <a:pt x="820" y="255"/>
                    </a:lnTo>
                    <a:lnTo>
                      <a:pt x="834" y="275"/>
                    </a:lnTo>
                    <a:lnTo>
                      <a:pt x="868" y="285"/>
                    </a:lnTo>
                    <a:lnTo>
                      <a:pt x="881" y="321"/>
                    </a:lnTo>
                    <a:lnTo>
                      <a:pt x="880" y="345"/>
                    </a:lnTo>
                    <a:lnTo>
                      <a:pt x="864" y="373"/>
                    </a:lnTo>
                    <a:lnTo>
                      <a:pt x="864" y="389"/>
                    </a:lnTo>
                    <a:lnTo>
                      <a:pt x="860" y="395"/>
                    </a:lnTo>
                    <a:lnTo>
                      <a:pt x="859" y="398"/>
                    </a:lnTo>
                    <a:lnTo>
                      <a:pt x="912" y="473"/>
                    </a:lnTo>
                    <a:lnTo>
                      <a:pt x="932" y="492"/>
                    </a:lnTo>
                    <a:lnTo>
                      <a:pt x="976" y="483"/>
                    </a:lnTo>
                    <a:lnTo>
                      <a:pt x="974" y="499"/>
                    </a:lnTo>
                    <a:lnTo>
                      <a:pt x="977" y="509"/>
                    </a:lnTo>
                    <a:lnTo>
                      <a:pt x="974" y="518"/>
                    </a:lnTo>
                    <a:lnTo>
                      <a:pt x="974" y="527"/>
                    </a:lnTo>
                    <a:lnTo>
                      <a:pt x="976" y="525"/>
                    </a:lnTo>
                    <a:lnTo>
                      <a:pt x="1010" y="524"/>
                    </a:lnTo>
                    <a:lnTo>
                      <a:pt x="1031" y="516"/>
                    </a:lnTo>
                    <a:lnTo>
                      <a:pt x="1038" y="511"/>
                    </a:lnTo>
                    <a:lnTo>
                      <a:pt x="1049" y="504"/>
                    </a:lnTo>
                    <a:lnTo>
                      <a:pt x="1062" y="488"/>
                    </a:lnTo>
                    <a:lnTo>
                      <a:pt x="1070" y="459"/>
                    </a:lnTo>
                    <a:lnTo>
                      <a:pt x="1072" y="455"/>
                    </a:lnTo>
                    <a:lnTo>
                      <a:pt x="1048" y="410"/>
                    </a:lnTo>
                    <a:lnTo>
                      <a:pt x="1054" y="396"/>
                    </a:lnTo>
                    <a:lnTo>
                      <a:pt x="1091" y="375"/>
                    </a:lnTo>
                    <a:lnTo>
                      <a:pt x="1102" y="378"/>
                    </a:lnTo>
                    <a:lnTo>
                      <a:pt x="1090" y="396"/>
                    </a:lnTo>
                    <a:lnTo>
                      <a:pt x="1086" y="411"/>
                    </a:lnTo>
                    <a:lnTo>
                      <a:pt x="1086" y="419"/>
                    </a:lnTo>
                    <a:lnTo>
                      <a:pt x="1096" y="433"/>
                    </a:lnTo>
                    <a:lnTo>
                      <a:pt x="1124" y="440"/>
                    </a:lnTo>
                    <a:lnTo>
                      <a:pt x="1136" y="428"/>
                    </a:lnTo>
                    <a:lnTo>
                      <a:pt x="1152" y="405"/>
                    </a:lnTo>
                    <a:lnTo>
                      <a:pt x="1157" y="404"/>
                    </a:lnTo>
                    <a:lnTo>
                      <a:pt x="1184" y="375"/>
                    </a:lnTo>
                    <a:lnTo>
                      <a:pt x="1237" y="343"/>
                    </a:lnTo>
                    <a:lnTo>
                      <a:pt x="1300" y="279"/>
                    </a:lnTo>
                    <a:lnTo>
                      <a:pt x="1372" y="175"/>
                    </a:lnTo>
                    <a:lnTo>
                      <a:pt x="1382" y="104"/>
                    </a:lnTo>
                    <a:lnTo>
                      <a:pt x="1415" y="55"/>
                    </a:lnTo>
                    <a:lnTo>
                      <a:pt x="1447" y="0"/>
                    </a:lnTo>
                    <a:close/>
                  </a:path>
                </a:pathLst>
              </a:custGeom>
              <a:solidFill>
                <a:srgbClr val="ff99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4822560" y="2770560"/>
              <a:ext cx="1816200" cy="68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Észak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lföld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gionális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3101760" y="1773360"/>
              <a:ext cx="3271680" cy="1663560"/>
              <a:chOff x="3101760" y="1773360"/>
              <a:chExt cx="3271680" cy="1663560"/>
            </a:xfrm>
          </p:grpSpPr>
          <p:sp>
            <p:nvSpPr>
              <p:cNvPr id="337" name=""/>
              <p:cNvSpPr/>
              <p:nvPr/>
            </p:nvSpPr>
            <p:spPr>
              <a:xfrm>
                <a:off x="3101760" y="2219040"/>
                <a:ext cx="1243800" cy="814320"/>
              </a:xfrm>
              <a:custGeom>
                <a:avLst/>
                <a:gdLst/>
                <a:ahLst/>
                <a:rect l="l" t="t" r="r" b="b"/>
                <a:pathLst>
                  <a:path w="1574" h="1089">
                    <a:moveTo>
                      <a:pt x="1574" y="192"/>
                    </a:moveTo>
                    <a:lnTo>
                      <a:pt x="1559" y="210"/>
                    </a:lnTo>
                    <a:lnTo>
                      <a:pt x="1557" y="218"/>
                    </a:lnTo>
                    <a:lnTo>
                      <a:pt x="1550" y="219"/>
                    </a:lnTo>
                    <a:lnTo>
                      <a:pt x="1532" y="216"/>
                    </a:lnTo>
                    <a:lnTo>
                      <a:pt x="1515" y="225"/>
                    </a:lnTo>
                    <a:lnTo>
                      <a:pt x="1518" y="244"/>
                    </a:lnTo>
                    <a:lnTo>
                      <a:pt x="1515" y="258"/>
                    </a:lnTo>
                    <a:lnTo>
                      <a:pt x="1495" y="258"/>
                    </a:lnTo>
                    <a:lnTo>
                      <a:pt x="1481" y="268"/>
                    </a:lnTo>
                    <a:lnTo>
                      <a:pt x="1454" y="271"/>
                    </a:lnTo>
                    <a:lnTo>
                      <a:pt x="1435" y="280"/>
                    </a:lnTo>
                    <a:lnTo>
                      <a:pt x="1423" y="278"/>
                    </a:lnTo>
                    <a:lnTo>
                      <a:pt x="1412" y="289"/>
                    </a:lnTo>
                    <a:lnTo>
                      <a:pt x="1421" y="306"/>
                    </a:lnTo>
                    <a:lnTo>
                      <a:pt x="1419" y="313"/>
                    </a:lnTo>
                    <a:lnTo>
                      <a:pt x="1434" y="326"/>
                    </a:lnTo>
                    <a:lnTo>
                      <a:pt x="1433" y="333"/>
                    </a:lnTo>
                    <a:lnTo>
                      <a:pt x="1449" y="334"/>
                    </a:lnTo>
                    <a:lnTo>
                      <a:pt x="1481" y="351"/>
                    </a:lnTo>
                    <a:lnTo>
                      <a:pt x="1494" y="370"/>
                    </a:lnTo>
                    <a:lnTo>
                      <a:pt x="1493" y="376"/>
                    </a:lnTo>
                    <a:lnTo>
                      <a:pt x="1482" y="372"/>
                    </a:lnTo>
                    <a:lnTo>
                      <a:pt x="1478" y="376"/>
                    </a:lnTo>
                    <a:lnTo>
                      <a:pt x="1485" y="394"/>
                    </a:lnTo>
                    <a:lnTo>
                      <a:pt x="1482" y="402"/>
                    </a:lnTo>
                    <a:lnTo>
                      <a:pt x="1494" y="440"/>
                    </a:lnTo>
                    <a:lnTo>
                      <a:pt x="1508" y="445"/>
                    </a:lnTo>
                    <a:lnTo>
                      <a:pt x="1517" y="463"/>
                    </a:lnTo>
                    <a:lnTo>
                      <a:pt x="1446" y="470"/>
                    </a:lnTo>
                    <a:lnTo>
                      <a:pt x="1427" y="482"/>
                    </a:lnTo>
                    <a:lnTo>
                      <a:pt x="1412" y="510"/>
                    </a:lnTo>
                    <a:lnTo>
                      <a:pt x="1422" y="522"/>
                    </a:lnTo>
                    <a:lnTo>
                      <a:pt x="1421" y="530"/>
                    </a:lnTo>
                    <a:lnTo>
                      <a:pt x="1405" y="536"/>
                    </a:lnTo>
                    <a:lnTo>
                      <a:pt x="1406" y="560"/>
                    </a:lnTo>
                    <a:lnTo>
                      <a:pt x="1395" y="572"/>
                    </a:lnTo>
                    <a:lnTo>
                      <a:pt x="1381" y="577"/>
                    </a:lnTo>
                    <a:lnTo>
                      <a:pt x="1361" y="600"/>
                    </a:lnTo>
                    <a:lnTo>
                      <a:pt x="1353" y="601"/>
                    </a:lnTo>
                    <a:lnTo>
                      <a:pt x="1363" y="621"/>
                    </a:lnTo>
                    <a:lnTo>
                      <a:pt x="1362" y="628"/>
                    </a:lnTo>
                    <a:lnTo>
                      <a:pt x="1353" y="636"/>
                    </a:lnTo>
                    <a:lnTo>
                      <a:pt x="1344" y="638"/>
                    </a:lnTo>
                    <a:lnTo>
                      <a:pt x="1332" y="631"/>
                    </a:lnTo>
                    <a:lnTo>
                      <a:pt x="1314" y="636"/>
                    </a:lnTo>
                    <a:lnTo>
                      <a:pt x="1309" y="632"/>
                    </a:lnTo>
                    <a:lnTo>
                      <a:pt x="1296" y="613"/>
                    </a:lnTo>
                    <a:lnTo>
                      <a:pt x="1263" y="608"/>
                    </a:lnTo>
                    <a:lnTo>
                      <a:pt x="1238" y="612"/>
                    </a:lnTo>
                    <a:lnTo>
                      <a:pt x="1217" y="624"/>
                    </a:lnTo>
                    <a:lnTo>
                      <a:pt x="1200" y="625"/>
                    </a:lnTo>
                    <a:lnTo>
                      <a:pt x="1194" y="637"/>
                    </a:lnTo>
                    <a:lnTo>
                      <a:pt x="1200" y="639"/>
                    </a:lnTo>
                    <a:lnTo>
                      <a:pt x="1193" y="664"/>
                    </a:lnTo>
                    <a:lnTo>
                      <a:pt x="1203" y="668"/>
                    </a:lnTo>
                    <a:lnTo>
                      <a:pt x="1225" y="687"/>
                    </a:lnTo>
                    <a:lnTo>
                      <a:pt x="1238" y="679"/>
                    </a:lnTo>
                    <a:lnTo>
                      <a:pt x="1251" y="685"/>
                    </a:lnTo>
                    <a:lnTo>
                      <a:pt x="1256" y="691"/>
                    </a:lnTo>
                    <a:lnTo>
                      <a:pt x="1255" y="700"/>
                    </a:lnTo>
                    <a:lnTo>
                      <a:pt x="1247" y="714"/>
                    </a:lnTo>
                    <a:lnTo>
                      <a:pt x="1233" y="715"/>
                    </a:lnTo>
                    <a:lnTo>
                      <a:pt x="1226" y="724"/>
                    </a:lnTo>
                    <a:lnTo>
                      <a:pt x="1209" y="700"/>
                    </a:lnTo>
                    <a:lnTo>
                      <a:pt x="1189" y="694"/>
                    </a:lnTo>
                    <a:lnTo>
                      <a:pt x="1171" y="672"/>
                    </a:lnTo>
                    <a:lnTo>
                      <a:pt x="1148" y="666"/>
                    </a:lnTo>
                    <a:lnTo>
                      <a:pt x="1139" y="673"/>
                    </a:lnTo>
                    <a:lnTo>
                      <a:pt x="1128" y="698"/>
                    </a:lnTo>
                    <a:lnTo>
                      <a:pt x="1141" y="704"/>
                    </a:lnTo>
                    <a:lnTo>
                      <a:pt x="1137" y="716"/>
                    </a:lnTo>
                    <a:lnTo>
                      <a:pt x="1141" y="730"/>
                    </a:lnTo>
                    <a:lnTo>
                      <a:pt x="1137" y="741"/>
                    </a:lnTo>
                    <a:lnTo>
                      <a:pt x="1113" y="764"/>
                    </a:lnTo>
                    <a:lnTo>
                      <a:pt x="1104" y="784"/>
                    </a:lnTo>
                    <a:lnTo>
                      <a:pt x="1089" y="796"/>
                    </a:lnTo>
                    <a:lnTo>
                      <a:pt x="1086" y="812"/>
                    </a:lnTo>
                    <a:lnTo>
                      <a:pt x="1068" y="828"/>
                    </a:lnTo>
                    <a:lnTo>
                      <a:pt x="1070" y="834"/>
                    </a:lnTo>
                    <a:lnTo>
                      <a:pt x="1064" y="836"/>
                    </a:lnTo>
                    <a:lnTo>
                      <a:pt x="1029" y="825"/>
                    </a:lnTo>
                    <a:lnTo>
                      <a:pt x="1020" y="846"/>
                    </a:lnTo>
                    <a:lnTo>
                      <a:pt x="1009" y="846"/>
                    </a:lnTo>
                    <a:lnTo>
                      <a:pt x="1003" y="865"/>
                    </a:lnTo>
                    <a:lnTo>
                      <a:pt x="993" y="855"/>
                    </a:lnTo>
                    <a:lnTo>
                      <a:pt x="991" y="843"/>
                    </a:lnTo>
                    <a:lnTo>
                      <a:pt x="965" y="855"/>
                    </a:lnTo>
                    <a:lnTo>
                      <a:pt x="984" y="900"/>
                    </a:lnTo>
                    <a:lnTo>
                      <a:pt x="971" y="921"/>
                    </a:lnTo>
                    <a:lnTo>
                      <a:pt x="979" y="939"/>
                    </a:lnTo>
                    <a:lnTo>
                      <a:pt x="959" y="954"/>
                    </a:lnTo>
                    <a:lnTo>
                      <a:pt x="947" y="946"/>
                    </a:lnTo>
                    <a:lnTo>
                      <a:pt x="930" y="951"/>
                    </a:lnTo>
                    <a:lnTo>
                      <a:pt x="917" y="968"/>
                    </a:lnTo>
                    <a:lnTo>
                      <a:pt x="891" y="985"/>
                    </a:lnTo>
                    <a:lnTo>
                      <a:pt x="883" y="984"/>
                    </a:lnTo>
                    <a:lnTo>
                      <a:pt x="878" y="998"/>
                    </a:lnTo>
                    <a:lnTo>
                      <a:pt x="837" y="975"/>
                    </a:lnTo>
                    <a:lnTo>
                      <a:pt x="825" y="976"/>
                    </a:lnTo>
                    <a:lnTo>
                      <a:pt x="809" y="1012"/>
                    </a:lnTo>
                    <a:lnTo>
                      <a:pt x="792" y="1020"/>
                    </a:lnTo>
                    <a:lnTo>
                      <a:pt x="783" y="1029"/>
                    </a:lnTo>
                    <a:lnTo>
                      <a:pt x="781" y="1048"/>
                    </a:lnTo>
                    <a:lnTo>
                      <a:pt x="781" y="1057"/>
                    </a:lnTo>
                    <a:lnTo>
                      <a:pt x="803" y="1063"/>
                    </a:lnTo>
                    <a:lnTo>
                      <a:pt x="809" y="1066"/>
                    </a:lnTo>
                    <a:lnTo>
                      <a:pt x="810" y="1074"/>
                    </a:lnTo>
                    <a:lnTo>
                      <a:pt x="780" y="1089"/>
                    </a:lnTo>
                    <a:lnTo>
                      <a:pt x="768" y="1072"/>
                    </a:lnTo>
                    <a:lnTo>
                      <a:pt x="761" y="1052"/>
                    </a:lnTo>
                    <a:lnTo>
                      <a:pt x="756" y="1050"/>
                    </a:lnTo>
                    <a:lnTo>
                      <a:pt x="752" y="1045"/>
                    </a:lnTo>
                    <a:lnTo>
                      <a:pt x="756" y="1041"/>
                    </a:lnTo>
                    <a:lnTo>
                      <a:pt x="750" y="1017"/>
                    </a:lnTo>
                    <a:lnTo>
                      <a:pt x="741" y="1012"/>
                    </a:lnTo>
                    <a:lnTo>
                      <a:pt x="722" y="964"/>
                    </a:lnTo>
                    <a:lnTo>
                      <a:pt x="727" y="933"/>
                    </a:lnTo>
                    <a:lnTo>
                      <a:pt x="714" y="922"/>
                    </a:lnTo>
                    <a:lnTo>
                      <a:pt x="683" y="921"/>
                    </a:lnTo>
                    <a:lnTo>
                      <a:pt x="685" y="900"/>
                    </a:lnTo>
                    <a:lnTo>
                      <a:pt x="681" y="880"/>
                    </a:lnTo>
                    <a:lnTo>
                      <a:pt x="693" y="877"/>
                    </a:lnTo>
                    <a:lnTo>
                      <a:pt x="707" y="860"/>
                    </a:lnTo>
                    <a:lnTo>
                      <a:pt x="720" y="853"/>
                    </a:lnTo>
                    <a:lnTo>
                      <a:pt x="717" y="842"/>
                    </a:lnTo>
                    <a:lnTo>
                      <a:pt x="668" y="817"/>
                    </a:lnTo>
                    <a:lnTo>
                      <a:pt x="625" y="822"/>
                    </a:lnTo>
                    <a:lnTo>
                      <a:pt x="543" y="795"/>
                    </a:lnTo>
                    <a:lnTo>
                      <a:pt x="503" y="801"/>
                    </a:lnTo>
                    <a:lnTo>
                      <a:pt x="485" y="811"/>
                    </a:lnTo>
                    <a:lnTo>
                      <a:pt x="464" y="808"/>
                    </a:lnTo>
                    <a:lnTo>
                      <a:pt x="453" y="820"/>
                    </a:lnTo>
                    <a:lnTo>
                      <a:pt x="414" y="806"/>
                    </a:lnTo>
                    <a:lnTo>
                      <a:pt x="396" y="793"/>
                    </a:lnTo>
                    <a:lnTo>
                      <a:pt x="392" y="778"/>
                    </a:lnTo>
                    <a:lnTo>
                      <a:pt x="359" y="766"/>
                    </a:lnTo>
                    <a:lnTo>
                      <a:pt x="336" y="774"/>
                    </a:lnTo>
                    <a:lnTo>
                      <a:pt x="290" y="760"/>
                    </a:lnTo>
                    <a:lnTo>
                      <a:pt x="261" y="742"/>
                    </a:lnTo>
                    <a:lnTo>
                      <a:pt x="237" y="734"/>
                    </a:lnTo>
                    <a:lnTo>
                      <a:pt x="219" y="734"/>
                    </a:lnTo>
                    <a:lnTo>
                      <a:pt x="211" y="747"/>
                    </a:lnTo>
                    <a:lnTo>
                      <a:pt x="198" y="753"/>
                    </a:lnTo>
                    <a:lnTo>
                      <a:pt x="180" y="747"/>
                    </a:lnTo>
                    <a:lnTo>
                      <a:pt x="180" y="734"/>
                    </a:lnTo>
                    <a:lnTo>
                      <a:pt x="167" y="716"/>
                    </a:lnTo>
                    <a:lnTo>
                      <a:pt x="147" y="712"/>
                    </a:lnTo>
                    <a:lnTo>
                      <a:pt x="139" y="700"/>
                    </a:lnTo>
                    <a:lnTo>
                      <a:pt x="140" y="686"/>
                    </a:lnTo>
                    <a:lnTo>
                      <a:pt x="86" y="648"/>
                    </a:lnTo>
                    <a:lnTo>
                      <a:pt x="74" y="628"/>
                    </a:lnTo>
                    <a:lnTo>
                      <a:pt x="30" y="596"/>
                    </a:lnTo>
                    <a:lnTo>
                      <a:pt x="6" y="566"/>
                    </a:lnTo>
                    <a:lnTo>
                      <a:pt x="11" y="553"/>
                    </a:lnTo>
                    <a:lnTo>
                      <a:pt x="11" y="542"/>
                    </a:lnTo>
                    <a:lnTo>
                      <a:pt x="0" y="536"/>
                    </a:lnTo>
                    <a:lnTo>
                      <a:pt x="12" y="524"/>
                    </a:lnTo>
                    <a:lnTo>
                      <a:pt x="57" y="499"/>
                    </a:lnTo>
                    <a:lnTo>
                      <a:pt x="71" y="487"/>
                    </a:lnTo>
                    <a:lnTo>
                      <a:pt x="71" y="476"/>
                    </a:lnTo>
                    <a:lnTo>
                      <a:pt x="89" y="468"/>
                    </a:lnTo>
                    <a:lnTo>
                      <a:pt x="83" y="451"/>
                    </a:lnTo>
                    <a:lnTo>
                      <a:pt x="86" y="439"/>
                    </a:lnTo>
                    <a:lnTo>
                      <a:pt x="92" y="433"/>
                    </a:lnTo>
                    <a:lnTo>
                      <a:pt x="80" y="427"/>
                    </a:lnTo>
                    <a:lnTo>
                      <a:pt x="75" y="415"/>
                    </a:lnTo>
                    <a:lnTo>
                      <a:pt x="65" y="415"/>
                    </a:lnTo>
                    <a:lnTo>
                      <a:pt x="57" y="424"/>
                    </a:lnTo>
                    <a:lnTo>
                      <a:pt x="49" y="416"/>
                    </a:lnTo>
                    <a:lnTo>
                      <a:pt x="42" y="417"/>
                    </a:lnTo>
                    <a:lnTo>
                      <a:pt x="9" y="333"/>
                    </a:lnTo>
                    <a:lnTo>
                      <a:pt x="18" y="327"/>
                    </a:lnTo>
                    <a:lnTo>
                      <a:pt x="24" y="328"/>
                    </a:lnTo>
                    <a:lnTo>
                      <a:pt x="33" y="343"/>
                    </a:lnTo>
                    <a:lnTo>
                      <a:pt x="42" y="351"/>
                    </a:lnTo>
                    <a:lnTo>
                      <a:pt x="56" y="352"/>
                    </a:lnTo>
                    <a:lnTo>
                      <a:pt x="71" y="366"/>
                    </a:lnTo>
                    <a:lnTo>
                      <a:pt x="81" y="368"/>
                    </a:lnTo>
                    <a:lnTo>
                      <a:pt x="114" y="351"/>
                    </a:lnTo>
                    <a:lnTo>
                      <a:pt x="128" y="345"/>
                    </a:lnTo>
                    <a:lnTo>
                      <a:pt x="141" y="346"/>
                    </a:lnTo>
                    <a:lnTo>
                      <a:pt x="173" y="367"/>
                    </a:lnTo>
                    <a:lnTo>
                      <a:pt x="185" y="367"/>
                    </a:lnTo>
                    <a:lnTo>
                      <a:pt x="199" y="354"/>
                    </a:lnTo>
                    <a:lnTo>
                      <a:pt x="216" y="346"/>
                    </a:lnTo>
                    <a:lnTo>
                      <a:pt x="247" y="351"/>
                    </a:lnTo>
                    <a:lnTo>
                      <a:pt x="263" y="351"/>
                    </a:lnTo>
                    <a:lnTo>
                      <a:pt x="283" y="346"/>
                    </a:lnTo>
                    <a:lnTo>
                      <a:pt x="295" y="346"/>
                    </a:lnTo>
                    <a:lnTo>
                      <a:pt x="315" y="357"/>
                    </a:lnTo>
                    <a:lnTo>
                      <a:pt x="331" y="360"/>
                    </a:lnTo>
                    <a:lnTo>
                      <a:pt x="366" y="364"/>
                    </a:lnTo>
                    <a:lnTo>
                      <a:pt x="396" y="364"/>
                    </a:lnTo>
                    <a:lnTo>
                      <a:pt x="413" y="374"/>
                    </a:lnTo>
                    <a:lnTo>
                      <a:pt x="423" y="374"/>
                    </a:lnTo>
                    <a:lnTo>
                      <a:pt x="451" y="332"/>
                    </a:lnTo>
                    <a:lnTo>
                      <a:pt x="462" y="337"/>
                    </a:lnTo>
                    <a:lnTo>
                      <a:pt x="474" y="337"/>
                    </a:lnTo>
                    <a:lnTo>
                      <a:pt x="483" y="327"/>
                    </a:lnTo>
                    <a:lnTo>
                      <a:pt x="495" y="325"/>
                    </a:lnTo>
                    <a:lnTo>
                      <a:pt x="501" y="315"/>
                    </a:lnTo>
                    <a:lnTo>
                      <a:pt x="506" y="314"/>
                    </a:lnTo>
                    <a:lnTo>
                      <a:pt x="547" y="308"/>
                    </a:lnTo>
                    <a:lnTo>
                      <a:pt x="583" y="309"/>
                    </a:lnTo>
                    <a:lnTo>
                      <a:pt x="605" y="309"/>
                    </a:lnTo>
                    <a:lnTo>
                      <a:pt x="619" y="303"/>
                    </a:lnTo>
                    <a:lnTo>
                      <a:pt x="636" y="315"/>
                    </a:lnTo>
                    <a:lnTo>
                      <a:pt x="661" y="307"/>
                    </a:lnTo>
                    <a:lnTo>
                      <a:pt x="695" y="289"/>
                    </a:lnTo>
                    <a:lnTo>
                      <a:pt x="704" y="278"/>
                    </a:lnTo>
                    <a:lnTo>
                      <a:pt x="713" y="279"/>
                    </a:lnTo>
                    <a:lnTo>
                      <a:pt x="715" y="286"/>
                    </a:lnTo>
                    <a:lnTo>
                      <a:pt x="714" y="304"/>
                    </a:lnTo>
                    <a:lnTo>
                      <a:pt x="726" y="313"/>
                    </a:lnTo>
                    <a:lnTo>
                      <a:pt x="733" y="308"/>
                    </a:lnTo>
                    <a:lnTo>
                      <a:pt x="733" y="304"/>
                    </a:lnTo>
                    <a:lnTo>
                      <a:pt x="745" y="295"/>
                    </a:lnTo>
                    <a:lnTo>
                      <a:pt x="751" y="282"/>
                    </a:lnTo>
                    <a:lnTo>
                      <a:pt x="752" y="267"/>
                    </a:lnTo>
                    <a:lnTo>
                      <a:pt x="755" y="247"/>
                    </a:lnTo>
                    <a:lnTo>
                      <a:pt x="761" y="236"/>
                    </a:lnTo>
                    <a:lnTo>
                      <a:pt x="762" y="206"/>
                    </a:lnTo>
                    <a:lnTo>
                      <a:pt x="782" y="186"/>
                    </a:lnTo>
                    <a:lnTo>
                      <a:pt x="785" y="171"/>
                    </a:lnTo>
                    <a:lnTo>
                      <a:pt x="782" y="133"/>
                    </a:lnTo>
                    <a:lnTo>
                      <a:pt x="791" y="120"/>
                    </a:lnTo>
                    <a:lnTo>
                      <a:pt x="798" y="88"/>
                    </a:lnTo>
                    <a:lnTo>
                      <a:pt x="807" y="68"/>
                    </a:lnTo>
                    <a:lnTo>
                      <a:pt x="821" y="52"/>
                    </a:lnTo>
                    <a:lnTo>
                      <a:pt x="840" y="51"/>
                    </a:lnTo>
                    <a:lnTo>
                      <a:pt x="875" y="56"/>
                    </a:lnTo>
                    <a:lnTo>
                      <a:pt x="879" y="52"/>
                    </a:lnTo>
                    <a:lnTo>
                      <a:pt x="900" y="43"/>
                    </a:lnTo>
                    <a:lnTo>
                      <a:pt x="923" y="15"/>
                    </a:lnTo>
                    <a:lnTo>
                      <a:pt x="942" y="0"/>
                    </a:lnTo>
                    <a:lnTo>
                      <a:pt x="959" y="0"/>
                    </a:lnTo>
                    <a:lnTo>
                      <a:pt x="990" y="6"/>
                    </a:lnTo>
                    <a:lnTo>
                      <a:pt x="1016" y="14"/>
                    </a:lnTo>
                    <a:lnTo>
                      <a:pt x="1021" y="25"/>
                    </a:lnTo>
                    <a:lnTo>
                      <a:pt x="1022" y="46"/>
                    </a:lnTo>
                    <a:lnTo>
                      <a:pt x="1034" y="66"/>
                    </a:lnTo>
                    <a:lnTo>
                      <a:pt x="1050" y="72"/>
                    </a:lnTo>
                    <a:lnTo>
                      <a:pt x="1068" y="72"/>
                    </a:lnTo>
                    <a:lnTo>
                      <a:pt x="1097" y="57"/>
                    </a:lnTo>
                    <a:lnTo>
                      <a:pt x="1115" y="55"/>
                    </a:lnTo>
                    <a:lnTo>
                      <a:pt x="1131" y="63"/>
                    </a:lnTo>
                    <a:lnTo>
                      <a:pt x="1151" y="85"/>
                    </a:lnTo>
                    <a:lnTo>
                      <a:pt x="1165" y="96"/>
                    </a:lnTo>
                    <a:lnTo>
                      <a:pt x="1170" y="111"/>
                    </a:lnTo>
                    <a:lnTo>
                      <a:pt x="1161" y="128"/>
                    </a:lnTo>
                    <a:lnTo>
                      <a:pt x="1152" y="144"/>
                    </a:lnTo>
                    <a:lnTo>
                      <a:pt x="1155" y="157"/>
                    </a:lnTo>
                    <a:lnTo>
                      <a:pt x="1164" y="172"/>
                    </a:lnTo>
                    <a:lnTo>
                      <a:pt x="1178" y="170"/>
                    </a:lnTo>
                    <a:lnTo>
                      <a:pt x="1202" y="156"/>
                    </a:lnTo>
                    <a:lnTo>
                      <a:pt x="1213" y="156"/>
                    </a:lnTo>
                    <a:lnTo>
                      <a:pt x="1226" y="147"/>
                    </a:lnTo>
                    <a:lnTo>
                      <a:pt x="1232" y="138"/>
                    </a:lnTo>
                    <a:lnTo>
                      <a:pt x="1242" y="139"/>
                    </a:lnTo>
                    <a:lnTo>
                      <a:pt x="1250" y="146"/>
                    </a:lnTo>
                    <a:lnTo>
                      <a:pt x="1267" y="145"/>
                    </a:lnTo>
                    <a:lnTo>
                      <a:pt x="1284" y="153"/>
                    </a:lnTo>
                    <a:lnTo>
                      <a:pt x="1305" y="170"/>
                    </a:lnTo>
                    <a:lnTo>
                      <a:pt x="1322" y="190"/>
                    </a:lnTo>
                    <a:lnTo>
                      <a:pt x="1315" y="201"/>
                    </a:lnTo>
                    <a:lnTo>
                      <a:pt x="1308" y="224"/>
                    </a:lnTo>
                    <a:lnTo>
                      <a:pt x="1314" y="234"/>
                    </a:lnTo>
                    <a:lnTo>
                      <a:pt x="1326" y="231"/>
                    </a:lnTo>
                    <a:lnTo>
                      <a:pt x="1343" y="226"/>
                    </a:lnTo>
                    <a:lnTo>
                      <a:pt x="1359" y="212"/>
                    </a:lnTo>
                    <a:lnTo>
                      <a:pt x="1380" y="192"/>
                    </a:lnTo>
                    <a:lnTo>
                      <a:pt x="1403" y="169"/>
                    </a:lnTo>
                    <a:lnTo>
                      <a:pt x="1430" y="151"/>
                    </a:lnTo>
                    <a:lnTo>
                      <a:pt x="1445" y="142"/>
                    </a:lnTo>
                    <a:lnTo>
                      <a:pt x="1464" y="140"/>
                    </a:lnTo>
                    <a:lnTo>
                      <a:pt x="1477" y="132"/>
                    </a:lnTo>
                    <a:lnTo>
                      <a:pt x="1505" y="150"/>
                    </a:lnTo>
                    <a:lnTo>
                      <a:pt x="1529" y="138"/>
                    </a:lnTo>
                    <a:lnTo>
                      <a:pt x="1538" y="150"/>
                    </a:lnTo>
                    <a:lnTo>
                      <a:pt x="1536" y="157"/>
                    </a:lnTo>
                    <a:lnTo>
                      <a:pt x="1539" y="164"/>
                    </a:lnTo>
                    <a:lnTo>
                      <a:pt x="1568" y="166"/>
                    </a:lnTo>
                    <a:lnTo>
                      <a:pt x="1574" y="192"/>
                    </a:lnTo>
                    <a:close/>
                  </a:path>
                </a:pathLst>
              </a:custGeom>
              <a:solidFill>
                <a:srgbClr val="99ffcc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263480" y="1773360"/>
                <a:ext cx="2109960" cy="1391040"/>
              </a:xfrm>
              <a:custGeom>
                <a:avLst/>
                <a:gdLst/>
                <a:ahLst/>
                <a:rect l="l" t="t" r="r" b="b"/>
                <a:pathLst>
                  <a:path w="2791" h="1861">
                    <a:moveTo>
                      <a:pt x="2769" y="409"/>
                    </a:moveTo>
                    <a:lnTo>
                      <a:pt x="2776" y="411"/>
                    </a:lnTo>
                    <a:lnTo>
                      <a:pt x="2791" y="406"/>
                    </a:lnTo>
                    <a:lnTo>
                      <a:pt x="2781" y="429"/>
                    </a:lnTo>
                    <a:lnTo>
                      <a:pt x="2774" y="433"/>
                    </a:lnTo>
                    <a:lnTo>
                      <a:pt x="2769" y="439"/>
                    </a:lnTo>
                    <a:lnTo>
                      <a:pt x="2769" y="443"/>
                    </a:lnTo>
                    <a:lnTo>
                      <a:pt x="2768" y="456"/>
                    </a:lnTo>
                    <a:lnTo>
                      <a:pt x="2766" y="471"/>
                    </a:lnTo>
                    <a:lnTo>
                      <a:pt x="2751" y="498"/>
                    </a:lnTo>
                    <a:lnTo>
                      <a:pt x="2737" y="505"/>
                    </a:lnTo>
                    <a:lnTo>
                      <a:pt x="2733" y="513"/>
                    </a:lnTo>
                    <a:lnTo>
                      <a:pt x="2739" y="538"/>
                    </a:lnTo>
                    <a:lnTo>
                      <a:pt x="2737" y="546"/>
                    </a:lnTo>
                    <a:lnTo>
                      <a:pt x="2731" y="545"/>
                    </a:lnTo>
                    <a:lnTo>
                      <a:pt x="2715" y="531"/>
                    </a:lnTo>
                    <a:lnTo>
                      <a:pt x="2710" y="541"/>
                    </a:lnTo>
                    <a:lnTo>
                      <a:pt x="2715" y="557"/>
                    </a:lnTo>
                    <a:lnTo>
                      <a:pt x="2708" y="567"/>
                    </a:lnTo>
                    <a:lnTo>
                      <a:pt x="2702" y="565"/>
                    </a:lnTo>
                    <a:lnTo>
                      <a:pt x="2695" y="559"/>
                    </a:lnTo>
                    <a:lnTo>
                      <a:pt x="2688" y="545"/>
                    </a:lnTo>
                    <a:lnTo>
                      <a:pt x="2664" y="551"/>
                    </a:lnTo>
                    <a:lnTo>
                      <a:pt x="2646" y="550"/>
                    </a:lnTo>
                    <a:lnTo>
                      <a:pt x="2631" y="557"/>
                    </a:lnTo>
                    <a:lnTo>
                      <a:pt x="2611" y="574"/>
                    </a:lnTo>
                    <a:lnTo>
                      <a:pt x="2588" y="603"/>
                    </a:lnTo>
                    <a:lnTo>
                      <a:pt x="2564" y="643"/>
                    </a:lnTo>
                    <a:lnTo>
                      <a:pt x="2530" y="671"/>
                    </a:lnTo>
                    <a:lnTo>
                      <a:pt x="2521" y="690"/>
                    </a:lnTo>
                    <a:lnTo>
                      <a:pt x="2517" y="694"/>
                    </a:lnTo>
                    <a:lnTo>
                      <a:pt x="2491" y="683"/>
                    </a:lnTo>
                    <a:lnTo>
                      <a:pt x="2486" y="684"/>
                    </a:lnTo>
                    <a:lnTo>
                      <a:pt x="2457" y="699"/>
                    </a:lnTo>
                    <a:lnTo>
                      <a:pt x="2445" y="699"/>
                    </a:lnTo>
                    <a:lnTo>
                      <a:pt x="2425" y="691"/>
                    </a:lnTo>
                    <a:lnTo>
                      <a:pt x="2397" y="718"/>
                    </a:lnTo>
                    <a:lnTo>
                      <a:pt x="2366" y="723"/>
                    </a:lnTo>
                    <a:lnTo>
                      <a:pt x="2355" y="732"/>
                    </a:lnTo>
                    <a:lnTo>
                      <a:pt x="2352" y="748"/>
                    </a:lnTo>
                    <a:lnTo>
                      <a:pt x="2337" y="762"/>
                    </a:lnTo>
                    <a:lnTo>
                      <a:pt x="2330" y="765"/>
                    </a:lnTo>
                    <a:lnTo>
                      <a:pt x="2316" y="756"/>
                    </a:lnTo>
                    <a:lnTo>
                      <a:pt x="2307" y="759"/>
                    </a:lnTo>
                    <a:lnTo>
                      <a:pt x="2301" y="778"/>
                    </a:lnTo>
                    <a:lnTo>
                      <a:pt x="2290" y="777"/>
                    </a:lnTo>
                    <a:lnTo>
                      <a:pt x="2294" y="767"/>
                    </a:lnTo>
                    <a:lnTo>
                      <a:pt x="2290" y="765"/>
                    </a:lnTo>
                    <a:lnTo>
                      <a:pt x="2284" y="759"/>
                    </a:lnTo>
                    <a:lnTo>
                      <a:pt x="2268" y="763"/>
                    </a:lnTo>
                    <a:lnTo>
                      <a:pt x="2257" y="780"/>
                    </a:lnTo>
                    <a:lnTo>
                      <a:pt x="2256" y="772"/>
                    </a:lnTo>
                    <a:lnTo>
                      <a:pt x="2252" y="772"/>
                    </a:lnTo>
                    <a:lnTo>
                      <a:pt x="2251" y="786"/>
                    </a:lnTo>
                    <a:lnTo>
                      <a:pt x="2245" y="793"/>
                    </a:lnTo>
                    <a:lnTo>
                      <a:pt x="2205" y="790"/>
                    </a:lnTo>
                    <a:lnTo>
                      <a:pt x="2182" y="799"/>
                    </a:lnTo>
                    <a:lnTo>
                      <a:pt x="2156" y="795"/>
                    </a:lnTo>
                    <a:lnTo>
                      <a:pt x="2143" y="798"/>
                    </a:lnTo>
                    <a:lnTo>
                      <a:pt x="2101" y="786"/>
                    </a:lnTo>
                    <a:lnTo>
                      <a:pt x="2085" y="783"/>
                    </a:lnTo>
                    <a:lnTo>
                      <a:pt x="2058" y="763"/>
                    </a:lnTo>
                    <a:lnTo>
                      <a:pt x="2046" y="778"/>
                    </a:lnTo>
                    <a:lnTo>
                      <a:pt x="2026" y="778"/>
                    </a:lnTo>
                    <a:lnTo>
                      <a:pt x="2024" y="790"/>
                    </a:lnTo>
                    <a:lnTo>
                      <a:pt x="2000" y="796"/>
                    </a:lnTo>
                    <a:lnTo>
                      <a:pt x="1981" y="816"/>
                    </a:lnTo>
                    <a:lnTo>
                      <a:pt x="1966" y="817"/>
                    </a:lnTo>
                    <a:lnTo>
                      <a:pt x="1922" y="814"/>
                    </a:lnTo>
                    <a:lnTo>
                      <a:pt x="1914" y="827"/>
                    </a:lnTo>
                    <a:lnTo>
                      <a:pt x="1894" y="831"/>
                    </a:lnTo>
                    <a:lnTo>
                      <a:pt x="1878" y="856"/>
                    </a:lnTo>
                    <a:lnTo>
                      <a:pt x="1864" y="863"/>
                    </a:lnTo>
                    <a:lnTo>
                      <a:pt x="1845" y="911"/>
                    </a:lnTo>
                    <a:lnTo>
                      <a:pt x="1833" y="922"/>
                    </a:lnTo>
                    <a:lnTo>
                      <a:pt x="1830" y="930"/>
                    </a:lnTo>
                    <a:lnTo>
                      <a:pt x="1834" y="947"/>
                    </a:lnTo>
                    <a:lnTo>
                      <a:pt x="1848" y="964"/>
                    </a:lnTo>
                    <a:lnTo>
                      <a:pt x="1866" y="977"/>
                    </a:lnTo>
                    <a:lnTo>
                      <a:pt x="1876" y="989"/>
                    </a:lnTo>
                    <a:lnTo>
                      <a:pt x="1876" y="993"/>
                    </a:lnTo>
                    <a:lnTo>
                      <a:pt x="1855" y="997"/>
                    </a:lnTo>
                    <a:lnTo>
                      <a:pt x="1852" y="1002"/>
                    </a:lnTo>
                    <a:lnTo>
                      <a:pt x="1861" y="1032"/>
                    </a:lnTo>
                    <a:lnTo>
                      <a:pt x="1863" y="1049"/>
                    </a:lnTo>
                    <a:lnTo>
                      <a:pt x="1858" y="1079"/>
                    </a:lnTo>
                    <a:lnTo>
                      <a:pt x="1854" y="1083"/>
                    </a:lnTo>
                    <a:lnTo>
                      <a:pt x="1845" y="1081"/>
                    </a:lnTo>
                    <a:lnTo>
                      <a:pt x="1834" y="1071"/>
                    </a:lnTo>
                    <a:lnTo>
                      <a:pt x="1826" y="1072"/>
                    </a:lnTo>
                    <a:lnTo>
                      <a:pt x="1824" y="1084"/>
                    </a:lnTo>
                    <a:lnTo>
                      <a:pt x="1826" y="1103"/>
                    </a:lnTo>
                    <a:lnTo>
                      <a:pt x="1813" y="1105"/>
                    </a:lnTo>
                    <a:lnTo>
                      <a:pt x="1749" y="1105"/>
                    </a:lnTo>
                    <a:lnTo>
                      <a:pt x="1734" y="1119"/>
                    </a:lnTo>
                    <a:lnTo>
                      <a:pt x="1719" y="1121"/>
                    </a:lnTo>
                    <a:lnTo>
                      <a:pt x="1681" y="1111"/>
                    </a:lnTo>
                    <a:lnTo>
                      <a:pt x="1651" y="1103"/>
                    </a:lnTo>
                    <a:lnTo>
                      <a:pt x="1634" y="1092"/>
                    </a:lnTo>
                    <a:lnTo>
                      <a:pt x="1621" y="1077"/>
                    </a:lnTo>
                    <a:lnTo>
                      <a:pt x="1620" y="1054"/>
                    </a:lnTo>
                    <a:lnTo>
                      <a:pt x="1600" y="1062"/>
                    </a:lnTo>
                    <a:lnTo>
                      <a:pt x="1575" y="1086"/>
                    </a:lnTo>
                    <a:lnTo>
                      <a:pt x="1574" y="1096"/>
                    </a:lnTo>
                    <a:lnTo>
                      <a:pt x="1576" y="1108"/>
                    </a:lnTo>
                    <a:lnTo>
                      <a:pt x="1574" y="1115"/>
                    </a:lnTo>
                    <a:lnTo>
                      <a:pt x="1564" y="1119"/>
                    </a:lnTo>
                    <a:lnTo>
                      <a:pt x="1512" y="1114"/>
                    </a:lnTo>
                    <a:lnTo>
                      <a:pt x="1501" y="1119"/>
                    </a:lnTo>
                    <a:lnTo>
                      <a:pt x="1500" y="1093"/>
                    </a:lnTo>
                    <a:lnTo>
                      <a:pt x="1495" y="1086"/>
                    </a:lnTo>
                    <a:lnTo>
                      <a:pt x="1484" y="1084"/>
                    </a:lnTo>
                    <a:lnTo>
                      <a:pt x="1470" y="1092"/>
                    </a:lnTo>
                    <a:lnTo>
                      <a:pt x="1450" y="1074"/>
                    </a:lnTo>
                    <a:lnTo>
                      <a:pt x="1447" y="1080"/>
                    </a:lnTo>
                    <a:lnTo>
                      <a:pt x="1447" y="1086"/>
                    </a:lnTo>
                    <a:lnTo>
                      <a:pt x="1410" y="1134"/>
                    </a:lnTo>
                    <a:lnTo>
                      <a:pt x="1402" y="1134"/>
                    </a:lnTo>
                    <a:lnTo>
                      <a:pt x="1396" y="1151"/>
                    </a:lnTo>
                    <a:lnTo>
                      <a:pt x="1384" y="1158"/>
                    </a:lnTo>
                    <a:lnTo>
                      <a:pt x="1383" y="1164"/>
                    </a:lnTo>
                    <a:lnTo>
                      <a:pt x="1418" y="1227"/>
                    </a:lnTo>
                    <a:lnTo>
                      <a:pt x="1417" y="1240"/>
                    </a:lnTo>
                    <a:lnTo>
                      <a:pt x="1418" y="1240"/>
                    </a:lnTo>
                    <a:lnTo>
                      <a:pt x="1406" y="1290"/>
                    </a:lnTo>
                    <a:lnTo>
                      <a:pt x="1399" y="1301"/>
                    </a:lnTo>
                    <a:lnTo>
                      <a:pt x="1388" y="1308"/>
                    </a:lnTo>
                    <a:lnTo>
                      <a:pt x="1390" y="1317"/>
                    </a:lnTo>
                    <a:lnTo>
                      <a:pt x="1407" y="1323"/>
                    </a:lnTo>
                    <a:lnTo>
                      <a:pt x="1426" y="1317"/>
                    </a:lnTo>
                    <a:lnTo>
                      <a:pt x="1431" y="1325"/>
                    </a:lnTo>
                    <a:lnTo>
                      <a:pt x="1424" y="1347"/>
                    </a:lnTo>
                    <a:lnTo>
                      <a:pt x="1392" y="1353"/>
                    </a:lnTo>
                    <a:lnTo>
                      <a:pt x="1382" y="1378"/>
                    </a:lnTo>
                    <a:lnTo>
                      <a:pt x="1382" y="1422"/>
                    </a:lnTo>
                    <a:lnTo>
                      <a:pt x="1371" y="1427"/>
                    </a:lnTo>
                    <a:lnTo>
                      <a:pt x="1365" y="1441"/>
                    </a:lnTo>
                    <a:lnTo>
                      <a:pt x="1350" y="1446"/>
                    </a:lnTo>
                    <a:lnTo>
                      <a:pt x="1346" y="1453"/>
                    </a:lnTo>
                    <a:lnTo>
                      <a:pt x="1353" y="1462"/>
                    </a:lnTo>
                    <a:lnTo>
                      <a:pt x="1352" y="1476"/>
                    </a:lnTo>
                    <a:lnTo>
                      <a:pt x="1369" y="1494"/>
                    </a:lnTo>
                    <a:lnTo>
                      <a:pt x="1366" y="1507"/>
                    </a:lnTo>
                    <a:lnTo>
                      <a:pt x="1371" y="1523"/>
                    </a:lnTo>
                    <a:lnTo>
                      <a:pt x="1371" y="1530"/>
                    </a:lnTo>
                    <a:lnTo>
                      <a:pt x="1360" y="1545"/>
                    </a:lnTo>
                    <a:lnTo>
                      <a:pt x="1358" y="1578"/>
                    </a:lnTo>
                    <a:lnTo>
                      <a:pt x="1348" y="1584"/>
                    </a:lnTo>
                    <a:lnTo>
                      <a:pt x="1345" y="1602"/>
                    </a:lnTo>
                    <a:lnTo>
                      <a:pt x="1336" y="1607"/>
                    </a:lnTo>
                    <a:lnTo>
                      <a:pt x="1341" y="1615"/>
                    </a:lnTo>
                    <a:lnTo>
                      <a:pt x="1327" y="1635"/>
                    </a:lnTo>
                    <a:lnTo>
                      <a:pt x="1333" y="1649"/>
                    </a:lnTo>
                    <a:lnTo>
                      <a:pt x="1323" y="1663"/>
                    </a:lnTo>
                    <a:lnTo>
                      <a:pt x="1315" y="1659"/>
                    </a:lnTo>
                    <a:lnTo>
                      <a:pt x="1304" y="1641"/>
                    </a:lnTo>
                    <a:lnTo>
                      <a:pt x="1273" y="1649"/>
                    </a:lnTo>
                    <a:lnTo>
                      <a:pt x="1266" y="1665"/>
                    </a:lnTo>
                    <a:lnTo>
                      <a:pt x="1280" y="1701"/>
                    </a:lnTo>
                    <a:lnTo>
                      <a:pt x="1278" y="1707"/>
                    </a:lnTo>
                    <a:lnTo>
                      <a:pt x="1260" y="1715"/>
                    </a:lnTo>
                    <a:lnTo>
                      <a:pt x="1227" y="1714"/>
                    </a:lnTo>
                    <a:lnTo>
                      <a:pt x="1210" y="1720"/>
                    </a:lnTo>
                    <a:lnTo>
                      <a:pt x="1202" y="1734"/>
                    </a:lnTo>
                    <a:lnTo>
                      <a:pt x="1191" y="1738"/>
                    </a:lnTo>
                    <a:lnTo>
                      <a:pt x="1184" y="1739"/>
                    </a:lnTo>
                    <a:lnTo>
                      <a:pt x="1182" y="1745"/>
                    </a:lnTo>
                    <a:lnTo>
                      <a:pt x="1161" y="1768"/>
                    </a:lnTo>
                    <a:lnTo>
                      <a:pt x="1140" y="1780"/>
                    </a:lnTo>
                    <a:lnTo>
                      <a:pt x="1131" y="1763"/>
                    </a:lnTo>
                    <a:lnTo>
                      <a:pt x="1120" y="1762"/>
                    </a:lnTo>
                    <a:lnTo>
                      <a:pt x="1117" y="1771"/>
                    </a:lnTo>
                    <a:lnTo>
                      <a:pt x="1123" y="1792"/>
                    </a:lnTo>
                    <a:lnTo>
                      <a:pt x="1147" y="1793"/>
                    </a:lnTo>
                    <a:lnTo>
                      <a:pt x="1147" y="1800"/>
                    </a:lnTo>
                    <a:lnTo>
                      <a:pt x="1123" y="1812"/>
                    </a:lnTo>
                    <a:lnTo>
                      <a:pt x="1111" y="1807"/>
                    </a:lnTo>
                    <a:lnTo>
                      <a:pt x="1096" y="1815"/>
                    </a:lnTo>
                    <a:lnTo>
                      <a:pt x="1084" y="1803"/>
                    </a:lnTo>
                    <a:lnTo>
                      <a:pt x="1069" y="1800"/>
                    </a:lnTo>
                    <a:lnTo>
                      <a:pt x="1075" y="1817"/>
                    </a:lnTo>
                    <a:lnTo>
                      <a:pt x="1105" y="1845"/>
                    </a:lnTo>
                    <a:lnTo>
                      <a:pt x="1107" y="1853"/>
                    </a:lnTo>
                    <a:lnTo>
                      <a:pt x="1104" y="1857"/>
                    </a:lnTo>
                    <a:lnTo>
                      <a:pt x="1086" y="1861"/>
                    </a:lnTo>
                    <a:lnTo>
                      <a:pt x="1078" y="1853"/>
                    </a:lnTo>
                    <a:lnTo>
                      <a:pt x="1074" y="1835"/>
                    </a:lnTo>
                    <a:lnTo>
                      <a:pt x="1065" y="1837"/>
                    </a:lnTo>
                    <a:lnTo>
                      <a:pt x="1036" y="1834"/>
                    </a:lnTo>
                    <a:lnTo>
                      <a:pt x="1018" y="1824"/>
                    </a:lnTo>
                    <a:lnTo>
                      <a:pt x="1004" y="1804"/>
                    </a:lnTo>
                    <a:lnTo>
                      <a:pt x="994" y="1797"/>
                    </a:lnTo>
                    <a:lnTo>
                      <a:pt x="972" y="1795"/>
                    </a:lnTo>
                    <a:lnTo>
                      <a:pt x="942" y="1803"/>
                    </a:lnTo>
                    <a:lnTo>
                      <a:pt x="921" y="1807"/>
                    </a:lnTo>
                    <a:lnTo>
                      <a:pt x="897" y="1792"/>
                    </a:lnTo>
                    <a:lnTo>
                      <a:pt x="892" y="1787"/>
                    </a:lnTo>
                    <a:lnTo>
                      <a:pt x="859" y="1774"/>
                    </a:lnTo>
                    <a:lnTo>
                      <a:pt x="842" y="1753"/>
                    </a:lnTo>
                    <a:lnTo>
                      <a:pt x="836" y="1770"/>
                    </a:lnTo>
                    <a:lnTo>
                      <a:pt x="823" y="1770"/>
                    </a:lnTo>
                    <a:lnTo>
                      <a:pt x="800" y="1775"/>
                    </a:lnTo>
                    <a:lnTo>
                      <a:pt x="776" y="1764"/>
                    </a:lnTo>
                    <a:lnTo>
                      <a:pt x="759" y="1762"/>
                    </a:lnTo>
                    <a:lnTo>
                      <a:pt x="744" y="1746"/>
                    </a:lnTo>
                    <a:lnTo>
                      <a:pt x="728" y="1739"/>
                    </a:lnTo>
                    <a:lnTo>
                      <a:pt x="722" y="1728"/>
                    </a:lnTo>
                    <a:lnTo>
                      <a:pt x="712" y="1734"/>
                    </a:lnTo>
                    <a:lnTo>
                      <a:pt x="704" y="1726"/>
                    </a:lnTo>
                    <a:lnTo>
                      <a:pt x="711" y="1716"/>
                    </a:lnTo>
                    <a:lnTo>
                      <a:pt x="714" y="1703"/>
                    </a:lnTo>
                    <a:lnTo>
                      <a:pt x="727" y="1687"/>
                    </a:lnTo>
                    <a:lnTo>
                      <a:pt x="721" y="1675"/>
                    </a:lnTo>
                    <a:lnTo>
                      <a:pt x="693" y="1660"/>
                    </a:lnTo>
                    <a:lnTo>
                      <a:pt x="660" y="1626"/>
                    </a:lnTo>
                    <a:lnTo>
                      <a:pt x="656" y="1611"/>
                    </a:lnTo>
                    <a:lnTo>
                      <a:pt x="645" y="1609"/>
                    </a:lnTo>
                    <a:lnTo>
                      <a:pt x="642" y="1602"/>
                    </a:lnTo>
                    <a:lnTo>
                      <a:pt x="607" y="1536"/>
                    </a:lnTo>
                    <a:lnTo>
                      <a:pt x="603" y="1501"/>
                    </a:lnTo>
                    <a:lnTo>
                      <a:pt x="610" y="1465"/>
                    </a:lnTo>
                    <a:lnTo>
                      <a:pt x="609" y="1451"/>
                    </a:lnTo>
                    <a:lnTo>
                      <a:pt x="594" y="1410"/>
                    </a:lnTo>
                    <a:lnTo>
                      <a:pt x="579" y="1402"/>
                    </a:lnTo>
                    <a:lnTo>
                      <a:pt x="559" y="1401"/>
                    </a:lnTo>
                    <a:lnTo>
                      <a:pt x="542" y="1383"/>
                    </a:lnTo>
                    <a:lnTo>
                      <a:pt x="550" y="1366"/>
                    </a:lnTo>
                    <a:lnTo>
                      <a:pt x="559" y="1360"/>
                    </a:lnTo>
                    <a:lnTo>
                      <a:pt x="579" y="1361"/>
                    </a:lnTo>
                    <a:lnTo>
                      <a:pt x="591" y="1351"/>
                    </a:lnTo>
                    <a:lnTo>
                      <a:pt x="610" y="1351"/>
                    </a:lnTo>
                    <a:lnTo>
                      <a:pt x="608" y="1343"/>
                    </a:lnTo>
                    <a:lnTo>
                      <a:pt x="597" y="1336"/>
                    </a:lnTo>
                    <a:lnTo>
                      <a:pt x="596" y="1327"/>
                    </a:lnTo>
                    <a:lnTo>
                      <a:pt x="601" y="1324"/>
                    </a:lnTo>
                    <a:lnTo>
                      <a:pt x="600" y="1318"/>
                    </a:lnTo>
                    <a:lnTo>
                      <a:pt x="610" y="1314"/>
                    </a:lnTo>
                    <a:lnTo>
                      <a:pt x="621" y="1302"/>
                    </a:lnTo>
                    <a:lnTo>
                      <a:pt x="612" y="1282"/>
                    </a:lnTo>
                    <a:lnTo>
                      <a:pt x="582" y="1277"/>
                    </a:lnTo>
                    <a:lnTo>
                      <a:pt x="520" y="1234"/>
                    </a:lnTo>
                    <a:lnTo>
                      <a:pt x="522" y="1227"/>
                    </a:lnTo>
                    <a:lnTo>
                      <a:pt x="537" y="1221"/>
                    </a:lnTo>
                    <a:lnTo>
                      <a:pt x="543" y="1197"/>
                    </a:lnTo>
                    <a:lnTo>
                      <a:pt x="556" y="1179"/>
                    </a:lnTo>
                    <a:lnTo>
                      <a:pt x="566" y="1123"/>
                    </a:lnTo>
                    <a:lnTo>
                      <a:pt x="573" y="1111"/>
                    </a:lnTo>
                    <a:lnTo>
                      <a:pt x="573" y="1102"/>
                    </a:lnTo>
                    <a:lnTo>
                      <a:pt x="583" y="1074"/>
                    </a:lnTo>
                    <a:lnTo>
                      <a:pt x="561" y="1042"/>
                    </a:lnTo>
                    <a:lnTo>
                      <a:pt x="560" y="1035"/>
                    </a:lnTo>
                    <a:lnTo>
                      <a:pt x="595" y="1032"/>
                    </a:lnTo>
                    <a:lnTo>
                      <a:pt x="590" y="1000"/>
                    </a:lnTo>
                    <a:lnTo>
                      <a:pt x="590" y="989"/>
                    </a:lnTo>
                    <a:lnTo>
                      <a:pt x="573" y="958"/>
                    </a:lnTo>
                    <a:lnTo>
                      <a:pt x="565" y="925"/>
                    </a:lnTo>
                    <a:lnTo>
                      <a:pt x="566" y="913"/>
                    </a:lnTo>
                    <a:lnTo>
                      <a:pt x="564" y="903"/>
                    </a:lnTo>
                    <a:lnTo>
                      <a:pt x="538" y="855"/>
                    </a:lnTo>
                    <a:lnTo>
                      <a:pt x="529" y="849"/>
                    </a:lnTo>
                    <a:lnTo>
                      <a:pt x="510" y="850"/>
                    </a:lnTo>
                    <a:lnTo>
                      <a:pt x="477" y="862"/>
                    </a:lnTo>
                    <a:lnTo>
                      <a:pt x="466" y="851"/>
                    </a:lnTo>
                    <a:lnTo>
                      <a:pt x="441" y="859"/>
                    </a:lnTo>
                    <a:lnTo>
                      <a:pt x="442" y="864"/>
                    </a:lnTo>
                    <a:lnTo>
                      <a:pt x="451" y="879"/>
                    </a:lnTo>
                    <a:lnTo>
                      <a:pt x="427" y="895"/>
                    </a:lnTo>
                    <a:lnTo>
                      <a:pt x="424" y="916"/>
                    </a:lnTo>
                    <a:lnTo>
                      <a:pt x="411" y="941"/>
                    </a:lnTo>
                    <a:lnTo>
                      <a:pt x="409" y="955"/>
                    </a:lnTo>
                    <a:lnTo>
                      <a:pt x="415" y="960"/>
                    </a:lnTo>
                    <a:lnTo>
                      <a:pt x="408" y="972"/>
                    </a:lnTo>
                    <a:lnTo>
                      <a:pt x="402" y="977"/>
                    </a:lnTo>
                    <a:lnTo>
                      <a:pt x="380" y="953"/>
                    </a:lnTo>
                    <a:lnTo>
                      <a:pt x="362" y="946"/>
                    </a:lnTo>
                    <a:lnTo>
                      <a:pt x="351" y="913"/>
                    </a:lnTo>
                    <a:lnTo>
                      <a:pt x="343" y="913"/>
                    </a:lnTo>
                    <a:lnTo>
                      <a:pt x="327" y="927"/>
                    </a:lnTo>
                    <a:lnTo>
                      <a:pt x="315" y="918"/>
                    </a:lnTo>
                    <a:lnTo>
                      <a:pt x="302" y="923"/>
                    </a:lnTo>
                    <a:lnTo>
                      <a:pt x="303" y="933"/>
                    </a:lnTo>
                    <a:lnTo>
                      <a:pt x="301" y="940"/>
                    </a:lnTo>
                    <a:lnTo>
                      <a:pt x="307" y="966"/>
                    </a:lnTo>
                    <a:lnTo>
                      <a:pt x="303" y="976"/>
                    </a:lnTo>
                    <a:lnTo>
                      <a:pt x="276" y="972"/>
                    </a:lnTo>
                    <a:lnTo>
                      <a:pt x="260" y="984"/>
                    </a:lnTo>
                    <a:lnTo>
                      <a:pt x="250" y="979"/>
                    </a:lnTo>
                    <a:lnTo>
                      <a:pt x="211" y="978"/>
                    </a:lnTo>
                    <a:lnTo>
                      <a:pt x="198" y="955"/>
                    </a:lnTo>
                    <a:lnTo>
                      <a:pt x="154" y="939"/>
                    </a:lnTo>
                    <a:lnTo>
                      <a:pt x="152" y="923"/>
                    </a:lnTo>
                    <a:lnTo>
                      <a:pt x="147" y="899"/>
                    </a:lnTo>
                    <a:lnTo>
                      <a:pt x="136" y="889"/>
                    </a:lnTo>
                    <a:lnTo>
                      <a:pt x="123" y="888"/>
                    </a:lnTo>
                    <a:lnTo>
                      <a:pt x="110" y="871"/>
                    </a:lnTo>
                    <a:lnTo>
                      <a:pt x="87" y="869"/>
                    </a:lnTo>
                    <a:lnTo>
                      <a:pt x="54" y="879"/>
                    </a:lnTo>
                    <a:lnTo>
                      <a:pt x="45" y="873"/>
                    </a:lnTo>
                    <a:lnTo>
                      <a:pt x="39" y="847"/>
                    </a:lnTo>
                    <a:lnTo>
                      <a:pt x="10" y="845"/>
                    </a:lnTo>
                    <a:lnTo>
                      <a:pt x="7" y="838"/>
                    </a:lnTo>
                    <a:lnTo>
                      <a:pt x="9" y="831"/>
                    </a:lnTo>
                    <a:lnTo>
                      <a:pt x="0" y="819"/>
                    </a:lnTo>
                    <a:lnTo>
                      <a:pt x="18" y="809"/>
                    </a:lnTo>
                    <a:lnTo>
                      <a:pt x="2" y="792"/>
                    </a:lnTo>
                    <a:lnTo>
                      <a:pt x="3" y="784"/>
                    </a:lnTo>
                    <a:lnTo>
                      <a:pt x="13" y="780"/>
                    </a:lnTo>
                    <a:lnTo>
                      <a:pt x="30" y="769"/>
                    </a:lnTo>
                    <a:lnTo>
                      <a:pt x="56" y="754"/>
                    </a:lnTo>
                    <a:lnTo>
                      <a:pt x="80" y="732"/>
                    </a:lnTo>
                    <a:lnTo>
                      <a:pt x="100" y="712"/>
                    </a:lnTo>
                    <a:lnTo>
                      <a:pt x="108" y="693"/>
                    </a:lnTo>
                    <a:lnTo>
                      <a:pt x="108" y="675"/>
                    </a:lnTo>
                    <a:lnTo>
                      <a:pt x="104" y="640"/>
                    </a:lnTo>
                    <a:lnTo>
                      <a:pt x="106" y="631"/>
                    </a:lnTo>
                    <a:lnTo>
                      <a:pt x="118" y="631"/>
                    </a:lnTo>
                    <a:lnTo>
                      <a:pt x="130" y="636"/>
                    </a:lnTo>
                    <a:lnTo>
                      <a:pt x="147" y="651"/>
                    </a:lnTo>
                    <a:lnTo>
                      <a:pt x="168" y="659"/>
                    </a:lnTo>
                    <a:lnTo>
                      <a:pt x="180" y="652"/>
                    </a:lnTo>
                    <a:lnTo>
                      <a:pt x="183" y="639"/>
                    </a:lnTo>
                    <a:lnTo>
                      <a:pt x="199" y="631"/>
                    </a:lnTo>
                    <a:lnTo>
                      <a:pt x="216" y="635"/>
                    </a:lnTo>
                    <a:lnTo>
                      <a:pt x="231" y="631"/>
                    </a:lnTo>
                    <a:lnTo>
                      <a:pt x="237" y="618"/>
                    </a:lnTo>
                    <a:lnTo>
                      <a:pt x="238" y="597"/>
                    </a:lnTo>
                    <a:lnTo>
                      <a:pt x="244" y="591"/>
                    </a:lnTo>
                    <a:lnTo>
                      <a:pt x="258" y="593"/>
                    </a:lnTo>
                    <a:lnTo>
                      <a:pt x="285" y="606"/>
                    </a:lnTo>
                    <a:lnTo>
                      <a:pt x="314" y="624"/>
                    </a:lnTo>
                    <a:lnTo>
                      <a:pt x="333" y="622"/>
                    </a:lnTo>
                    <a:lnTo>
                      <a:pt x="350" y="610"/>
                    </a:lnTo>
                    <a:lnTo>
                      <a:pt x="363" y="587"/>
                    </a:lnTo>
                    <a:lnTo>
                      <a:pt x="372" y="568"/>
                    </a:lnTo>
                    <a:lnTo>
                      <a:pt x="428" y="475"/>
                    </a:lnTo>
                    <a:lnTo>
                      <a:pt x="436" y="460"/>
                    </a:lnTo>
                    <a:lnTo>
                      <a:pt x="459" y="444"/>
                    </a:lnTo>
                    <a:lnTo>
                      <a:pt x="465" y="429"/>
                    </a:lnTo>
                    <a:lnTo>
                      <a:pt x="463" y="414"/>
                    </a:lnTo>
                    <a:lnTo>
                      <a:pt x="459" y="401"/>
                    </a:lnTo>
                    <a:lnTo>
                      <a:pt x="464" y="390"/>
                    </a:lnTo>
                    <a:lnTo>
                      <a:pt x="477" y="369"/>
                    </a:lnTo>
                    <a:lnTo>
                      <a:pt x="474" y="352"/>
                    </a:lnTo>
                    <a:lnTo>
                      <a:pt x="472" y="328"/>
                    </a:lnTo>
                    <a:lnTo>
                      <a:pt x="487" y="310"/>
                    </a:lnTo>
                    <a:lnTo>
                      <a:pt x="501" y="295"/>
                    </a:lnTo>
                    <a:lnTo>
                      <a:pt x="523" y="270"/>
                    </a:lnTo>
                    <a:lnTo>
                      <a:pt x="544" y="261"/>
                    </a:lnTo>
                    <a:lnTo>
                      <a:pt x="543" y="239"/>
                    </a:lnTo>
                    <a:lnTo>
                      <a:pt x="546" y="237"/>
                    </a:lnTo>
                    <a:lnTo>
                      <a:pt x="552" y="232"/>
                    </a:lnTo>
                    <a:lnTo>
                      <a:pt x="568" y="215"/>
                    </a:lnTo>
                    <a:lnTo>
                      <a:pt x="572" y="196"/>
                    </a:lnTo>
                    <a:lnTo>
                      <a:pt x="578" y="185"/>
                    </a:lnTo>
                    <a:lnTo>
                      <a:pt x="586" y="174"/>
                    </a:lnTo>
                    <a:lnTo>
                      <a:pt x="598" y="156"/>
                    </a:lnTo>
                    <a:lnTo>
                      <a:pt x="596" y="126"/>
                    </a:lnTo>
                    <a:lnTo>
                      <a:pt x="583" y="109"/>
                    </a:lnTo>
                    <a:lnTo>
                      <a:pt x="579" y="96"/>
                    </a:lnTo>
                    <a:lnTo>
                      <a:pt x="597" y="88"/>
                    </a:lnTo>
                    <a:lnTo>
                      <a:pt x="613" y="88"/>
                    </a:lnTo>
                    <a:lnTo>
                      <a:pt x="627" y="99"/>
                    </a:lnTo>
                    <a:lnTo>
                      <a:pt x="638" y="102"/>
                    </a:lnTo>
                    <a:lnTo>
                      <a:pt x="645" y="84"/>
                    </a:lnTo>
                    <a:lnTo>
                      <a:pt x="658" y="73"/>
                    </a:lnTo>
                    <a:lnTo>
                      <a:pt x="700" y="90"/>
                    </a:lnTo>
                    <a:lnTo>
                      <a:pt x="715" y="81"/>
                    </a:lnTo>
                    <a:lnTo>
                      <a:pt x="738" y="81"/>
                    </a:lnTo>
                    <a:lnTo>
                      <a:pt x="757" y="61"/>
                    </a:lnTo>
                    <a:lnTo>
                      <a:pt x="783" y="59"/>
                    </a:lnTo>
                    <a:lnTo>
                      <a:pt x="786" y="45"/>
                    </a:lnTo>
                    <a:lnTo>
                      <a:pt x="792" y="39"/>
                    </a:lnTo>
                    <a:lnTo>
                      <a:pt x="807" y="41"/>
                    </a:lnTo>
                    <a:lnTo>
                      <a:pt x="831" y="43"/>
                    </a:lnTo>
                    <a:lnTo>
                      <a:pt x="844" y="43"/>
                    </a:lnTo>
                    <a:lnTo>
                      <a:pt x="848" y="40"/>
                    </a:lnTo>
                    <a:lnTo>
                      <a:pt x="858" y="29"/>
                    </a:lnTo>
                    <a:lnTo>
                      <a:pt x="885" y="25"/>
                    </a:lnTo>
                    <a:lnTo>
                      <a:pt x="920" y="24"/>
                    </a:lnTo>
                    <a:lnTo>
                      <a:pt x="955" y="22"/>
                    </a:lnTo>
                    <a:lnTo>
                      <a:pt x="985" y="16"/>
                    </a:lnTo>
                    <a:lnTo>
                      <a:pt x="1021" y="10"/>
                    </a:lnTo>
                    <a:lnTo>
                      <a:pt x="1046" y="1"/>
                    </a:lnTo>
                    <a:lnTo>
                      <a:pt x="1060" y="17"/>
                    </a:lnTo>
                    <a:lnTo>
                      <a:pt x="1066" y="33"/>
                    </a:lnTo>
                    <a:lnTo>
                      <a:pt x="1077" y="46"/>
                    </a:lnTo>
                    <a:lnTo>
                      <a:pt x="1090" y="59"/>
                    </a:lnTo>
                    <a:lnTo>
                      <a:pt x="1105" y="64"/>
                    </a:lnTo>
                    <a:lnTo>
                      <a:pt x="1123" y="59"/>
                    </a:lnTo>
                    <a:lnTo>
                      <a:pt x="1146" y="48"/>
                    </a:lnTo>
                    <a:lnTo>
                      <a:pt x="1168" y="52"/>
                    </a:lnTo>
                    <a:lnTo>
                      <a:pt x="1180" y="63"/>
                    </a:lnTo>
                    <a:lnTo>
                      <a:pt x="1179" y="76"/>
                    </a:lnTo>
                    <a:lnTo>
                      <a:pt x="1191" y="77"/>
                    </a:lnTo>
                    <a:lnTo>
                      <a:pt x="1210" y="103"/>
                    </a:lnTo>
                    <a:lnTo>
                      <a:pt x="1210" y="120"/>
                    </a:lnTo>
                    <a:lnTo>
                      <a:pt x="1216" y="126"/>
                    </a:lnTo>
                    <a:lnTo>
                      <a:pt x="1228" y="126"/>
                    </a:lnTo>
                    <a:lnTo>
                      <a:pt x="1246" y="130"/>
                    </a:lnTo>
                    <a:lnTo>
                      <a:pt x="1255" y="125"/>
                    </a:lnTo>
                    <a:lnTo>
                      <a:pt x="1266" y="115"/>
                    </a:lnTo>
                    <a:lnTo>
                      <a:pt x="1275" y="114"/>
                    </a:lnTo>
                    <a:lnTo>
                      <a:pt x="1293" y="106"/>
                    </a:lnTo>
                    <a:lnTo>
                      <a:pt x="1305" y="108"/>
                    </a:lnTo>
                    <a:lnTo>
                      <a:pt x="1326" y="113"/>
                    </a:lnTo>
                    <a:lnTo>
                      <a:pt x="1340" y="120"/>
                    </a:lnTo>
                    <a:lnTo>
                      <a:pt x="1353" y="121"/>
                    </a:lnTo>
                    <a:lnTo>
                      <a:pt x="1369" y="124"/>
                    </a:lnTo>
                    <a:lnTo>
                      <a:pt x="1401" y="141"/>
                    </a:lnTo>
                    <a:lnTo>
                      <a:pt x="1401" y="163"/>
                    </a:lnTo>
                    <a:lnTo>
                      <a:pt x="1404" y="177"/>
                    </a:lnTo>
                    <a:lnTo>
                      <a:pt x="1422" y="181"/>
                    </a:lnTo>
                    <a:lnTo>
                      <a:pt x="1447" y="171"/>
                    </a:lnTo>
                    <a:lnTo>
                      <a:pt x="1466" y="141"/>
                    </a:lnTo>
                    <a:lnTo>
                      <a:pt x="1486" y="124"/>
                    </a:lnTo>
                    <a:lnTo>
                      <a:pt x="1520" y="121"/>
                    </a:lnTo>
                    <a:lnTo>
                      <a:pt x="1548" y="112"/>
                    </a:lnTo>
                    <a:lnTo>
                      <a:pt x="1556" y="94"/>
                    </a:lnTo>
                    <a:lnTo>
                      <a:pt x="1587" y="89"/>
                    </a:lnTo>
                    <a:lnTo>
                      <a:pt x="1611" y="106"/>
                    </a:lnTo>
                    <a:lnTo>
                      <a:pt x="1638" y="115"/>
                    </a:lnTo>
                    <a:lnTo>
                      <a:pt x="1664" y="120"/>
                    </a:lnTo>
                    <a:lnTo>
                      <a:pt x="1682" y="119"/>
                    </a:lnTo>
                    <a:lnTo>
                      <a:pt x="1680" y="106"/>
                    </a:lnTo>
                    <a:lnTo>
                      <a:pt x="1684" y="89"/>
                    </a:lnTo>
                    <a:lnTo>
                      <a:pt x="1695" y="73"/>
                    </a:lnTo>
                    <a:lnTo>
                      <a:pt x="1698" y="58"/>
                    </a:lnTo>
                    <a:lnTo>
                      <a:pt x="1723" y="48"/>
                    </a:lnTo>
                    <a:lnTo>
                      <a:pt x="1761" y="48"/>
                    </a:lnTo>
                    <a:lnTo>
                      <a:pt x="1820" y="42"/>
                    </a:lnTo>
                    <a:lnTo>
                      <a:pt x="1831" y="48"/>
                    </a:lnTo>
                    <a:lnTo>
                      <a:pt x="1842" y="43"/>
                    </a:lnTo>
                    <a:lnTo>
                      <a:pt x="1843" y="31"/>
                    </a:lnTo>
                    <a:lnTo>
                      <a:pt x="1848" y="12"/>
                    </a:lnTo>
                    <a:lnTo>
                      <a:pt x="1856" y="0"/>
                    </a:lnTo>
                    <a:lnTo>
                      <a:pt x="1872" y="1"/>
                    </a:lnTo>
                    <a:lnTo>
                      <a:pt x="1891" y="13"/>
                    </a:lnTo>
                    <a:lnTo>
                      <a:pt x="1917" y="31"/>
                    </a:lnTo>
                    <a:lnTo>
                      <a:pt x="1932" y="41"/>
                    </a:lnTo>
                    <a:lnTo>
                      <a:pt x="1940" y="52"/>
                    </a:lnTo>
                    <a:lnTo>
                      <a:pt x="1953" y="48"/>
                    </a:lnTo>
                    <a:lnTo>
                      <a:pt x="1959" y="60"/>
                    </a:lnTo>
                    <a:lnTo>
                      <a:pt x="1970" y="70"/>
                    </a:lnTo>
                    <a:lnTo>
                      <a:pt x="1974" y="89"/>
                    </a:lnTo>
                    <a:lnTo>
                      <a:pt x="1987" y="111"/>
                    </a:lnTo>
                    <a:lnTo>
                      <a:pt x="2008" y="143"/>
                    </a:lnTo>
                    <a:lnTo>
                      <a:pt x="2035" y="148"/>
                    </a:lnTo>
                    <a:lnTo>
                      <a:pt x="2054" y="156"/>
                    </a:lnTo>
                    <a:lnTo>
                      <a:pt x="2065" y="151"/>
                    </a:lnTo>
                    <a:lnTo>
                      <a:pt x="2082" y="142"/>
                    </a:lnTo>
                    <a:lnTo>
                      <a:pt x="2100" y="149"/>
                    </a:lnTo>
                    <a:lnTo>
                      <a:pt x="2109" y="151"/>
                    </a:lnTo>
                    <a:lnTo>
                      <a:pt x="2126" y="247"/>
                    </a:lnTo>
                    <a:lnTo>
                      <a:pt x="2139" y="274"/>
                    </a:lnTo>
                    <a:lnTo>
                      <a:pt x="2152" y="291"/>
                    </a:lnTo>
                    <a:lnTo>
                      <a:pt x="2163" y="309"/>
                    </a:lnTo>
                    <a:lnTo>
                      <a:pt x="2170" y="328"/>
                    </a:lnTo>
                    <a:lnTo>
                      <a:pt x="2179" y="371"/>
                    </a:lnTo>
                    <a:lnTo>
                      <a:pt x="2222" y="412"/>
                    </a:lnTo>
                    <a:lnTo>
                      <a:pt x="2220" y="421"/>
                    </a:lnTo>
                    <a:lnTo>
                      <a:pt x="2220" y="426"/>
                    </a:lnTo>
                    <a:lnTo>
                      <a:pt x="2242" y="438"/>
                    </a:lnTo>
                    <a:lnTo>
                      <a:pt x="2248" y="459"/>
                    </a:lnTo>
                    <a:lnTo>
                      <a:pt x="2287" y="468"/>
                    </a:lnTo>
                    <a:lnTo>
                      <a:pt x="2323" y="483"/>
                    </a:lnTo>
                    <a:lnTo>
                      <a:pt x="2335" y="479"/>
                    </a:lnTo>
                    <a:lnTo>
                      <a:pt x="2341" y="472"/>
                    </a:lnTo>
                    <a:lnTo>
                      <a:pt x="2348" y="472"/>
                    </a:lnTo>
                    <a:lnTo>
                      <a:pt x="2353" y="477"/>
                    </a:lnTo>
                    <a:lnTo>
                      <a:pt x="2368" y="478"/>
                    </a:lnTo>
                    <a:lnTo>
                      <a:pt x="2380" y="492"/>
                    </a:lnTo>
                    <a:lnTo>
                      <a:pt x="2404" y="469"/>
                    </a:lnTo>
                    <a:lnTo>
                      <a:pt x="2404" y="457"/>
                    </a:lnTo>
                    <a:lnTo>
                      <a:pt x="2416" y="438"/>
                    </a:lnTo>
                    <a:lnTo>
                      <a:pt x="2426" y="435"/>
                    </a:lnTo>
                    <a:lnTo>
                      <a:pt x="2450" y="442"/>
                    </a:lnTo>
                    <a:lnTo>
                      <a:pt x="2469" y="439"/>
                    </a:lnTo>
                    <a:lnTo>
                      <a:pt x="2503" y="430"/>
                    </a:lnTo>
                    <a:lnTo>
                      <a:pt x="2533" y="418"/>
                    </a:lnTo>
                    <a:lnTo>
                      <a:pt x="2558" y="402"/>
                    </a:lnTo>
                    <a:lnTo>
                      <a:pt x="2568" y="405"/>
                    </a:lnTo>
                    <a:lnTo>
                      <a:pt x="2580" y="405"/>
                    </a:lnTo>
                    <a:lnTo>
                      <a:pt x="2595" y="399"/>
                    </a:lnTo>
                    <a:lnTo>
                      <a:pt x="2605" y="407"/>
                    </a:lnTo>
                    <a:lnTo>
                      <a:pt x="2616" y="397"/>
                    </a:lnTo>
                    <a:lnTo>
                      <a:pt x="2629" y="400"/>
                    </a:lnTo>
                    <a:lnTo>
                      <a:pt x="2646" y="391"/>
                    </a:lnTo>
                    <a:lnTo>
                      <a:pt x="2667" y="388"/>
                    </a:lnTo>
                    <a:lnTo>
                      <a:pt x="2683" y="400"/>
                    </a:lnTo>
                    <a:lnTo>
                      <a:pt x="2695" y="399"/>
                    </a:lnTo>
                    <a:lnTo>
                      <a:pt x="2708" y="389"/>
                    </a:lnTo>
                    <a:lnTo>
                      <a:pt x="2725" y="394"/>
                    </a:lnTo>
                    <a:lnTo>
                      <a:pt x="2734" y="402"/>
                    </a:lnTo>
                    <a:lnTo>
                      <a:pt x="2739" y="414"/>
                    </a:lnTo>
                    <a:lnTo>
                      <a:pt x="2757" y="408"/>
                    </a:lnTo>
                    <a:lnTo>
                      <a:pt x="2769" y="409"/>
                    </a:lnTo>
                    <a:close/>
                  </a:path>
                </a:pathLst>
              </a:custGeom>
              <a:solidFill>
                <a:srgbClr val="99ffcc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720600" y="2288880"/>
                <a:ext cx="1234440" cy="1148040"/>
              </a:xfrm>
              <a:custGeom>
                <a:avLst/>
                <a:gdLst/>
                <a:ahLst/>
                <a:rect l="l" t="t" r="r" b="b"/>
                <a:pathLst>
                  <a:path w="1548" h="1470">
                    <a:moveTo>
                      <a:pt x="1093" y="15"/>
                    </a:moveTo>
                    <a:lnTo>
                      <a:pt x="1092" y="10"/>
                    </a:lnTo>
                    <a:lnTo>
                      <a:pt x="1117" y="2"/>
                    </a:lnTo>
                    <a:lnTo>
                      <a:pt x="1128" y="13"/>
                    </a:lnTo>
                    <a:lnTo>
                      <a:pt x="1161" y="1"/>
                    </a:lnTo>
                    <a:lnTo>
                      <a:pt x="1180" y="0"/>
                    </a:lnTo>
                    <a:lnTo>
                      <a:pt x="1189" y="6"/>
                    </a:lnTo>
                    <a:lnTo>
                      <a:pt x="1215" y="54"/>
                    </a:lnTo>
                    <a:lnTo>
                      <a:pt x="1217" y="64"/>
                    </a:lnTo>
                    <a:lnTo>
                      <a:pt x="1216" y="76"/>
                    </a:lnTo>
                    <a:lnTo>
                      <a:pt x="1224" y="109"/>
                    </a:lnTo>
                    <a:lnTo>
                      <a:pt x="1241" y="140"/>
                    </a:lnTo>
                    <a:lnTo>
                      <a:pt x="1241" y="151"/>
                    </a:lnTo>
                    <a:lnTo>
                      <a:pt x="1246" y="183"/>
                    </a:lnTo>
                    <a:lnTo>
                      <a:pt x="1211" y="186"/>
                    </a:lnTo>
                    <a:lnTo>
                      <a:pt x="1212" y="193"/>
                    </a:lnTo>
                    <a:lnTo>
                      <a:pt x="1234" y="225"/>
                    </a:lnTo>
                    <a:lnTo>
                      <a:pt x="1224" y="253"/>
                    </a:lnTo>
                    <a:lnTo>
                      <a:pt x="1224" y="262"/>
                    </a:lnTo>
                    <a:lnTo>
                      <a:pt x="1217" y="274"/>
                    </a:lnTo>
                    <a:lnTo>
                      <a:pt x="1207" y="330"/>
                    </a:lnTo>
                    <a:lnTo>
                      <a:pt x="1194" y="348"/>
                    </a:lnTo>
                    <a:lnTo>
                      <a:pt x="1188" y="372"/>
                    </a:lnTo>
                    <a:lnTo>
                      <a:pt x="1173" y="378"/>
                    </a:lnTo>
                    <a:lnTo>
                      <a:pt x="1171" y="385"/>
                    </a:lnTo>
                    <a:lnTo>
                      <a:pt x="1233" y="428"/>
                    </a:lnTo>
                    <a:lnTo>
                      <a:pt x="1263" y="433"/>
                    </a:lnTo>
                    <a:lnTo>
                      <a:pt x="1272" y="453"/>
                    </a:lnTo>
                    <a:lnTo>
                      <a:pt x="1261" y="465"/>
                    </a:lnTo>
                    <a:lnTo>
                      <a:pt x="1251" y="469"/>
                    </a:lnTo>
                    <a:lnTo>
                      <a:pt x="1252" y="475"/>
                    </a:lnTo>
                    <a:lnTo>
                      <a:pt x="1247" y="478"/>
                    </a:lnTo>
                    <a:lnTo>
                      <a:pt x="1248" y="487"/>
                    </a:lnTo>
                    <a:lnTo>
                      <a:pt x="1259" y="494"/>
                    </a:lnTo>
                    <a:lnTo>
                      <a:pt x="1261" y="502"/>
                    </a:lnTo>
                    <a:lnTo>
                      <a:pt x="1242" y="502"/>
                    </a:lnTo>
                    <a:lnTo>
                      <a:pt x="1230" y="512"/>
                    </a:lnTo>
                    <a:lnTo>
                      <a:pt x="1210" y="511"/>
                    </a:lnTo>
                    <a:lnTo>
                      <a:pt x="1201" y="517"/>
                    </a:lnTo>
                    <a:lnTo>
                      <a:pt x="1193" y="534"/>
                    </a:lnTo>
                    <a:lnTo>
                      <a:pt x="1210" y="552"/>
                    </a:lnTo>
                    <a:lnTo>
                      <a:pt x="1230" y="553"/>
                    </a:lnTo>
                    <a:lnTo>
                      <a:pt x="1245" y="561"/>
                    </a:lnTo>
                    <a:lnTo>
                      <a:pt x="1260" y="602"/>
                    </a:lnTo>
                    <a:lnTo>
                      <a:pt x="1261" y="616"/>
                    </a:lnTo>
                    <a:lnTo>
                      <a:pt x="1254" y="652"/>
                    </a:lnTo>
                    <a:lnTo>
                      <a:pt x="1258" y="687"/>
                    </a:lnTo>
                    <a:lnTo>
                      <a:pt x="1293" y="753"/>
                    </a:lnTo>
                    <a:lnTo>
                      <a:pt x="1296" y="760"/>
                    </a:lnTo>
                    <a:lnTo>
                      <a:pt x="1307" y="762"/>
                    </a:lnTo>
                    <a:lnTo>
                      <a:pt x="1311" y="777"/>
                    </a:lnTo>
                    <a:lnTo>
                      <a:pt x="1344" y="811"/>
                    </a:lnTo>
                    <a:lnTo>
                      <a:pt x="1372" y="826"/>
                    </a:lnTo>
                    <a:lnTo>
                      <a:pt x="1378" y="838"/>
                    </a:lnTo>
                    <a:lnTo>
                      <a:pt x="1365" y="854"/>
                    </a:lnTo>
                    <a:lnTo>
                      <a:pt x="1362" y="867"/>
                    </a:lnTo>
                    <a:lnTo>
                      <a:pt x="1355" y="877"/>
                    </a:lnTo>
                    <a:lnTo>
                      <a:pt x="1363" y="885"/>
                    </a:lnTo>
                    <a:lnTo>
                      <a:pt x="1373" y="879"/>
                    </a:lnTo>
                    <a:lnTo>
                      <a:pt x="1379" y="890"/>
                    </a:lnTo>
                    <a:lnTo>
                      <a:pt x="1395" y="897"/>
                    </a:lnTo>
                    <a:lnTo>
                      <a:pt x="1410" y="913"/>
                    </a:lnTo>
                    <a:lnTo>
                      <a:pt x="1427" y="915"/>
                    </a:lnTo>
                    <a:lnTo>
                      <a:pt x="1451" y="926"/>
                    </a:lnTo>
                    <a:lnTo>
                      <a:pt x="1474" y="921"/>
                    </a:lnTo>
                    <a:lnTo>
                      <a:pt x="1487" y="921"/>
                    </a:lnTo>
                    <a:lnTo>
                      <a:pt x="1493" y="904"/>
                    </a:lnTo>
                    <a:lnTo>
                      <a:pt x="1510" y="925"/>
                    </a:lnTo>
                    <a:lnTo>
                      <a:pt x="1543" y="938"/>
                    </a:lnTo>
                    <a:lnTo>
                      <a:pt x="1548" y="943"/>
                    </a:lnTo>
                    <a:lnTo>
                      <a:pt x="1516" y="998"/>
                    </a:lnTo>
                    <a:lnTo>
                      <a:pt x="1483" y="1047"/>
                    </a:lnTo>
                    <a:lnTo>
                      <a:pt x="1473" y="1118"/>
                    </a:lnTo>
                    <a:lnTo>
                      <a:pt x="1401" y="1222"/>
                    </a:lnTo>
                    <a:lnTo>
                      <a:pt x="1338" y="1286"/>
                    </a:lnTo>
                    <a:lnTo>
                      <a:pt x="1285" y="1318"/>
                    </a:lnTo>
                    <a:lnTo>
                      <a:pt x="1258" y="1347"/>
                    </a:lnTo>
                    <a:lnTo>
                      <a:pt x="1253" y="1348"/>
                    </a:lnTo>
                    <a:lnTo>
                      <a:pt x="1237" y="1371"/>
                    </a:lnTo>
                    <a:lnTo>
                      <a:pt x="1225" y="1383"/>
                    </a:lnTo>
                    <a:lnTo>
                      <a:pt x="1197" y="1376"/>
                    </a:lnTo>
                    <a:lnTo>
                      <a:pt x="1187" y="1362"/>
                    </a:lnTo>
                    <a:lnTo>
                      <a:pt x="1187" y="1354"/>
                    </a:lnTo>
                    <a:lnTo>
                      <a:pt x="1191" y="1339"/>
                    </a:lnTo>
                    <a:lnTo>
                      <a:pt x="1203" y="1321"/>
                    </a:lnTo>
                    <a:lnTo>
                      <a:pt x="1192" y="1318"/>
                    </a:lnTo>
                    <a:lnTo>
                      <a:pt x="1155" y="1339"/>
                    </a:lnTo>
                    <a:lnTo>
                      <a:pt x="1149" y="1353"/>
                    </a:lnTo>
                    <a:lnTo>
                      <a:pt x="1173" y="1398"/>
                    </a:lnTo>
                    <a:lnTo>
                      <a:pt x="1171" y="1402"/>
                    </a:lnTo>
                    <a:lnTo>
                      <a:pt x="1163" y="1431"/>
                    </a:lnTo>
                    <a:lnTo>
                      <a:pt x="1150" y="1447"/>
                    </a:lnTo>
                    <a:lnTo>
                      <a:pt x="1139" y="1454"/>
                    </a:lnTo>
                    <a:lnTo>
                      <a:pt x="1132" y="1459"/>
                    </a:lnTo>
                    <a:lnTo>
                      <a:pt x="1111" y="1467"/>
                    </a:lnTo>
                    <a:lnTo>
                      <a:pt x="1077" y="1468"/>
                    </a:lnTo>
                    <a:lnTo>
                      <a:pt x="1075" y="1470"/>
                    </a:lnTo>
                    <a:lnTo>
                      <a:pt x="1075" y="1461"/>
                    </a:lnTo>
                    <a:lnTo>
                      <a:pt x="1078" y="1452"/>
                    </a:lnTo>
                    <a:lnTo>
                      <a:pt x="1075" y="1442"/>
                    </a:lnTo>
                    <a:lnTo>
                      <a:pt x="1077" y="1426"/>
                    </a:lnTo>
                    <a:lnTo>
                      <a:pt x="1033" y="1435"/>
                    </a:lnTo>
                    <a:lnTo>
                      <a:pt x="1013" y="1416"/>
                    </a:lnTo>
                    <a:lnTo>
                      <a:pt x="960" y="1341"/>
                    </a:lnTo>
                    <a:lnTo>
                      <a:pt x="961" y="1338"/>
                    </a:lnTo>
                    <a:lnTo>
                      <a:pt x="965" y="1332"/>
                    </a:lnTo>
                    <a:lnTo>
                      <a:pt x="965" y="1316"/>
                    </a:lnTo>
                    <a:lnTo>
                      <a:pt x="981" y="1288"/>
                    </a:lnTo>
                    <a:lnTo>
                      <a:pt x="982" y="1264"/>
                    </a:lnTo>
                    <a:lnTo>
                      <a:pt x="969" y="1228"/>
                    </a:lnTo>
                    <a:lnTo>
                      <a:pt x="935" y="1218"/>
                    </a:lnTo>
                    <a:lnTo>
                      <a:pt x="921" y="1198"/>
                    </a:lnTo>
                    <a:lnTo>
                      <a:pt x="923" y="1179"/>
                    </a:lnTo>
                    <a:lnTo>
                      <a:pt x="889" y="1174"/>
                    </a:lnTo>
                    <a:lnTo>
                      <a:pt x="882" y="1162"/>
                    </a:lnTo>
                    <a:lnTo>
                      <a:pt x="888" y="1156"/>
                    </a:lnTo>
                    <a:lnTo>
                      <a:pt x="874" y="1131"/>
                    </a:lnTo>
                    <a:lnTo>
                      <a:pt x="868" y="1130"/>
                    </a:lnTo>
                    <a:lnTo>
                      <a:pt x="863" y="1120"/>
                    </a:lnTo>
                    <a:lnTo>
                      <a:pt x="863" y="1099"/>
                    </a:lnTo>
                    <a:lnTo>
                      <a:pt x="857" y="1081"/>
                    </a:lnTo>
                    <a:lnTo>
                      <a:pt x="799" y="1095"/>
                    </a:lnTo>
                    <a:lnTo>
                      <a:pt x="773" y="1110"/>
                    </a:lnTo>
                    <a:lnTo>
                      <a:pt x="751" y="1112"/>
                    </a:lnTo>
                    <a:lnTo>
                      <a:pt x="731" y="1123"/>
                    </a:lnTo>
                    <a:lnTo>
                      <a:pt x="719" y="1123"/>
                    </a:lnTo>
                    <a:lnTo>
                      <a:pt x="725" y="1152"/>
                    </a:lnTo>
                    <a:lnTo>
                      <a:pt x="739" y="1160"/>
                    </a:lnTo>
                    <a:lnTo>
                      <a:pt x="750" y="1174"/>
                    </a:lnTo>
                    <a:lnTo>
                      <a:pt x="732" y="1179"/>
                    </a:lnTo>
                    <a:lnTo>
                      <a:pt x="720" y="1196"/>
                    </a:lnTo>
                    <a:lnTo>
                      <a:pt x="709" y="1189"/>
                    </a:lnTo>
                    <a:lnTo>
                      <a:pt x="664" y="1176"/>
                    </a:lnTo>
                    <a:lnTo>
                      <a:pt x="640" y="1161"/>
                    </a:lnTo>
                    <a:lnTo>
                      <a:pt x="634" y="1167"/>
                    </a:lnTo>
                    <a:lnTo>
                      <a:pt x="592" y="1143"/>
                    </a:lnTo>
                    <a:lnTo>
                      <a:pt x="571" y="1123"/>
                    </a:lnTo>
                    <a:lnTo>
                      <a:pt x="589" y="1101"/>
                    </a:lnTo>
                    <a:lnTo>
                      <a:pt x="600" y="1081"/>
                    </a:lnTo>
                    <a:lnTo>
                      <a:pt x="587" y="1070"/>
                    </a:lnTo>
                    <a:lnTo>
                      <a:pt x="582" y="1058"/>
                    </a:lnTo>
                    <a:lnTo>
                      <a:pt x="581" y="1022"/>
                    </a:lnTo>
                    <a:lnTo>
                      <a:pt x="576" y="1005"/>
                    </a:lnTo>
                    <a:lnTo>
                      <a:pt x="576" y="985"/>
                    </a:lnTo>
                    <a:lnTo>
                      <a:pt x="569" y="980"/>
                    </a:lnTo>
                    <a:lnTo>
                      <a:pt x="558" y="960"/>
                    </a:lnTo>
                    <a:lnTo>
                      <a:pt x="540" y="963"/>
                    </a:lnTo>
                    <a:lnTo>
                      <a:pt x="533" y="960"/>
                    </a:lnTo>
                    <a:lnTo>
                      <a:pt x="526" y="972"/>
                    </a:lnTo>
                    <a:lnTo>
                      <a:pt x="490" y="985"/>
                    </a:lnTo>
                    <a:lnTo>
                      <a:pt x="462" y="1006"/>
                    </a:lnTo>
                    <a:lnTo>
                      <a:pt x="430" y="996"/>
                    </a:lnTo>
                    <a:lnTo>
                      <a:pt x="415" y="985"/>
                    </a:lnTo>
                    <a:lnTo>
                      <a:pt x="412" y="984"/>
                    </a:lnTo>
                    <a:lnTo>
                      <a:pt x="412" y="993"/>
                    </a:lnTo>
                    <a:lnTo>
                      <a:pt x="401" y="1032"/>
                    </a:lnTo>
                    <a:lnTo>
                      <a:pt x="409" y="1063"/>
                    </a:lnTo>
                    <a:lnTo>
                      <a:pt x="379" y="1080"/>
                    </a:lnTo>
                    <a:lnTo>
                      <a:pt x="373" y="1108"/>
                    </a:lnTo>
                    <a:lnTo>
                      <a:pt x="366" y="1114"/>
                    </a:lnTo>
                    <a:lnTo>
                      <a:pt x="357" y="1126"/>
                    </a:lnTo>
                    <a:lnTo>
                      <a:pt x="275" y="1076"/>
                    </a:lnTo>
                    <a:lnTo>
                      <a:pt x="247" y="1066"/>
                    </a:lnTo>
                    <a:lnTo>
                      <a:pt x="207" y="1087"/>
                    </a:lnTo>
                    <a:lnTo>
                      <a:pt x="179" y="1095"/>
                    </a:lnTo>
                    <a:lnTo>
                      <a:pt x="177" y="1105"/>
                    </a:lnTo>
                    <a:lnTo>
                      <a:pt x="179" y="1137"/>
                    </a:lnTo>
                    <a:lnTo>
                      <a:pt x="168" y="1136"/>
                    </a:lnTo>
                    <a:lnTo>
                      <a:pt x="153" y="1122"/>
                    </a:lnTo>
                    <a:lnTo>
                      <a:pt x="135" y="1124"/>
                    </a:lnTo>
                    <a:lnTo>
                      <a:pt x="120" y="1112"/>
                    </a:lnTo>
                    <a:lnTo>
                      <a:pt x="125" y="1077"/>
                    </a:lnTo>
                    <a:lnTo>
                      <a:pt x="103" y="1053"/>
                    </a:lnTo>
                    <a:lnTo>
                      <a:pt x="97" y="1038"/>
                    </a:lnTo>
                    <a:lnTo>
                      <a:pt x="91" y="1032"/>
                    </a:lnTo>
                    <a:lnTo>
                      <a:pt x="106" y="1009"/>
                    </a:lnTo>
                    <a:lnTo>
                      <a:pt x="83" y="1011"/>
                    </a:lnTo>
                    <a:lnTo>
                      <a:pt x="61" y="991"/>
                    </a:lnTo>
                    <a:lnTo>
                      <a:pt x="33" y="938"/>
                    </a:lnTo>
                    <a:lnTo>
                      <a:pt x="33" y="916"/>
                    </a:lnTo>
                    <a:lnTo>
                      <a:pt x="25" y="904"/>
                    </a:lnTo>
                    <a:lnTo>
                      <a:pt x="37" y="896"/>
                    </a:lnTo>
                    <a:lnTo>
                      <a:pt x="40" y="878"/>
                    </a:lnTo>
                    <a:lnTo>
                      <a:pt x="31" y="871"/>
                    </a:lnTo>
                    <a:lnTo>
                      <a:pt x="0" y="830"/>
                    </a:lnTo>
                    <a:lnTo>
                      <a:pt x="5" y="816"/>
                    </a:lnTo>
                    <a:lnTo>
                      <a:pt x="13" y="817"/>
                    </a:lnTo>
                    <a:lnTo>
                      <a:pt x="39" y="800"/>
                    </a:lnTo>
                    <a:lnTo>
                      <a:pt x="52" y="783"/>
                    </a:lnTo>
                    <a:lnTo>
                      <a:pt x="69" y="778"/>
                    </a:lnTo>
                    <a:lnTo>
                      <a:pt x="81" y="786"/>
                    </a:lnTo>
                    <a:lnTo>
                      <a:pt x="101" y="771"/>
                    </a:lnTo>
                    <a:lnTo>
                      <a:pt x="93" y="753"/>
                    </a:lnTo>
                    <a:lnTo>
                      <a:pt x="106" y="732"/>
                    </a:lnTo>
                    <a:lnTo>
                      <a:pt x="87" y="687"/>
                    </a:lnTo>
                    <a:lnTo>
                      <a:pt x="113" y="675"/>
                    </a:lnTo>
                    <a:lnTo>
                      <a:pt x="115" y="687"/>
                    </a:lnTo>
                    <a:lnTo>
                      <a:pt x="125" y="697"/>
                    </a:lnTo>
                    <a:lnTo>
                      <a:pt x="131" y="678"/>
                    </a:lnTo>
                    <a:lnTo>
                      <a:pt x="142" y="678"/>
                    </a:lnTo>
                    <a:lnTo>
                      <a:pt x="151" y="657"/>
                    </a:lnTo>
                    <a:lnTo>
                      <a:pt x="186" y="668"/>
                    </a:lnTo>
                    <a:lnTo>
                      <a:pt x="192" y="666"/>
                    </a:lnTo>
                    <a:lnTo>
                      <a:pt x="190" y="660"/>
                    </a:lnTo>
                    <a:lnTo>
                      <a:pt x="208" y="644"/>
                    </a:lnTo>
                    <a:lnTo>
                      <a:pt x="211" y="628"/>
                    </a:lnTo>
                    <a:lnTo>
                      <a:pt x="226" y="616"/>
                    </a:lnTo>
                    <a:lnTo>
                      <a:pt x="235" y="596"/>
                    </a:lnTo>
                    <a:lnTo>
                      <a:pt x="259" y="573"/>
                    </a:lnTo>
                    <a:lnTo>
                      <a:pt x="263" y="562"/>
                    </a:lnTo>
                    <a:lnTo>
                      <a:pt x="259" y="548"/>
                    </a:lnTo>
                    <a:lnTo>
                      <a:pt x="263" y="536"/>
                    </a:lnTo>
                    <a:lnTo>
                      <a:pt x="250" y="530"/>
                    </a:lnTo>
                    <a:lnTo>
                      <a:pt x="261" y="505"/>
                    </a:lnTo>
                    <a:lnTo>
                      <a:pt x="270" y="498"/>
                    </a:lnTo>
                    <a:lnTo>
                      <a:pt x="293" y="504"/>
                    </a:lnTo>
                    <a:lnTo>
                      <a:pt x="311" y="526"/>
                    </a:lnTo>
                    <a:lnTo>
                      <a:pt x="331" y="532"/>
                    </a:lnTo>
                    <a:lnTo>
                      <a:pt x="348" y="556"/>
                    </a:lnTo>
                    <a:lnTo>
                      <a:pt x="355" y="547"/>
                    </a:lnTo>
                    <a:lnTo>
                      <a:pt x="369" y="546"/>
                    </a:lnTo>
                    <a:lnTo>
                      <a:pt x="377" y="532"/>
                    </a:lnTo>
                    <a:lnTo>
                      <a:pt x="378" y="523"/>
                    </a:lnTo>
                    <a:lnTo>
                      <a:pt x="373" y="517"/>
                    </a:lnTo>
                    <a:lnTo>
                      <a:pt x="360" y="511"/>
                    </a:lnTo>
                    <a:lnTo>
                      <a:pt x="347" y="519"/>
                    </a:lnTo>
                    <a:lnTo>
                      <a:pt x="325" y="500"/>
                    </a:lnTo>
                    <a:lnTo>
                      <a:pt x="315" y="496"/>
                    </a:lnTo>
                    <a:lnTo>
                      <a:pt x="322" y="471"/>
                    </a:lnTo>
                    <a:lnTo>
                      <a:pt x="316" y="469"/>
                    </a:lnTo>
                    <a:lnTo>
                      <a:pt x="322" y="457"/>
                    </a:lnTo>
                    <a:lnTo>
                      <a:pt x="339" y="456"/>
                    </a:lnTo>
                    <a:lnTo>
                      <a:pt x="360" y="444"/>
                    </a:lnTo>
                    <a:lnTo>
                      <a:pt x="385" y="440"/>
                    </a:lnTo>
                    <a:lnTo>
                      <a:pt x="418" y="445"/>
                    </a:lnTo>
                    <a:lnTo>
                      <a:pt x="431" y="464"/>
                    </a:lnTo>
                    <a:lnTo>
                      <a:pt x="436" y="468"/>
                    </a:lnTo>
                    <a:lnTo>
                      <a:pt x="454" y="463"/>
                    </a:lnTo>
                    <a:lnTo>
                      <a:pt x="466" y="470"/>
                    </a:lnTo>
                    <a:lnTo>
                      <a:pt x="475" y="468"/>
                    </a:lnTo>
                    <a:lnTo>
                      <a:pt x="484" y="460"/>
                    </a:lnTo>
                    <a:lnTo>
                      <a:pt x="485" y="453"/>
                    </a:lnTo>
                    <a:lnTo>
                      <a:pt x="475" y="433"/>
                    </a:lnTo>
                    <a:lnTo>
                      <a:pt x="483" y="432"/>
                    </a:lnTo>
                    <a:lnTo>
                      <a:pt x="503" y="409"/>
                    </a:lnTo>
                    <a:lnTo>
                      <a:pt x="517" y="404"/>
                    </a:lnTo>
                    <a:lnTo>
                      <a:pt x="528" y="392"/>
                    </a:lnTo>
                    <a:lnTo>
                      <a:pt x="527" y="368"/>
                    </a:lnTo>
                    <a:lnTo>
                      <a:pt x="543" y="362"/>
                    </a:lnTo>
                    <a:lnTo>
                      <a:pt x="544" y="354"/>
                    </a:lnTo>
                    <a:lnTo>
                      <a:pt x="534" y="342"/>
                    </a:lnTo>
                    <a:lnTo>
                      <a:pt x="549" y="314"/>
                    </a:lnTo>
                    <a:lnTo>
                      <a:pt x="568" y="302"/>
                    </a:lnTo>
                    <a:lnTo>
                      <a:pt x="639" y="295"/>
                    </a:lnTo>
                    <a:lnTo>
                      <a:pt x="630" y="277"/>
                    </a:lnTo>
                    <a:lnTo>
                      <a:pt x="616" y="272"/>
                    </a:lnTo>
                    <a:lnTo>
                      <a:pt x="604" y="234"/>
                    </a:lnTo>
                    <a:lnTo>
                      <a:pt x="607" y="226"/>
                    </a:lnTo>
                    <a:lnTo>
                      <a:pt x="600" y="208"/>
                    </a:lnTo>
                    <a:lnTo>
                      <a:pt x="604" y="204"/>
                    </a:lnTo>
                    <a:lnTo>
                      <a:pt x="615" y="208"/>
                    </a:lnTo>
                    <a:lnTo>
                      <a:pt x="616" y="202"/>
                    </a:lnTo>
                    <a:lnTo>
                      <a:pt x="603" y="183"/>
                    </a:lnTo>
                    <a:lnTo>
                      <a:pt x="571" y="166"/>
                    </a:lnTo>
                    <a:lnTo>
                      <a:pt x="555" y="165"/>
                    </a:lnTo>
                    <a:lnTo>
                      <a:pt x="556" y="158"/>
                    </a:lnTo>
                    <a:lnTo>
                      <a:pt x="541" y="145"/>
                    </a:lnTo>
                    <a:lnTo>
                      <a:pt x="543" y="138"/>
                    </a:lnTo>
                    <a:lnTo>
                      <a:pt x="534" y="121"/>
                    </a:lnTo>
                    <a:lnTo>
                      <a:pt x="545" y="110"/>
                    </a:lnTo>
                    <a:lnTo>
                      <a:pt x="557" y="112"/>
                    </a:lnTo>
                    <a:lnTo>
                      <a:pt x="576" y="103"/>
                    </a:lnTo>
                    <a:lnTo>
                      <a:pt x="603" y="100"/>
                    </a:lnTo>
                    <a:lnTo>
                      <a:pt x="617" y="90"/>
                    </a:lnTo>
                    <a:lnTo>
                      <a:pt x="637" y="90"/>
                    </a:lnTo>
                    <a:lnTo>
                      <a:pt x="640" y="76"/>
                    </a:lnTo>
                    <a:lnTo>
                      <a:pt x="637" y="57"/>
                    </a:lnTo>
                    <a:lnTo>
                      <a:pt x="654" y="48"/>
                    </a:lnTo>
                    <a:lnTo>
                      <a:pt x="672" y="51"/>
                    </a:lnTo>
                    <a:lnTo>
                      <a:pt x="679" y="50"/>
                    </a:lnTo>
                    <a:lnTo>
                      <a:pt x="681" y="42"/>
                    </a:lnTo>
                    <a:lnTo>
                      <a:pt x="696" y="24"/>
                    </a:lnTo>
                    <a:lnTo>
                      <a:pt x="705" y="30"/>
                    </a:lnTo>
                    <a:lnTo>
                      <a:pt x="738" y="20"/>
                    </a:lnTo>
                    <a:lnTo>
                      <a:pt x="761" y="22"/>
                    </a:lnTo>
                    <a:lnTo>
                      <a:pt x="774" y="39"/>
                    </a:lnTo>
                    <a:lnTo>
                      <a:pt x="787" y="40"/>
                    </a:lnTo>
                    <a:lnTo>
                      <a:pt x="798" y="50"/>
                    </a:lnTo>
                    <a:lnTo>
                      <a:pt x="803" y="74"/>
                    </a:lnTo>
                    <a:lnTo>
                      <a:pt x="805" y="90"/>
                    </a:lnTo>
                    <a:lnTo>
                      <a:pt x="849" y="106"/>
                    </a:lnTo>
                    <a:lnTo>
                      <a:pt x="862" y="129"/>
                    </a:lnTo>
                    <a:lnTo>
                      <a:pt x="901" y="130"/>
                    </a:lnTo>
                    <a:lnTo>
                      <a:pt x="911" y="135"/>
                    </a:lnTo>
                    <a:lnTo>
                      <a:pt x="927" y="123"/>
                    </a:lnTo>
                    <a:lnTo>
                      <a:pt x="954" y="127"/>
                    </a:lnTo>
                    <a:lnTo>
                      <a:pt x="958" y="117"/>
                    </a:lnTo>
                    <a:lnTo>
                      <a:pt x="952" y="91"/>
                    </a:lnTo>
                    <a:lnTo>
                      <a:pt x="954" y="84"/>
                    </a:lnTo>
                    <a:lnTo>
                      <a:pt x="953" y="74"/>
                    </a:lnTo>
                    <a:lnTo>
                      <a:pt x="966" y="69"/>
                    </a:lnTo>
                    <a:lnTo>
                      <a:pt x="978" y="78"/>
                    </a:lnTo>
                    <a:lnTo>
                      <a:pt x="994" y="64"/>
                    </a:lnTo>
                    <a:lnTo>
                      <a:pt x="1002" y="64"/>
                    </a:lnTo>
                    <a:lnTo>
                      <a:pt x="1013" y="97"/>
                    </a:lnTo>
                    <a:lnTo>
                      <a:pt x="1031" y="104"/>
                    </a:lnTo>
                    <a:lnTo>
                      <a:pt x="1053" y="128"/>
                    </a:lnTo>
                    <a:lnTo>
                      <a:pt x="1059" y="123"/>
                    </a:lnTo>
                    <a:lnTo>
                      <a:pt x="1066" y="111"/>
                    </a:lnTo>
                    <a:lnTo>
                      <a:pt x="1060" y="106"/>
                    </a:lnTo>
                    <a:lnTo>
                      <a:pt x="1062" y="92"/>
                    </a:lnTo>
                    <a:lnTo>
                      <a:pt x="1075" y="67"/>
                    </a:lnTo>
                    <a:lnTo>
                      <a:pt x="1078" y="46"/>
                    </a:lnTo>
                    <a:lnTo>
                      <a:pt x="1102" y="30"/>
                    </a:lnTo>
                    <a:lnTo>
                      <a:pt x="1093" y="15"/>
                    </a:lnTo>
                    <a:close/>
                  </a:path>
                </a:pathLst>
              </a:custGeom>
              <a:solidFill>
                <a:srgbClr val="99ffcc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3170160" y="2563560"/>
              <a:ext cx="239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4f598d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Észak-magyarországi regionális 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1004760" y="4087800"/>
              <a:ext cx="2172240" cy="1807560"/>
              <a:chOff x="1004760" y="4087800"/>
              <a:chExt cx="2172240" cy="1807560"/>
            </a:xfrm>
          </p:grpSpPr>
          <p:sp>
            <p:nvSpPr>
              <p:cNvPr id="342" name=""/>
              <p:cNvSpPr/>
              <p:nvPr/>
            </p:nvSpPr>
            <p:spPr>
              <a:xfrm>
                <a:off x="1004760" y="4087800"/>
                <a:ext cx="1362600" cy="1677240"/>
              </a:xfrm>
              <a:custGeom>
                <a:avLst/>
                <a:gdLst/>
                <a:ahLst/>
                <a:rect l="l" t="t" r="r" b="b"/>
                <a:pathLst>
                  <a:path w="1801" h="2243">
                    <a:moveTo>
                      <a:pt x="1764" y="45"/>
                    </a:moveTo>
                    <a:lnTo>
                      <a:pt x="1760" y="50"/>
                    </a:lnTo>
                    <a:lnTo>
                      <a:pt x="1781" y="73"/>
                    </a:lnTo>
                    <a:lnTo>
                      <a:pt x="1785" y="108"/>
                    </a:lnTo>
                    <a:lnTo>
                      <a:pt x="1801" y="139"/>
                    </a:lnTo>
                    <a:lnTo>
                      <a:pt x="1800" y="164"/>
                    </a:lnTo>
                    <a:lnTo>
                      <a:pt x="1767" y="193"/>
                    </a:lnTo>
                    <a:lnTo>
                      <a:pt x="1788" y="204"/>
                    </a:lnTo>
                    <a:lnTo>
                      <a:pt x="1776" y="215"/>
                    </a:lnTo>
                    <a:lnTo>
                      <a:pt x="1788" y="252"/>
                    </a:lnTo>
                    <a:lnTo>
                      <a:pt x="1778" y="308"/>
                    </a:lnTo>
                    <a:lnTo>
                      <a:pt x="1784" y="336"/>
                    </a:lnTo>
                    <a:lnTo>
                      <a:pt x="1783" y="353"/>
                    </a:lnTo>
                    <a:lnTo>
                      <a:pt x="1796" y="377"/>
                    </a:lnTo>
                    <a:lnTo>
                      <a:pt x="1791" y="390"/>
                    </a:lnTo>
                    <a:lnTo>
                      <a:pt x="1788" y="391"/>
                    </a:lnTo>
                    <a:lnTo>
                      <a:pt x="1777" y="391"/>
                    </a:lnTo>
                    <a:lnTo>
                      <a:pt x="1755" y="404"/>
                    </a:lnTo>
                    <a:lnTo>
                      <a:pt x="1734" y="405"/>
                    </a:lnTo>
                    <a:lnTo>
                      <a:pt x="1730" y="414"/>
                    </a:lnTo>
                    <a:lnTo>
                      <a:pt x="1730" y="426"/>
                    </a:lnTo>
                    <a:lnTo>
                      <a:pt x="1740" y="439"/>
                    </a:lnTo>
                    <a:lnTo>
                      <a:pt x="1740" y="462"/>
                    </a:lnTo>
                    <a:lnTo>
                      <a:pt x="1719" y="463"/>
                    </a:lnTo>
                    <a:lnTo>
                      <a:pt x="1711" y="447"/>
                    </a:lnTo>
                    <a:lnTo>
                      <a:pt x="1699" y="451"/>
                    </a:lnTo>
                    <a:lnTo>
                      <a:pt x="1693" y="473"/>
                    </a:lnTo>
                    <a:lnTo>
                      <a:pt x="1674" y="481"/>
                    </a:lnTo>
                    <a:lnTo>
                      <a:pt x="1658" y="494"/>
                    </a:lnTo>
                    <a:lnTo>
                      <a:pt x="1671" y="510"/>
                    </a:lnTo>
                    <a:lnTo>
                      <a:pt x="1682" y="539"/>
                    </a:lnTo>
                    <a:lnTo>
                      <a:pt x="1697" y="535"/>
                    </a:lnTo>
                    <a:lnTo>
                      <a:pt x="1704" y="546"/>
                    </a:lnTo>
                    <a:lnTo>
                      <a:pt x="1699" y="547"/>
                    </a:lnTo>
                    <a:lnTo>
                      <a:pt x="1704" y="560"/>
                    </a:lnTo>
                    <a:lnTo>
                      <a:pt x="1685" y="560"/>
                    </a:lnTo>
                    <a:lnTo>
                      <a:pt x="1686" y="572"/>
                    </a:lnTo>
                    <a:lnTo>
                      <a:pt x="1681" y="578"/>
                    </a:lnTo>
                    <a:lnTo>
                      <a:pt x="1681" y="600"/>
                    </a:lnTo>
                    <a:lnTo>
                      <a:pt x="1662" y="606"/>
                    </a:lnTo>
                    <a:lnTo>
                      <a:pt x="1643" y="621"/>
                    </a:lnTo>
                    <a:lnTo>
                      <a:pt x="1645" y="630"/>
                    </a:lnTo>
                    <a:lnTo>
                      <a:pt x="1638" y="635"/>
                    </a:lnTo>
                    <a:lnTo>
                      <a:pt x="1645" y="656"/>
                    </a:lnTo>
                    <a:lnTo>
                      <a:pt x="1626" y="672"/>
                    </a:lnTo>
                    <a:lnTo>
                      <a:pt x="1615" y="699"/>
                    </a:lnTo>
                    <a:lnTo>
                      <a:pt x="1596" y="709"/>
                    </a:lnTo>
                    <a:lnTo>
                      <a:pt x="1601" y="726"/>
                    </a:lnTo>
                    <a:lnTo>
                      <a:pt x="1613" y="738"/>
                    </a:lnTo>
                    <a:lnTo>
                      <a:pt x="1623" y="761"/>
                    </a:lnTo>
                    <a:lnTo>
                      <a:pt x="1621" y="782"/>
                    </a:lnTo>
                    <a:lnTo>
                      <a:pt x="1610" y="786"/>
                    </a:lnTo>
                    <a:lnTo>
                      <a:pt x="1597" y="819"/>
                    </a:lnTo>
                    <a:lnTo>
                      <a:pt x="1583" y="835"/>
                    </a:lnTo>
                    <a:lnTo>
                      <a:pt x="1555" y="841"/>
                    </a:lnTo>
                    <a:lnTo>
                      <a:pt x="1559" y="866"/>
                    </a:lnTo>
                    <a:lnTo>
                      <a:pt x="1554" y="866"/>
                    </a:lnTo>
                    <a:lnTo>
                      <a:pt x="1557" y="872"/>
                    </a:lnTo>
                    <a:lnTo>
                      <a:pt x="1547" y="883"/>
                    </a:lnTo>
                    <a:lnTo>
                      <a:pt x="1559" y="933"/>
                    </a:lnTo>
                    <a:lnTo>
                      <a:pt x="1549" y="955"/>
                    </a:lnTo>
                    <a:lnTo>
                      <a:pt x="1561" y="967"/>
                    </a:lnTo>
                    <a:lnTo>
                      <a:pt x="1567" y="986"/>
                    </a:lnTo>
                    <a:lnTo>
                      <a:pt x="1568" y="1014"/>
                    </a:lnTo>
                    <a:lnTo>
                      <a:pt x="1575" y="1021"/>
                    </a:lnTo>
                    <a:lnTo>
                      <a:pt x="1579" y="1044"/>
                    </a:lnTo>
                    <a:lnTo>
                      <a:pt x="1596" y="1079"/>
                    </a:lnTo>
                    <a:lnTo>
                      <a:pt x="1592" y="1081"/>
                    </a:lnTo>
                    <a:lnTo>
                      <a:pt x="1596" y="1099"/>
                    </a:lnTo>
                    <a:lnTo>
                      <a:pt x="1578" y="1100"/>
                    </a:lnTo>
                    <a:lnTo>
                      <a:pt x="1575" y="1111"/>
                    </a:lnTo>
                    <a:lnTo>
                      <a:pt x="1556" y="1116"/>
                    </a:lnTo>
                    <a:lnTo>
                      <a:pt x="1536" y="1123"/>
                    </a:lnTo>
                    <a:lnTo>
                      <a:pt x="1531" y="1136"/>
                    </a:lnTo>
                    <a:lnTo>
                      <a:pt x="1515" y="1137"/>
                    </a:lnTo>
                    <a:lnTo>
                      <a:pt x="1509" y="1147"/>
                    </a:lnTo>
                    <a:lnTo>
                      <a:pt x="1525" y="1179"/>
                    </a:lnTo>
                    <a:lnTo>
                      <a:pt x="1537" y="1169"/>
                    </a:lnTo>
                    <a:lnTo>
                      <a:pt x="1547" y="1169"/>
                    </a:lnTo>
                    <a:lnTo>
                      <a:pt x="1559" y="1169"/>
                    </a:lnTo>
                    <a:lnTo>
                      <a:pt x="1575" y="1157"/>
                    </a:lnTo>
                    <a:lnTo>
                      <a:pt x="1589" y="1202"/>
                    </a:lnTo>
                    <a:lnTo>
                      <a:pt x="1593" y="1206"/>
                    </a:lnTo>
                    <a:lnTo>
                      <a:pt x="1616" y="1200"/>
                    </a:lnTo>
                    <a:lnTo>
                      <a:pt x="1626" y="1203"/>
                    </a:lnTo>
                    <a:lnTo>
                      <a:pt x="1620" y="1220"/>
                    </a:lnTo>
                    <a:lnTo>
                      <a:pt x="1626" y="1237"/>
                    </a:lnTo>
                    <a:lnTo>
                      <a:pt x="1632" y="1280"/>
                    </a:lnTo>
                    <a:lnTo>
                      <a:pt x="1614" y="1303"/>
                    </a:lnTo>
                    <a:lnTo>
                      <a:pt x="1610" y="1309"/>
                    </a:lnTo>
                    <a:lnTo>
                      <a:pt x="1613" y="1323"/>
                    </a:lnTo>
                    <a:lnTo>
                      <a:pt x="1579" y="1349"/>
                    </a:lnTo>
                    <a:lnTo>
                      <a:pt x="1562" y="1353"/>
                    </a:lnTo>
                    <a:lnTo>
                      <a:pt x="1559" y="1352"/>
                    </a:lnTo>
                    <a:lnTo>
                      <a:pt x="1556" y="1345"/>
                    </a:lnTo>
                    <a:lnTo>
                      <a:pt x="1544" y="1341"/>
                    </a:lnTo>
                    <a:lnTo>
                      <a:pt x="1533" y="1349"/>
                    </a:lnTo>
                    <a:lnTo>
                      <a:pt x="1524" y="1346"/>
                    </a:lnTo>
                    <a:lnTo>
                      <a:pt x="1517" y="1323"/>
                    </a:lnTo>
                    <a:lnTo>
                      <a:pt x="1459" y="1326"/>
                    </a:lnTo>
                    <a:lnTo>
                      <a:pt x="1435" y="1339"/>
                    </a:lnTo>
                    <a:lnTo>
                      <a:pt x="1413" y="1373"/>
                    </a:lnTo>
                    <a:lnTo>
                      <a:pt x="1415" y="1386"/>
                    </a:lnTo>
                    <a:lnTo>
                      <a:pt x="1421" y="1397"/>
                    </a:lnTo>
                    <a:lnTo>
                      <a:pt x="1410" y="1441"/>
                    </a:lnTo>
                    <a:lnTo>
                      <a:pt x="1415" y="1461"/>
                    </a:lnTo>
                    <a:lnTo>
                      <a:pt x="1395" y="1497"/>
                    </a:lnTo>
                    <a:lnTo>
                      <a:pt x="1380" y="1493"/>
                    </a:lnTo>
                    <a:lnTo>
                      <a:pt x="1362" y="1505"/>
                    </a:lnTo>
                    <a:lnTo>
                      <a:pt x="1346" y="1499"/>
                    </a:lnTo>
                    <a:lnTo>
                      <a:pt x="1340" y="1502"/>
                    </a:lnTo>
                    <a:lnTo>
                      <a:pt x="1341" y="1508"/>
                    </a:lnTo>
                    <a:lnTo>
                      <a:pt x="1332" y="1517"/>
                    </a:lnTo>
                    <a:lnTo>
                      <a:pt x="1320" y="1507"/>
                    </a:lnTo>
                    <a:lnTo>
                      <a:pt x="1301" y="1509"/>
                    </a:lnTo>
                    <a:lnTo>
                      <a:pt x="1291" y="1520"/>
                    </a:lnTo>
                    <a:lnTo>
                      <a:pt x="1260" y="1519"/>
                    </a:lnTo>
                    <a:lnTo>
                      <a:pt x="1257" y="1494"/>
                    </a:lnTo>
                    <a:lnTo>
                      <a:pt x="1249" y="1493"/>
                    </a:lnTo>
                    <a:lnTo>
                      <a:pt x="1244" y="1502"/>
                    </a:lnTo>
                    <a:lnTo>
                      <a:pt x="1237" y="1501"/>
                    </a:lnTo>
                    <a:lnTo>
                      <a:pt x="1235" y="1493"/>
                    </a:lnTo>
                    <a:lnTo>
                      <a:pt x="1225" y="1497"/>
                    </a:lnTo>
                    <a:lnTo>
                      <a:pt x="1202" y="1531"/>
                    </a:lnTo>
                    <a:lnTo>
                      <a:pt x="1181" y="1541"/>
                    </a:lnTo>
                    <a:lnTo>
                      <a:pt x="1178" y="1535"/>
                    </a:lnTo>
                    <a:lnTo>
                      <a:pt x="1167" y="1530"/>
                    </a:lnTo>
                    <a:lnTo>
                      <a:pt x="1155" y="1490"/>
                    </a:lnTo>
                    <a:lnTo>
                      <a:pt x="1145" y="1473"/>
                    </a:lnTo>
                    <a:lnTo>
                      <a:pt x="1145" y="1478"/>
                    </a:lnTo>
                    <a:lnTo>
                      <a:pt x="1127" y="1491"/>
                    </a:lnTo>
                    <a:lnTo>
                      <a:pt x="1137" y="1512"/>
                    </a:lnTo>
                    <a:lnTo>
                      <a:pt x="1136" y="1521"/>
                    </a:lnTo>
                    <a:lnTo>
                      <a:pt x="1128" y="1548"/>
                    </a:lnTo>
                    <a:lnTo>
                      <a:pt x="1123" y="1549"/>
                    </a:lnTo>
                    <a:lnTo>
                      <a:pt x="1122" y="1541"/>
                    </a:lnTo>
                    <a:lnTo>
                      <a:pt x="1104" y="1551"/>
                    </a:lnTo>
                    <a:lnTo>
                      <a:pt x="1109" y="1562"/>
                    </a:lnTo>
                    <a:lnTo>
                      <a:pt x="1111" y="1583"/>
                    </a:lnTo>
                    <a:lnTo>
                      <a:pt x="1098" y="1593"/>
                    </a:lnTo>
                    <a:lnTo>
                      <a:pt x="1095" y="1604"/>
                    </a:lnTo>
                    <a:lnTo>
                      <a:pt x="1081" y="1614"/>
                    </a:lnTo>
                    <a:lnTo>
                      <a:pt x="1081" y="1643"/>
                    </a:lnTo>
                    <a:lnTo>
                      <a:pt x="1071" y="1673"/>
                    </a:lnTo>
                    <a:lnTo>
                      <a:pt x="1071" y="1682"/>
                    </a:lnTo>
                    <a:lnTo>
                      <a:pt x="1070" y="1697"/>
                    </a:lnTo>
                    <a:lnTo>
                      <a:pt x="1081" y="1717"/>
                    </a:lnTo>
                    <a:lnTo>
                      <a:pt x="1058" y="1729"/>
                    </a:lnTo>
                    <a:lnTo>
                      <a:pt x="1062" y="1740"/>
                    </a:lnTo>
                    <a:lnTo>
                      <a:pt x="1074" y="1752"/>
                    </a:lnTo>
                    <a:lnTo>
                      <a:pt x="1070" y="1761"/>
                    </a:lnTo>
                    <a:lnTo>
                      <a:pt x="1074" y="1771"/>
                    </a:lnTo>
                    <a:lnTo>
                      <a:pt x="1065" y="1788"/>
                    </a:lnTo>
                    <a:lnTo>
                      <a:pt x="1065" y="1807"/>
                    </a:lnTo>
                    <a:lnTo>
                      <a:pt x="1044" y="1813"/>
                    </a:lnTo>
                    <a:lnTo>
                      <a:pt x="1043" y="1825"/>
                    </a:lnTo>
                    <a:lnTo>
                      <a:pt x="1022" y="1832"/>
                    </a:lnTo>
                    <a:lnTo>
                      <a:pt x="1007" y="1847"/>
                    </a:lnTo>
                    <a:lnTo>
                      <a:pt x="1013" y="1860"/>
                    </a:lnTo>
                    <a:lnTo>
                      <a:pt x="1022" y="1904"/>
                    </a:lnTo>
                    <a:lnTo>
                      <a:pt x="1040" y="1917"/>
                    </a:lnTo>
                    <a:lnTo>
                      <a:pt x="1040" y="1952"/>
                    </a:lnTo>
                    <a:lnTo>
                      <a:pt x="1001" y="1961"/>
                    </a:lnTo>
                    <a:lnTo>
                      <a:pt x="1027" y="2061"/>
                    </a:lnTo>
                    <a:lnTo>
                      <a:pt x="1035" y="2069"/>
                    </a:lnTo>
                    <a:lnTo>
                      <a:pt x="1053" y="2070"/>
                    </a:lnTo>
                    <a:lnTo>
                      <a:pt x="1045" y="2040"/>
                    </a:lnTo>
                    <a:lnTo>
                      <a:pt x="1055" y="2037"/>
                    </a:lnTo>
                    <a:lnTo>
                      <a:pt x="1061" y="2053"/>
                    </a:lnTo>
                    <a:lnTo>
                      <a:pt x="1069" y="2052"/>
                    </a:lnTo>
                    <a:lnTo>
                      <a:pt x="1088" y="2060"/>
                    </a:lnTo>
                    <a:lnTo>
                      <a:pt x="1088" y="2091"/>
                    </a:lnTo>
                    <a:lnTo>
                      <a:pt x="1122" y="2101"/>
                    </a:lnTo>
                    <a:lnTo>
                      <a:pt x="1139" y="2112"/>
                    </a:lnTo>
                    <a:lnTo>
                      <a:pt x="1143" y="2119"/>
                    </a:lnTo>
                    <a:lnTo>
                      <a:pt x="1135" y="2132"/>
                    </a:lnTo>
                    <a:lnTo>
                      <a:pt x="1158" y="2150"/>
                    </a:lnTo>
                    <a:lnTo>
                      <a:pt x="1159" y="2157"/>
                    </a:lnTo>
                    <a:lnTo>
                      <a:pt x="1145" y="2165"/>
                    </a:lnTo>
                    <a:lnTo>
                      <a:pt x="1143" y="2183"/>
                    </a:lnTo>
                    <a:lnTo>
                      <a:pt x="1157" y="2190"/>
                    </a:lnTo>
                    <a:lnTo>
                      <a:pt x="1145" y="2215"/>
                    </a:lnTo>
                    <a:lnTo>
                      <a:pt x="1131" y="2215"/>
                    </a:lnTo>
                    <a:lnTo>
                      <a:pt x="1117" y="2216"/>
                    </a:lnTo>
                    <a:lnTo>
                      <a:pt x="1109" y="2231"/>
                    </a:lnTo>
                    <a:lnTo>
                      <a:pt x="1105" y="2227"/>
                    </a:lnTo>
                    <a:lnTo>
                      <a:pt x="1104" y="2214"/>
                    </a:lnTo>
                    <a:lnTo>
                      <a:pt x="1097" y="2198"/>
                    </a:lnTo>
                    <a:lnTo>
                      <a:pt x="1076" y="2209"/>
                    </a:lnTo>
                    <a:lnTo>
                      <a:pt x="1070" y="2217"/>
                    </a:lnTo>
                    <a:lnTo>
                      <a:pt x="1067" y="2243"/>
                    </a:lnTo>
                    <a:lnTo>
                      <a:pt x="1052" y="2231"/>
                    </a:lnTo>
                    <a:lnTo>
                      <a:pt x="1043" y="2186"/>
                    </a:lnTo>
                    <a:lnTo>
                      <a:pt x="1023" y="2139"/>
                    </a:lnTo>
                    <a:lnTo>
                      <a:pt x="999" y="2103"/>
                    </a:lnTo>
                    <a:lnTo>
                      <a:pt x="966" y="2076"/>
                    </a:lnTo>
                    <a:lnTo>
                      <a:pt x="941" y="2053"/>
                    </a:lnTo>
                    <a:lnTo>
                      <a:pt x="921" y="2048"/>
                    </a:lnTo>
                    <a:lnTo>
                      <a:pt x="882" y="2047"/>
                    </a:lnTo>
                    <a:lnTo>
                      <a:pt x="873" y="2043"/>
                    </a:lnTo>
                    <a:lnTo>
                      <a:pt x="849" y="2039"/>
                    </a:lnTo>
                    <a:lnTo>
                      <a:pt x="801" y="2030"/>
                    </a:lnTo>
                    <a:lnTo>
                      <a:pt x="768" y="2022"/>
                    </a:lnTo>
                    <a:lnTo>
                      <a:pt x="753" y="2022"/>
                    </a:lnTo>
                    <a:lnTo>
                      <a:pt x="749" y="2029"/>
                    </a:lnTo>
                    <a:lnTo>
                      <a:pt x="752" y="2054"/>
                    </a:lnTo>
                    <a:lnTo>
                      <a:pt x="751" y="2055"/>
                    </a:lnTo>
                    <a:lnTo>
                      <a:pt x="744" y="2053"/>
                    </a:lnTo>
                    <a:lnTo>
                      <a:pt x="745" y="2064"/>
                    </a:lnTo>
                    <a:lnTo>
                      <a:pt x="738" y="2072"/>
                    </a:lnTo>
                    <a:lnTo>
                      <a:pt x="727" y="2072"/>
                    </a:lnTo>
                    <a:lnTo>
                      <a:pt x="716" y="2048"/>
                    </a:lnTo>
                    <a:lnTo>
                      <a:pt x="708" y="2043"/>
                    </a:lnTo>
                    <a:lnTo>
                      <a:pt x="693" y="2065"/>
                    </a:lnTo>
                    <a:lnTo>
                      <a:pt x="685" y="2066"/>
                    </a:lnTo>
                    <a:lnTo>
                      <a:pt x="677" y="2058"/>
                    </a:lnTo>
                    <a:lnTo>
                      <a:pt x="677" y="2036"/>
                    </a:lnTo>
                    <a:lnTo>
                      <a:pt x="673" y="2030"/>
                    </a:lnTo>
                    <a:lnTo>
                      <a:pt x="661" y="2029"/>
                    </a:lnTo>
                    <a:lnTo>
                      <a:pt x="635" y="2036"/>
                    </a:lnTo>
                    <a:lnTo>
                      <a:pt x="626" y="2031"/>
                    </a:lnTo>
                    <a:lnTo>
                      <a:pt x="620" y="2018"/>
                    </a:lnTo>
                    <a:lnTo>
                      <a:pt x="623" y="2001"/>
                    </a:lnTo>
                    <a:lnTo>
                      <a:pt x="644" y="2012"/>
                    </a:lnTo>
                    <a:lnTo>
                      <a:pt x="665" y="2016"/>
                    </a:lnTo>
                    <a:lnTo>
                      <a:pt x="680" y="2011"/>
                    </a:lnTo>
                    <a:lnTo>
                      <a:pt x="685" y="2000"/>
                    </a:lnTo>
                    <a:lnTo>
                      <a:pt x="655" y="1998"/>
                    </a:lnTo>
                    <a:lnTo>
                      <a:pt x="650" y="1989"/>
                    </a:lnTo>
                    <a:lnTo>
                      <a:pt x="655" y="1985"/>
                    </a:lnTo>
                    <a:lnTo>
                      <a:pt x="662" y="1964"/>
                    </a:lnTo>
                    <a:lnTo>
                      <a:pt x="661" y="1955"/>
                    </a:lnTo>
                    <a:lnTo>
                      <a:pt x="651" y="1945"/>
                    </a:lnTo>
                    <a:lnTo>
                      <a:pt x="647" y="1968"/>
                    </a:lnTo>
                    <a:lnTo>
                      <a:pt x="642" y="1975"/>
                    </a:lnTo>
                    <a:lnTo>
                      <a:pt x="631" y="1973"/>
                    </a:lnTo>
                    <a:lnTo>
                      <a:pt x="613" y="1947"/>
                    </a:lnTo>
                    <a:lnTo>
                      <a:pt x="611" y="1970"/>
                    </a:lnTo>
                    <a:lnTo>
                      <a:pt x="596" y="1988"/>
                    </a:lnTo>
                    <a:lnTo>
                      <a:pt x="590" y="1989"/>
                    </a:lnTo>
                    <a:lnTo>
                      <a:pt x="585" y="1977"/>
                    </a:lnTo>
                    <a:lnTo>
                      <a:pt x="593" y="1959"/>
                    </a:lnTo>
                    <a:lnTo>
                      <a:pt x="590" y="1949"/>
                    </a:lnTo>
                    <a:lnTo>
                      <a:pt x="576" y="1959"/>
                    </a:lnTo>
                    <a:lnTo>
                      <a:pt x="563" y="1962"/>
                    </a:lnTo>
                    <a:lnTo>
                      <a:pt x="555" y="1951"/>
                    </a:lnTo>
                    <a:lnTo>
                      <a:pt x="570" y="1929"/>
                    </a:lnTo>
                    <a:lnTo>
                      <a:pt x="565" y="1922"/>
                    </a:lnTo>
                    <a:lnTo>
                      <a:pt x="516" y="1915"/>
                    </a:lnTo>
                    <a:lnTo>
                      <a:pt x="509" y="1907"/>
                    </a:lnTo>
                    <a:lnTo>
                      <a:pt x="507" y="1899"/>
                    </a:lnTo>
                    <a:lnTo>
                      <a:pt x="509" y="1897"/>
                    </a:lnTo>
                    <a:lnTo>
                      <a:pt x="527" y="1884"/>
                    </a:lnTo>
                    <a:lnTo>
                      <a:pt x="546" y="1883"/>
                    </a:lnTo>
                    <a:lnTo>
                      <a:pt x="559" y="1874"/>
                    </a:lnTo>
                    <a:lnTo>
                      <a:pt x="551" y="1862"/>
                    </a:lnTo>
                    <a:lnTo>
                      <a:pt x="533" y="1855"/>
                    </a:lnTo>
                    <a:lnTo>
                      <a:pt x="519" y="1857"/>
                    </a:lnTo>
                    <a:lnTo>
                      <a:pt x="506" y="1866"/>
                    </a:lnTo>
                    <a:lnTo>
                      <a:pt x="504" y="1844"/>
                    </a:lnTo>
                    <a:lnTo>
                      <a:pt x="515" y="1829"/>
                    </a:lnTo>
                    <a:lnTo>
                      <a:pt x="517" y="1818"/>
                    </a:lnTo>
                    <a:lnTo>
                      <a:pt x="511" y="1811"/>
                    </a:lnTo>
                    <a:lnTo>
                      <a:pt x="494" y="1807"/>
                    </a:lnTo>
                    <a:lnTo>
                      <a:pt x="486" y="1805"/>
                    </a:lnTo>
                    <a:lnTo>
                      <a:pt x="500" y="1794"/>
                    </a:lnTo>
                    <a:lnTo>
                      <a:pt x="504" y="1787"/>
                    </a:lnTo>
                    <a:lnTo>
                      <a:pt x="489" y="1769"/>
                    </a:lnTo>
                    <a:lnTo>
                      <a:pt x="458" y="1759"/>
                    </a:lnTo>
                    <a:lnTo>
                      <a:pt x="455" y="1743"/>
                    </a:lnTo>
                    <a:lnTo>
                      <a:pt x="456" y="1728"/>
                    </a:lnTo>
                    <a:lnTo>
                      <a:pt x="449" y="1707"/>
                    </a:lnTo>
                    <a:lnTo>
                      <a:pt x="437" y="1697"/>
                    </a:lnTo>
                    <a:lnTo>
                      <a:pt x="422" y="1699"/>
                    </a:lnTo>
                    <a:lnTo>
                      <a:pt x="409" y="1705"/>
                    </a:lnTo>
                    <a:lnTo>
                      <a:pt x="399" y="1691"/>
                    </a:lnTo>
                    <a:lnTo>
                      <a:pt x="398" y="1675"/>
                    </a:lnTo>
                    <a:lnTo>
                      <a:pt x="404" y="1647"/>
                    </a:lnTo>
                    <a:lnTo>
                      <a:pt x="397" y="1616"/>
                    </a:lnTo>
                    <a:lnTo>
                      <a:pt x="380" y="1609"/>
                    </a:lnTo>
                    <a:lnTo>
                      <a:pt x="372" y="1586"/>
                    </a:lnTo>
                    <a:lnTo>
                      <a:pt x="338" y="1584"/>
                    </a:lnTo>
                    <a:lnTo>
                      <a:pt x="332" y="1574"/>
                    </a:lnTo>
                    <a:lnTo>
                      <a:pt x="308" y="1568"/>
                    </a:lnTo>
                    <a:lnTo>
                      <a:pt x="299" y="1556"/>
                    </a:lnTo>
                    <a:lnTo>
                      <a:pt x="275" y="1553"/>
                    </a:lnTo>
                    <a:lnTo>
                      <a:pt x="229" y="1524"/>
                    </a:lnTo>
                    <a:lnTo>
                      <a:pt x="198" y="1508"/>
                    </a:lnTo>
                    <a:lnTo>
                      <a:pt x="158" y="1483"/>
                    </a:lnTo>
                    <a:lnTo>
                      <a:pt x="121" y="1476"/>
                    </a:lnTo>
                    <a:lnTo>
                      <a:pt x="122" y="1461"/>
                    </a:lnTo>
                    <a:lnTo>
                      <a:pt x="117" y="1452"/>
                    </a:lnTo>
                    <a:lnTo>
                      <a:pt x="83" y="1445"/>
                    </a:lnTo>
                    <a:lnTo>
                      <a:pt x="79" y="1416"/>
                    </a:lnTo>
                    <a:lnTo>
                      <a:pt x="69" y="1417"/>
                    </a:lnTo>
                    <a:lnTo>
                      <a:pt x="61" y="1412"/>
                    </a:lnTo>
                    <a:lnTo>
                      <a:pt x="53" y="1403"/>
                    </a:lnTo>
                    <a:lnTo>
                      <a:pt x="35" y="1376"/>
                    </a:lnTo>
                    <a:lnTo>
                      <a:pt x="26" y="1370"/>
                    </a:lnTo>
                    <a:lnTo>
                      <a:pt x="23" y="1369"/>
                    </a:lnTo>
                    <a:lnTo>
                      <a:pt x="15" y="1361"/>
                    </a:lnTo>
                    <a:lnTo>
                      <a:pt x="12" y="1338"/>
                    </a:lnTo>
                    <a:lnTo>
                      <a:pt x="9" y="1327"/>
                    </a:lnTo>
                    <a:lnTo>
                      <a:pt x="0" y="1289"/>
                    </a:lnTo>
                    <a:lnTo>
                      <a:pt x="33" y="1301"/>
                    </a:lnTo>
                    <a:lnTo>
                      <a:pt x="69" y="1297"/>
                    </a:lnTo>
                    <a:lnTo>
                      <a:pt x="73" y="1303"/>
                    </a:lnTo>
                    <a:lnTo>
                      <a:pt x="74" y="1340"/>
                    </a:lnTo>
                    <a:lnTo>
                      <a:pt x="84" y="1343"/>
                    </a:lnTo>
                    <a:lnTo>
                      <a:pt x="89" y="1352"/>
                    </a:lnTo>
                    <a:lnTo>
                      <a:pt x="104" y="1345"/>
                    </a:lnTo>
                    <a:lnTo>
                      <a:pt x="105" y="1329"/>
                    </a:lnTo>
                    <a:lnTo>
                      <a:pt x="127" y="1323"/>
                    </a:lnTo>
                    <a:lnTo>
                      <a:pt x="137" y="1304"/>
                    </a:lnTo>
                    <a:lnTo>
                      <a:pt x="140" y="1313"/>
                    </a:lnTo>
                    <a:lnTo>
                      <a:pt x="155" y="1310"/>
                    </a:lnTo>
                    <a:lnTo>
                      <a:pt x="159" y="1305"/>
                    </a:lnTo>
                    <a:lnTo>
                      <a:pt x="170" y="1313"/>
                    </a:lnTo>
                    <a:lnTo>
                      <a:pt x="175" y="1325"/>
                    </a:lnTo>
                    <a:lnTo>
                      <a:pt x="180" y="1325"/>
                    </a:lnTo>
                    <a:lnTo>
                      <a:pt x="216" y="1301"/>
                    </a:lnTo>
                    <a:lnTo>
                      <a:pt x="209" y="1289"/>
                    </a:lnTo>
                    <a:lnTo>
                      <a:pt x="212" y="1275"/>
                    </a:lnTo>
                    <a:lnTo>
                      <a:pt x="218" y="1275"/>
                    </a:lnTo>
                    <a:lnTo>
                      <a:pt x="221" y="1262"/>
                    </a:lnTo>
                    <a:lnTo>
                      <a:pt x="227" y="1257"/>
                    </a:lnTo>
                    <a:lnTo>
                      <a:pt x="239" y="1257"/>
                    </a:lnTo>
                    <a:lnTo>
                      <a:pt x="235" y="1224"/>
                    </a:lnTo>
                    <a:lnTo>
                      <a:pt x="217" y="1164"/>
                    </a:lnTo>
                    <a:lnTo>
                      <a:pt x="200" y="1147"/>
                    </a:lnTo>
                    <a:lnTo>
                      <a:pt x="199" y="1137"/>
                    </a:lnTo>
                    <a:lnTo>
                      <a:pt x="217" y="1110"/>
                    </a:lnTo>
                    <a:lnTo>
                      <a:pt x="240" y="1100"/>
                    </a:lnTo>
                    <a:lnTo>
                      <a:pt x="246" y="1130"/>
                    </a:lnTo>
                    <a:lnTo>
                      <a:pt x="255" y="1131"/>
                    </a:lnTo>
                    <a:lnTo>
                      <a:pt x="263" y="1125"/>
                    </a:lnTo>
                    <a:lnTo>
                      <a:pt x="269" y="1099"/>
                    </a:lnTo>
                    <a:lnTo>
                      <a:pt x="281" y="1095"/>
                    </a:lnTo>
                    <a:lnTo>
                      <a:pt x="308" y="1107"/>
                    </a:lnTo>
                    <a:lnTo>
                      <a:pt x="313" y="1123"/>
                    </a:lnTo>
                    <a:lnTo>
                      <a:pt x="345" y="1118"/>
                    </a:lnTo>
                    <a:lnTo>
                      <a:pt x="348" y="1115"/>
                    </a:lnTo>
                    <a:lnTo>
                      <a:pt x="347" y="1086"/>
                    </a:lnTo>
                    <a:lnTo>
                      <a:pt x="359" y="1077"/>
                    </a:lnTo>
                    <a:lnTo>
                      <a:pt x="398" y="1076"/>
                    </a:lnTo>
                    <a:lnTo>
                      <a:pt x="413" y="1085"/>
                    </a:lnTo>
                    <a:lnTo>
                      <a:pt x="414" y="1083"/>
                    </a:lnTo>
                    <a:lnTo>
                      <a:pt x="422" y="1056"/>
                    </a:lnTo>
                    <a:lnTo>
                      <a:pt x="432" y="1021"/>
                    </a:lnTo>
                    <a:lnTo>
                      <a:pt x="432" y="1005"/>
                    </a:lnTo>
                    <a:lnTo>
                      <a:pt x="425" y="973"/>
                    </a:lnTo>
                    <a:lnTo>
                      <a:pt x="426" y="961"/>
                    </a:lnTo>
                    <a:lnTo>
                      <a:pt x="443" y="951"/>
                    </a:lnTo>
                    <a:lnTo>
                      <a:pt x="477" y="911"/>
                    </a:lnTo>
                    <a:lnTo>
                      <a:pt x="475" y="907"/>
                    </a:lnTo>
                    <a:lnTo>
                      <a:pt x="462" y="734"/>
                    </a:lnTo>
                    <a:lnTo>
                      <a:pt x="461" y="702"/>
                    </a:lnTo>
                    <a:lnTo>
                      <a:pt x="468" y="659"/>
                    </a:lnTo>
                    <a:lnTo>
                      <a:pt x="469" y="615"/>
                    </a:lnTo>
                    <a:lnTo>
                      <a:pt x="476" y="587"/>
                    </a:lnTo>
                    <a:lnTo>
                      <a:pt x="491" y="577"/>
                    </a:lnTo>
                    <a:lnTo>
                      <a:pt x="504" y="579"/>
                    </a:lnTo>
                    <a:lnTo>
                      <a:pt x="511" y="554"/>
                    </a:lnTo>
                    <a:lnTo>
                      <a:pt x="528" y="523"/>
                    </a:lnTo>
                    <a:lnTo>
                      <a:pt x="536" y="501"/>
                    </a:lnTo>
                    <a:lnTo>
                      <a:pt x="547" y="471"/>
                    </a:lnTo>
                    <a:lnTo>
                      <a:pt x="564" y="461"/>
                    </a:lnTo>
                    <a:lnTo>
                      <a:pt x="607" y="469"/>
                    </a:lnTo>
                    <a:lnTo>
                      <a:pt x="647" y="471"/>
                    </a:lnTo>
                    <a:lnTo>
                      <a:pt x="685" y="456"/>
                    </a:lnTo>
                    <a:lnTo>
                      <a:pt x="702" y="446"/>
                    </a:lnTo>
                    <a:lnTo>
                      <a:pt x="929" y="389"/>
                    </a:lnTo>
                    <a:lnTo>
                      <a:pt x="1202" y="253"/>
                    </a:lnTo>
                    <a:lnTo>
                      <a:pt x="1311" y="210"/>
                    </a:lnTo>
                    <a:lnTo>
                      <a:pt x="1479" y="104"/>
                    </a:lnTo>
                    <a:lnTo>
                      <a:pt x="1597" y="0"/>
                    </a:lnTo>
                    <a:lnTo>
                      <a:pt x="1719" y="8"/>
                    </a:lnTo>
                    <a:lnTo>
                      <a:pt x="1764" y="45"/>
                    </a:lnTo>
                    <a:close/>
                  </a:path>
                </a:pathLst>
              </a:custGeom>
              <a:solidFill>
                <a:srgbClr val="cc00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138400" y="4214880"/>
                <a:ext cx="1038600" cy="1166760"/>
              </a:xfrm>
              <a:custGeom>
                <a:avLst/>
                <a:gdLst/>
                <a:ahLst/>
                <a:rect l="l" t="t" r="r" b="b"/>
                <a:pathLst>
                  <a:path w="1373" h="1560">
                    <a:moveTo>
                      <a:pt x="1257" y="35"/>
                    </a:moveTo>
                    <a:lnTo>
                      <a:pt x="1282" y="0"/>
                    </a:lnTo>
                    <a:lnTo>
                      <a:pt x="1269" y="39"/>
                    </a:lnTo>
                    <a:lnTo>
                      <a:pt x="1270" y="62"/>
                    </a:lnTo>
                    <a:lnTo>
                      <a:pt x="1282" y="83"/>
                    </a:lnTo>
                    <a:lnTo>
                      <a:pt x="1305" y="123"/>
                    </a:lnTo>
                    <a:lnTo>
                      <a:pt x="1307" y="165"/>
                    </a:lnTo>
                    <a:lnTo>
                      <a:pt x="1316" y="165"/>
                    </a:lnTo>
                    <a:lnTo>
                      <a:pt x="1332" y="199"/>
                    </a:lnTo>
                    <a:lnTo>
                      <a:pt x="1329" y="206"/>
                    </a:lnTo>
                    <a:lnTo>
                      <a:pt x="1338" y="237"/>
                    </a:lnTo>
                    <a:lnTo>
                      <a:pt x="1349" y="284"/>
                    </a:lnTo>
                    <a:lnTo>
                      <a:pt x="1372" y="333"/>
                    </a:lnTo>
                    <a:lnTo>
                      <a:pt x="1373" y="365"/>
                    </a:lnTo>
                    <a:lnTo>
                      <a:pt x="1370" y="379"/>
                    </a:lnTo>
                    <a:lnTo>
                      <a:pt x="1361" y="405"/>
                    </a:lnTo>
                    <a:lnTo>
                      <a:pt x="1355" y="405"/>
                    </a:lnTo>
                    <a:lnTo>
                      <a:pt x="1346" y="415"/>
                    </a:lnTo>
                    <a:lnTo>
                      <a:pt x="1344" y="422"/>
                    </a:lnTo>
                    <a:lnTo>
                      <a:pt x="1337" y="429"/>
                    </a:lnTo>
                    <a:lnTo>
                      <a:pt x="1322" y="444"/>
                    </a:lnTo>
                    <a:lnTo>
                      <a:pt x="1314" y="462"/>
                    </a:lnTo>
                    <a:lnTo>
                      <a:pt x="1298" y="475"/>
                    </a:lnTo>
                    <a:lnTo>
                      <a:pt x="1268" y="487"/>
                    </a:lnTo>
                    <a:lnTo>
                      <a:pt x="1252" y="485"/>
                    </a:lnTo>
                    <a:lnTo>
                      <a:pt x="1216" y="486"/>
                    </a:lnTo>
                    <a:lnTo>
                      <a:pt x="1214" y="488"/>
                    </a:lnTo>
                    <a:lnTo>
                      <a:pt x="1205" y="498"/>
                    </a:lnTo>
                    <a:lnTo>
                      <a:pt x="1202" y="504"/>
                    </a:lnTo>
                    <a:lnTo>
                      <a:pt x="1191" y="515"/>
                    </a:lnTo>
                    <a:lnTo>
                      <a:pt x="1179" y="539"/>
                    </a:lnTo>
                    <a:lnTo>
                      <a:pt x="1178" y="559"/>
                    </a:lnTo>
                    <a:lnTo>
                      <a:pt x="1200" y="594"/>
                    </a:lnTo>
                    <a:lnTo>
                      <a:pt x="1221" y="620"/>
                    </a:lnTo>
                    <a:lnTo>
                      <a:pt x="1222" y="653"/>
                    </a:lnTo>
                    <a:lnTo>
                      <a:pt x="1228" y="713"/>
                    </a:lnTo>
                    <a:lnTo>
                      <a:pt x="1236" y="753"/>
                    </a:lnTo>
                    <a:lnTo>
                      <a:pt x="1256" y="785"/>
                    </a:lnTo>
                    <a:lnTo>
                      <a:pt x="1263" y="817"/>
                    </a:lnTo>
                    <a:lnTo>
                      <a:pt x="1260" y="851"/>
                    </a:lnTo>
                    <a:lnTo>
                      <a:pt x="1246" y="889"/>
                    </a:lnTo>
                    <a:lnTo>
                      <a:pt x="1226" y="926"/>
                    </a:lnTo>
                    <a:lnTo>
                      <a:pt x="1215" y="954"/>
                    </a:lnTo>
                    <a:lnTo>
                      <a:pt x="1217" y="986"/>
                    </a:lnTo>
                    <a:lnTo>
                      <a:pt x="1227" y="1046"/>
                    </a:lnTo>
                    <a:lnTo>
                      <a:pt x="1228" y="1074"/>
                    </a:lnTo>
                    <a:lnTo>
                      <a:pt x="1234" y="1093"/>
                    </a:lnTo>
                    <a:lnTo>
                      <a:pt x="1236" y="1098"/>
                    </a:lnTo>
                    <a:lnTo>
                      <a:pt x="1238" y="1101"/>
                    </a:lnTo>
                    <a:lnTo>
                      <a:pt x="1244" y="1116"/>
                    </a:lnTo>
                    <a:lnTo>
                      <a:pt x="1268" y="1146"/>
                    </a:lnTo>
                    <a:lnTo>
                      <a:pt x="1271" y="1157"/>
                    </a:lnTo>
                    <a:lnTo>
                      <a:pt x="1270" y="1170"/>
                    </a:lnTo>
                    <a:lnTo>
                      <a:pt x="1262" y="1200"/>
                    </a:lnTo>
                    <a:lnTo>
                      <a:pt x="1258" y="1220"/>
                    </a:lnTo>
                    <a:lnTo>
                      <a:pt x="1260" y="1248"/>
                    </a:lnTo>
                    <a:lnTo>
                      <a:pt x="1257" y="1251"/>
                    </a:lnTo>
                    <a:lnTo>
                      <a:pt x="1251" y="1255"/>
                    </a:lnTo>
                    <a:lnTo>
                      <a:pt x="1241" y="1259"/>
                    </a:lnTo>
                    <a:lnTo>
                      <a:pt x="1228" y="1260"/>
                    </a:lnTo>
                    <a:lnTo>
                      <a:pt x="1220" y="1256"/>
                    </a:lnTo>
                    <a:lnTo>
                      <a:pt x="1208" y="1244"/>
                    </a:lnTo>
                    <a:lnTo>
                      <a:pt x="1198" y="1236"/>
                    </a:lnTo>
                    <a:lnTo>
                      <a:pt x="1192" y="1233"/>
                    </a:lnTo>
                    <a:lnTo>
                      <a:pt x="1187" y="1236"/>
                    </a:lnTo>
                    <a:lnTo>
                      <a:pt x="1181" y="1243"/>
                    </a:lnTo>
                    <a:lnTo>
                      <a:pt x="1180" y="1248"/>
                    </a:lnTo>
                    <a:lnTo>
                      <a:pt x="1181" y="1256"/>
                    </a:lnTo>
                    <a:lnTo>
                      <a:pt x="1185" y="1266"/>
                    </a:lnTo>
                    <a:lnTo>
                      <a:pt x="1192" y="1275"/>
                    </a:lnTo>
                    <a:lnTo>
                      <a:pt x="1198" y="1285"/>
                    </a:lnTo>
                    <a:lnTo>
                      <a:pt x="1197" y="1293"/>
                    </a:lnTo>
                    <a:lnTo>
                      <a:pt x="1191" y="1301"/>
                    </a:lnTo>
                    <a:lnTo>
                      <a:pt x="1182" y="1304"/>
                    </a:lnTo>
                    <a:lnTo>
                      <a:pt x="1174" y="1304"/>
                    </a:lnTo>
                    <a:lnTo>
                      <a:pt x="1163" y="1303"/>
                    </a:lnTo>
                    <a:lnTo>
                      <a:pt x="1160" y="1305"/>
                    </a:lnTo>
                    <a:lnTo>
                      <a:pt x="1156" y="1309"/>
                    </a:lnTo>
                    <a:lnTo>
                      <a:pt x="1154" y="1313"/>
                    </a:lnTo>
                    <a:lnTo>
                      <a:pt x="1148" y="1321"/>
                    </a:lnTo>
                    <a:lnTo>
                      <a:pt x="1138" y="1329"/>
                    </a:lnTo>
                    <a:lnTo>
                      <a:pt x="1127" y="1334"/>
                    </a:lnTo>
                    <a:lnTo>
                      <a:pt x="1122" y="1341"/>
                    </a:lnTo>
                    <a:lnTo>
                      <a:pt x="1122" y="1347"/>
                    </a:lnTo>
                    <a:lnTo>
                      <a:pt x="1125" y="1355"/>
                    </a:lnTo>
                    <a:lnTo>
                      <a:pt x="1131" y="1358"/>
                    </a:lnTo>
                    <a:lnTo>
                      <a:pt x="1140" y="1359"/>
                    </a:lnTo>
                    <a:lnTo>
                      <a:pt x="1149" y="1357"/>
                    </a:lnTo>
                    <a:lnTo>
                      <a:pt x="1151" y="1355"/>
                    </a:lnTo>
                    <a:lnTo>
                      <a:pt x="1167" y="1345"/>
                    </a:lnTo>
                    <a:lnTo>
                      <a:pt x="1181" y="1334"/>
                    </a:lnTo>
                    <a:lnTo>
                      <a:pt x="1188" y="1332"/>
                    </a:lnTo>
                    <a:lnTo>
                      <a:pt x="1192" y="1335"/>
                    </a:lnTo>
                    <a:lnTo>
                      <a:pt x="1196" y="1341"/>
                    </a:lnTo>
                    <a:lnTo>
                      <a:pt x="1194" y="1347"/>
                    </a:lnTo>
                    <a:lnTo>
                      <a:pt x="1188" y="1358"/>
                    </a:lnTo>
                    <a:lnTo>
                      <a:pt x="1187" y="1368"/>
                    </a:lnTo>
                    <a:lnTo>
                      <a:pt x="1191" y="1374"/>
                    </a:lnTo>
                    <a:lnTo>
                      <a:pt x="1194" y="1379"/>
                    </a:lnTo>
                    <a:lnTo>
                      <a:pt x="1193" y="1385"/>
                    </a:lnTo>
                    <a:lnTo>
                      <a:pt x="1187" y="1392"/>
                    </a:lnTo>
                    <a:lnTo>
                      <a:pt x="1180" y="1394"/>
                    </a:lnTo>
                    <a:lnTo>
                      <a:pt x="1175" y="1392"/>
                    </a:lnTo>
                    <a:lnTo>
                      <a:pt x="1168" y="1394"/>
                    </a:lnTo>
                    <a:lnTo>
                      <a:pt x="1162" y="1403"/>
                    </a:lnTo>
                    <a:lnTo>
                      <a:pt x="1156" y="1412"/>
                    </a:lnTo>
                    <a:lnTo>
                      <a:pt x="1152" y="1416"/>
                    </a:lnTo>
                    <a:lnTo>
                      <a:pt x="1150" y="1424"/>
                    </a:lnTo>
                    <a:lnTo>
                      <a:pt x="1150" y="1437"/>
                    </a:lnTo>
                    <a:lnTo>
                      <a:pt x="1152" y="1457"/>
                    </a:lnTo>
                    <a:lnTo>
                      <a:pt x="1150" y="1465"/>
                    </a:lnTo>
                    <a:lnTo>
                      <a:pt x="1142" y="1472"/>
                    </a:lnTo>
                    <a:lnTo>
                      <a:pt x="1132" y="1481"/>
                    </a:lnTo>
                    <a:lnTo>
                      <a:pt x="1127" y="1479"/>
                    </a:lnTo>
                    <a:lnTo>
                      <a:pt x="1126" y="1467"/>
                    </a:lnTo>
                    <a:lnTo>
                      <a:pt x="1128" y="1451"/>
                    </a:lnTo>
                    <a:lnTo>
                      <a:pt x="1126" y="1439"/>
                    </a:lnTo>
                    <a:lnTo>
                      <a:pt x="1122" y="1433"/>
                    </a:lnTo>
                    <a:lnTo>
                      <a:pt x="1115" y="1429"/>
                    </a:lnTo>
                    <a:lnTo>
                      <a:pt x="1106" y="1430"/>
                    </a:lnTo>
                    <a:lnTo>
                      <a:pt x="1100" y="1434"/>
                    </a:lnTo>
                    <a:lnTo>
                      <a:pt x="1095" y="1441"/>
                    </a:lnTo>
                    <a:lnTo>
                      <a:pt x="1091" y="1453"/>
                    </a:lnTo>
                    <a:lnTo>
                      <a:pt x="1090" y="1466"/>
                    </a:lnTo>
                    <a:lnTo>
                      <a:pt x="1094" y="1477"/>
                    </a:lnTo>
                    <a:lnTo>
                      <a:pt x="1100" y="1485"/>
                    </a:lnTo>
                    <a:lnTo>
                      <a:pt x="1113" y="1497"/>
                    </a:lnTo>
                    <a:lnTo>
                      <a:pt x="1128" y="1511"/>
                    </a:lnTo>
                    <a:lnTo>
                      <a:pt x="1136" y="1519"/>
                    </a:lnTo>
                    <a:lnTo>
                      <a:pt x="1138" y="1527"/>
                    </a:lnTo>
                    <a:lnTo>
                      <a:pt x="1134" y="1535"/>
                    </a:lnTo>
                    <a:lnTo>
                      <a:pt x="1125" y="1542"/>
                    </a:lnTo>
                    <a:lnTo>
                      <a:pt x="1115" y="1542"/>
                    </a:lnTo>
                    <a:lnTo>
                      <a:pt x="1113" y="1553"/>
                    </a:lnTo>
                    <a:lnTo>
                      <a:pt x="1072" y="1550"/>
                    </a:lnTo>
                    <a:lnTo>
                      <a:pt x="1050" y="1554"/>
                    </a:lnTo>
                    <a:lnTo>
                      <a:pt x="1034" y="1554"/>
                    </a:lnTo>
                    <a:lnTo>
                      <a:pt x="1022" y="1560"/>
                    </a:lnTo>
                    <a:lnTo>
                      <a:pt x="992" y="1535"/>
                    </a:lnTo>
                    <a:lnTo>
                      <a:pt x="974" y="1537"/>
                    </a:lnTo>
                    <a:lnTo>
                      <a:pt x="960" y="1523"/>
                    </a:lnTo>
                    <a:lnTo>
                      <a:pt x="944" y="1514"/>
                    </a:lnTo>
                    <a:lnTo>
                      <a:pt x="932" y="1515"/>
                    </a:lnTo>
                    <a:lnTo>
                      <a:pt x="915" y="1485"/>
                    </a:lnTo>
                    <a:lnTo>
                      <a:pt x="897" y="1471"/>
                    </a:lnTo>
                    <a:lnTo>
                      <a:pt x="869" y="1433"/>
                    </a:lnTo>
                    <a:lnTo>
                      <a:pt x="845" y="1409"/>
                    </a:lnTo>
                    <a:lnTo>
                      <a:pt x="840" y="1401"/>
                    </a:lnTo>
                    <a:lnTo>
                      <a:pt x="837" y="1382"/>
                    </a:lnTo>
                    <a:lnTo>
                      <a:pt x="808" y="1406"/>
                    </a:lnTo>
                    <a:lnTo>
                      <a:pt x="785" y="1377"/>
                    </a:lnTo>
                    <a:lnTo>
                      <a:pt x="777" y="1374"/>
                    </a:lnTo>
                    <a:lnTo>
                      <a:pt x="778" y="1367"/>
                    </a:lnTo>
                    <a:lnTo>
                      <a:pt x="768" y="1355"/>
                    </a:lnTo>
                    <a:lnTo>
                      <a:pt x="767" y="1347"/>
                    </a:lnTo>
                    <a:lnTo>
                      <a:pt x="782" y="1341"/>
                    </a:lnTo>
                    <a:lnTo>
                      <a:pt x="776" y="1323"/>
                    </a:lnTo>
                    <a:lnTo>
                      <a:pt x="754" y="1335"/>
                    </a:lnTo>
                    <a:lnTo>
                      <a:pt x="748" y="1333"/>
                    </a:lnTo>
                    <a:lnTo>
                      <a:pt x="748" y="1325"/>
                    </a:lnTo>
                    <a:lnTo>
                      <a:pt x="744" y="1319"/>
                    </a:lnTo>
                    <a:lnTo>
                      <a:pt x="726" y="1316"/>
                    </a:lnTo>
                    <a:lnTo>
                      <a:pt x="714" y="1309"/>
                    </a:lnTo>
                    <a:lnTo>
                      <a:pt x="731" y="1283"/>
                    </a:lnTo>
                    <a:lnTo>
                      <a:pt x="732" y="1257"/>
                    </a:lnTo>
                    <a:lnTo>
                      <a:pt x="729" y="1237"/>
                    </a:lnTo>
                    <a:lnTo>
                      <a:pt x="731" y="1213"/>
                    </a:lnTo>
                    <a:lnTo>
                      <a:pt x="725" y="1209"/>
                    </a:lnTo>
                    <a:lnTo>
                      <a:pt x="725" y="1223"/>
                    </a:lnTo>
                    <a:lnTo>
                      <a:pt x="717" y="1227"/>
                    </a:lnTo>
                    <a:lnTo>
                      <a:pt x="700" y="1230"/>
                    </a:lnTo>
                    <a:lnTo>
                      <a:pt x="695" y="1225"/>
                    </a:lnTo>
                    <a:lnTo>
                      <a:pt x="706" y="1206"/>
                    </a:lnTo>
                    <a:lnTo>
                      <a:pt x="705" y="1199"/>
                    </a:lnTo>
                    <a:lnTo>
                      <a:pt x="688" y="1199"/>
                    </a:lnTo>
                    <a:lnTo>
                      <a:pt x="688" y="1184"/>
                    </a:lnTo>
                    <a:lnTo>
                      <a:pt x="666" y="1183"/>
                    </a:lnTo>
                    <a:lnTo>
                      <a:pt x="660" y="1171"/>
                    </a:lnTo>
                    <a:lnTo>
                      <a:pt x="648" y="1166"/>
                    </a:lnTo>
                    <a:lnTo>
                      <a:pt x="658" y="1202"/>
                    </a:lnTo>
                    <a:lnTo>
                      <a:pt x="657" y="1233"/>
                    </a:lnTo>
                    <a:lnTo>
                      <a:pt x="648" y="1239"/>
                    </a:lnTo>
                    <a:lnTo>
                      <a:pt x="636" y="1237"/>
                    </a:lnTo>
                    <a:lnTo>
                      <a:pt x="630" y="1242"/>
                    </a:lnTo>
                    <a:lnTo>
                      <a:pt x="639" y="1248"/>
                    </a:lnTo>
                    <a:lnTo>
                      <a:pt x="632" y="1254"/>
                    </a:lnTo>
                    <a:lnTo>
                      <a:pt x="615" y="1256"/>
                    </a:lnTo>
                    <a:lnTo>
                      <a:pt x="609" y="1272"/>
                    </a:lnTo>
                    <a:lnTo>
                      <a:pt x="556" y="1311"/>
                    </a:lnTo>
                    <a:lnTo>
                      <a:pt x="516" y="1339"/>
                    </a:lnTo>
                    <a:lnTo>
                      <a:pt x="502" y="1337"/>
                    </a:lnTo>
                    <a:lnTo>
                      <a:pt x="497" y="1334"/>
                    </a:lnTo>
                    <a:lnTo>
                      <a:pt x="491" y="1320"/>
                    </a:lnTo>
                    <a:lnTo>
                      <a:pt x="518" y="1302"/>
                    </a:lnTo>
                    <a:lnTo>
                      <a:pt x="543" y="1291"/>
                    </a:lnTo>
                    <a:lnTo>
                      <a:pt x="561" y="1254"/>
                    </a:lnTo>
                    <a:lnTo>
                      <a:pt x="568" y="1224"/>
                    </a:lnTo>
                    <a:lnTo>
                      <a:pt x="578" y="1212"/>
                    </a:lnTo>
                    <a:lnTo>
                      <a:pt x="574" y="1201"/>
                    </a:lnTo>
                    <a:lnTo>
                      <a:pt x="567" y="1194"/>
                    </a:lnTo>
                    <a:lnTo>
                      <a:pt x="540" y="1195"/>
                    </a:lnTo>
                    <a:lnTo>
                      <a:pt x="514" y="1183"/>
                    </a:lnTo>
                    <a:lnTo>
                      <a:pt x="508" y="1164"/>
                    </a:lnTo>
                    <a:lnTo>
                      <a:pt x="513" y="1140"/>
                    </a:lnTo>
                    <a:lnTo>
                      <a:pt x="508" y="1119"/>
                    </a:lnTo>
                    <a:lnTo>
                      <a:pt x="530" y="1099"/>
                    </a:lnTo>
                    <a:lnTo>
                      <a:pt x="531" y="1092"/>
                    </a:lnTo>
                    <a:lnTo>
                      <a:pt x="519" y="1063"/>
                    </a:lnTo>
                    <a:lnTo>
                      <a:pt x="506" y="1058"/>
                    </a:lnTo>
                    <a:lnTo>
                      <a:pt x="501" y="1050"/>
                    </a:lnTo>
                    <a:lnTo>
                      <a:pt x="482" y="1049"/>
                    </a:lnTo>
                    <a:lnTo>
                      <a:pt x="477" y="1029"/>
                    </a:lnTo>
                    <a:lnTo>
                      <a:pt x="470" y="1026"/>
                    </a:lnTo>
                    <a:lnTo>
                      <a:pt x="470" y="1016"/>
                    </a:lnTo>
                    <a:lnTo>
                      <a:pt x="465" y="1013"/>
                    </a:lnTo>
                    <a:lnTo>
                      <a:pt x="464" y="1005"/>
                    </a:lnTo>
                    <a:lnTo>
                      <a:pt x="473" y="975"/>
                    </a:lnTo>
                    <a:lnTo>
                      <a:pt x="455" y="950"/>
                    </a:lnTo>
                    <a:lnTo>
                      <a:pt x="426" y="936"/>
                    </a:lnTo>
                    <a:lnTo>
                      <a:pt x="411" y="948"/>
                    </a:lnTo>
                    <a:lnTo>
                      <a:pt x="376" y="959"/>
                    </a:lnTo>
                    <a:lnTo>
                      <a:pt x="362" y="971"/>
                    </a:lnTo>
                    <a:lnTo>
                      <a:pt x="327" y="957"/>
                    </a:lnTo>
                    <a:lnTo>
                      <a:pt x="318" y="960"/>
                    </a:lnTo>
                    <a:lnTo>
                      <a:pt x="294" y="956"/>
                    </a:lnTo>
                    <a:lnTo>
                      <a:pt x="282" y="962"/>
                    </a:lnTo>
                    <a:lnTo>
                      <a:pt x="251" y="971"/>
                    </a:lnTo>
                    <a:lnTo>
                      <a:pt x="250" y="979"/>
                    </a:lnTo>
                    <a:lnTo>
                      <a:pt x="256" y="1037"/>
                    </a:lnTo>
                    <a:lnTo>
                      <a:pt x="278" y="1070"/>
                    </a:lnTo>
                    <a:lnTo>
                      <a:pt x="275" y="1109"/>
                    </a:lnTo>
                    <a:lnTo>
                      <a:pt x="269" y="1111"/>
                    </a:lnTo>
                    <a:lnTo>
                      <a:pt x="260" y="1103"/>
                    </a:lnTo>
                    <a:lnTo>
                      <a:pt x="251" y="1104"/>
                    </a:lnTo>
                    <a:lnTo>
                      <a:pt x="225" y="1125"/>
                    </a:lnTo>
                    <a:lnTo>
                      <a:pt x="215" y="1119"/>
                    </a:lnTo>
                    <a:lnTo>
                      <a:pt x="207" y="1130"/>
                    </a:lnTo>
                    <a:lnTo>
                      <a:pt x="197" y="1130"/>
                    </a:lnTo>
                    <a:lnTo>
                      <a:pt x="188" y="1118"/>
                    </a:lnTo>
                    <a:lnTo>
                      <a:pt x="160" y="1129"/>
                    </a:lnTo>
                    <a:lnTo>
                      <a:pt x="154" y="1135"/>
                    </a:lnTo>
                    <a:lnTo>
                      <a:pt x="154" y="1143"/>
                    </a:lnTo>
                    <a:lnTo>
                      <a:pt x="165" y="1163"/>
                    </a:lnTo>
                    <a:lnTo>
                      <a:pt x="160" y="1177"/>
                    </a:lnTo>
                    <a:lnTo>
                      <a:pt x="171" y="1189"/>
                    </a:lnTo>
                    <a:lnTo>
                      <a:pt x="182" y="1177"/>
                    </a:lnTo>
                    <a:lnTo>
                      <a:pt x="188" y="1183"/>
                    </a:lnTo>
                    <a:lnTo>
                      <a:pt x="171" y="1205"/>
                    </a:lnTo>
                    <a:lnTo>
                      <a:pt x="147" y="1163"/>
                    </a:lnTo>
                    <a:lnTo>
                      <a:pt x="113" y="1171"/>
                    </a:lnTo>
                    <a:lnTo>
                      <a:pt x="112" y="1176"/>
                    </a:lnTo>
                    <a:lnTo>
                      <a:pt x="110" y="1179"/>
                    </a:lnTo>
                    <a:lnTo>
                      <a:pt x="88" y="1177"/>
                    </a:lnTo>
                    <a:lnTo>
                      <a:pt x="83" y="1181"/>
                    </a:lnTo>
                    <a:lnTo>
                      <a:pt x="70" y="1175"/>
                    </a:lnTo>
                    <a:lnTo>
                      <a:pt x="104" y="1149"/>
                    </a:lnTo>
                    <a:lnTo>
                      <a:pt x="101" y="1135"/>
                    </a:lnTo>
                    <a:lnTo>
                      <a:pt x="105" y="1129"/>
                    </a:lnTo>
                    <a:lnTo>
                      <a:pt x="123" y="1106"/>
                    </a:lnTo>
                    <a:lnTo>
                      <a:pt x="117" y="1063"/>
                    </a:lnTo>
                    <a:lnTo>
                      <a:pt x="111" y="1046"/>
                    </a:lnTo>
                    <a:lnTo>
                      <a:pt x="117" y="1029"/>
                    </a:lnTo>
                    <a:lnTo>
                      <a:pt x="107" y="1026"/>
                    </a:lnTo>
                    <a:lnTo>
                      <a:pt x="84" y="1032"/>
                    </a:lnTo>
                    <a:lnTo>
                      <a:pt x="80" y="1028"/>
                    </a:lnTo>
                    <a:lnTo>
                      <a:pt x="66" y="983"/>
                    </a:lnTo>
                    <a:lnTo>
                      <a:pt x="50" y="995"/>
                    </a:lnTo>
                    <a:lnTo>
                      <a:pt x="38" y="995"/>
                    </a:lnTo>
                    <a:lnTo>
                      <a:pt x="28" y="995"/>
                    </a:lnTo>
                    <a:lnTo>
                      <a:pt x="16" y="1005"/>
                    </a:lnTo>
                    <a:lnTo>
                      <a:pt x="0" y="973"/>
                    </a:lnTo>
                    <a:lnTo>
                      <a:pt x="6" y="963"/>
                    </a:lnTo>
                    <a:lnTo>
                      <a:pt x="22" y="962"/>
                    </a:lnTo>
                    <a:lnTo>
                      <a:pt x="27" y="949"/>
                    </a:lnTo>
                    <a:lnTo>
                      <a:pt x="47" y="942"/>
                    </a:lnTo>
                    <a:lnTo>
                      <a:pt x="66" y="937"/>
                    </a:lnTo>
                    <a:lnTo>
                      <a:pt x="69" y="926"/>
                    </a:lnTo>
                    <a:lnTo>
                      <a:pt x="87" y="925"/>
                    </a:lnTo>
                    <a:lnTo>
                      <a:pt x="83" y="907"/>
                    </a:lnTo>
                    <a:lnTo>
                      <a:pt x="87" y="905"/>
                    </a:lnTo>
                    <a:lnTo>
                      <a:pt x="70" y="870"/>
                    </a:lnTo>
                    <a:lnTo>
                      <a:pt x="66" y="847"/>
                    </a:lnTo>
                    <a:lnTo>
                      <a:pt x="59" y="840"/>
                    </a:lnTo>
                    <a:lnTo>
                      <a:pt x="58" y="812"/>
                    </a:lnTo>
                    <a:lnTo>
                      <a:pt x="52" y="793"/>
                    </a:lnTo>
                    <a:lnTo>
                      <a:pt x="40" y="781"/>
                    </a:lnTo>
                    <a:lnTo>
                      <a:pt x="50" y="759"/>
                    </a:lnTo>
                    <a:lnTo>
                      <a:pt x="38" y="709"/>
                    </a:lnTo>
                    <a:lnTo>
                      <a:pt x="48" y="698"/>
                    </a:lnTo>
                    <a:lnTo>
                      <a:pt x="45" y="692"/>
                    </a:lnTo>
                    <a:lnTo>
                      <a:pt x="50" y="692"/>
                    </a:lnTo>
                    <a:lnTo>
                      <a:pt x="46" y="667"/>
                    </a:lnTo>
                    <a:lnTo>
                      <a:pt x="74" y="661"/>
                    </a:lnTo>
                    <a:lnTo>
                      <a:pt x="88" y="645"/>
                    </a:lnTo>
                    <a:lnTo>
                      <a:pt x="101" y="612"/>
                    </a:lnTo>
                    <a:lnTo>
                      <a:pt x="112" y="608"/>
                    </a:lnTo>
                    <a:lnTo>
                      <a:pt x="114" y="587"/>
                    </a:lnTo>
                    <a:lnTo>
                      <a:pt x="104" y="564"/>
                    </a:lnTo>
                    <a:lnTo>
                      <a:pt x="92" y="552"/>
                    </a:lnTo>
                    <a:lnTo>
                      <a:pt x="87" y="535"/>
                    </a:lnTo>
                    <a:lnTo>
                      <a:pt x="106" y="525"/>
                    </a:lnTo>
                    <a:lnTo>
                      <a:pt x="117" y="498"/>
                    </a:lnTo>
                    <a:lnTo>
                      <a:pt x="136" y="482"/>
                    </a:lnTo>
                    <a:lnTo>
                      <a:pt x="129" y="461"/>
                    </a:lnTo>
                    <a:lnTo>
                      <a:pt x="136" y="456"/>
                    </a:lnTo>
                    <a:lnTo>
                      <a:pt x="134" y="447"/>
                    </a:lnTo>
                    <a:lnTo>
                      <a:pt x="153" y="432"/>
                    </a:lnTo>
                    <a:lnTo>
                      <a:pt x="172" y="426"/>
                    </a:lnTo>
                    <a:lnTo>
                      <a:pt x="172" y="404"/>
                    </a:lnTo>
                    <a:lnTo>
                      <a:pt x="177" y="398"/>
                    </a:lnTo>
                    <a:lnTo>
                      <a:pt x="176" y="386"/>
                    </a:lnTo>
                    <a:lnTo>
                      <a:pt x="195" y="386"/>
                    </a:lnTo>
                    <a:lnTo>
                      <a:pt x="190" y="373"/>
                    </a:lnTo>
                    <a:lnTo>
                      <a:pt x="195" y="372"/>
                    </a:lnTo>
                    <a:lnTo>
                      <a:pt x="188" y="361"/>
                    </a:lnTo>
                    <a:lnTo>
                      <a:pt x="173" y="365"/>
                    </a:lnTo>
                    <a:lnTo>
                      <a:pt x="162" y="336"/>
                    </a:lnTo>
                    <a:lnTo>
                      <a:pt x="149" y="320"/>
                    </a:lnTo>
                    <a:lnTo>
                      <a:pt x="165" y="307"/>
                    </a:lnTo>
                    <a:lnTo>
                      <a:pt x="184" y="299"/>
                    </a:lnTo>
                    <a:lnTo>
                      <a:pt x="190" y="277"/>
                    </a:lnTo>
                    <a:lnTo>
                      <a:pt x="202" y="273"/>
                    </a:lnTo>
                    <a:lnTo>
                      <a:pt x="210" y="289"/>
                    </a:lnTo>
                    <a:lnTo>
                      <a:pt x="231" y="288"/>
                    </a:lnTo>
                    <a:lnTo>
                      <a:pt x="231" y="265"/>
                    </a:lnTo>
                    <a:lnTo>
                      <a:pt x="221" y="252"/>
                    </a:lnTo>
                    <a:lnTo>
                      <a:pt x="221" y="240"/>
                    </a:lnTo>
                    <a:lnTo>
                      <a:pt x="225" y="231"/>
                    </a:lnTo>
                    <a:lnTo>
                      <a:pt x="246" y="230"/>
                    </a:lnTo>
                    <a:lnTo>
                      <a:pt x="268" y="217"/>
                    </a:lnTo>
                    <a:lnTo>
                      <a:pt x="279" y="217"/>
                    </a:lnTo>
                    <a:lnTo>
                      <a:pt x="282" y="216"/>
                    </a:lnTo>
                    <a:lnTo>
                      <a:pt x="287" y="203"/>
                    </a:lnTo>
                    <a:lnTo>
                      <a:pt x="299" y="195"/>
                    </a:lnTo>
                    <a:lnTo>
                      <a:pt x="316" y="199"/>
                    </a:lnTo>
                    <a:lnTo>
                      <a:pt x="326" y="195"/>
                    </a:lnTo>
                    <a:lnTo>
                      <a:pt x="346" y="173"/>
                    </a:lnTo>
                    <a:lnTo>
                      <a:pt x="352" y="183"/>
                    </a:lnTo>
                    <a:lnTo>
                      <a:pt x="358" y="179"/>
                    </a:lnTo>
                    <a:lnTo>
                      <a:pt x="372" y="155"/>
                    </a:lnTo>
                    <a:lnTo>
                      <a:pt x="419" y="123"/>
                    </a:lnTo>
                    <a:lnTo>
                      <a:pt x="429" y="126"/>
                    </a:lnTo>
                    <a:lnTo>
                      <a:pt x="435" y="129"/>
                    </a:lnTo>
                    <a:lnTo>
                      <a:pt x="435" y="131"/>
                    </a:lnTo>
                    <a:lnTo>
                      <a:pt x="446" y="176"/>
                    </a:lnTo>
                    <a:lnTo>
                      <a:pt x="471" y="185"/>
                    </a:lnTo>
                    <a:lnTo>
                      <a:pt x="498" y="201"/>
                    </a:lnTo>
                    <a:lnTo>
                      <a:pt x="501" y="198"/>
                    </a:lnTo>
                    <a:lnTo>
                      <a:pt x="509" y="177"/>
                    </a:lnTo>
                    <a:lnTo>
                      <a:pt x="522" y="170"/>
                    </a:lnTo>
                    <a:lnTo>
                      <a:pt x="525" y="182"/>
                    </a:lnTo>
                    <a:lnTo>
                      <a:pt x="531" y="186"/>
                    </a:lnTo>
                    <a:lnTo>
                      <a:pt x="540" y="182"/>
                    </a:lnTo>
                    <a:lnTo>
                      <a:pt x="538" y="211"/>
                    </a:lnTo>
                    <a:lnTo>
                      <a:pt x="550" y="216"/>
                    </a:lnTo>
                    <a:lnTo>
                      <a:pt x="560" y="150"/>
                    </a:lnTo>
                    <a:lnTo>
                      <a:pt x="575" y="171"/>
                    </a:lnTo>
                    <a:lnTo>
                      <a:pt x="572" y="199"/>
                    </a:lnTo>
                    <a:lnTo>
                      <a:pt x="578" y="219"/>
                    </a:lnTo>
                    <a:lnTo>
                      <a:pt x="570" y="253"/>
                    </a:lnTo>
                    <a:lnTo>
                      <a:pt x="582" y="255"/>
                    </a:lnTo>
                    <a:lnTo>
                      <a:pt x="618" y="271"/>
                    </a:lnTo>
                    <a:lnTo>
                      <a:pt x="639" y="276"/>
                    </a:lnTo>
                    <a:lnTo>
                      <a:pt x="642" y="277"/>
                    </a:lnTo>
                    <a:lnTo>
                      <a:pt x="647" y="269"/>
                    </a:lnTo>
                    <a:lnTo>
                      <a:pt x="658" y="261"/>
                    </a:lnTo>
                    <a:lnTo>
                      <a:pt x="669" y="263"/>
                    </a:lnTo>
                    <a:lnTo>
                      <a:pt x="674" y="272"/>
                    </a:lnTo>
                    <a:lnTo>
                      <a:pt x="689" y="264"/>
                    </a:lnTo>
                    <a:lnTo>
                      <a:pt x="694" y="276"/>
                    </a:lnTo>
                    <a:lnTo>
                      <a:pt x="705" y="270"/>
                    </a:lnTo>
                    <a:lnTo>
                      <a:pt x="695" y="229"/>
                    </a:lnTo>
                    <a:lnTo>
                      <a:pt x="723" y="216"/>
                    </a:lnTo>
                    <a:lnTo>
                      <a:pt x="761" y="189"/>
                    </a:lnTo>
                    <a:lnTo>
                      <a:pt x="765" y="189"/>
                    </a:lnTo>
                    <a:lnTo>
                      <a:pt x="791" y="242"/>
                    </a:lnTo>
                    <a:lnTo>
                      <a:pt x="821" y="261"/>
                    </a:lnTo>
                    <a:lnTo>
                      <a:pt x="834" y="258"/>
                    </a:lnTo>
                    <a:lnTo>
                      <a:pt x="846" y="263"/>
                    </a:lnTo>
                    <a:lnTo>
                      <a:pt x="845" y="284"/>
                    </a:lnTo>
                    <a:lnTo>
                      <a:pt x="849" y="291"/>
                    </a:lnTo>
                    <a:lnTo>
                      <a:pt x="862" y="306"/>
                    </a:lnTo>
                    <a:lnTo>
                      <a:pt x="854" y="313"/>
                    </a:lnTo>
                    <a:lnTo>
                      <a:pt x="850" y="324"/>
                    </a:lnTo>
                    <a:lnTo>
                      <a:pt x="858" y="343"/>
                    </a:lnTo>
                    <a:lnTo>
                      <a:pt x="860" y="374"/>
                    </a:lnTo>
                    <a:lnTo>
                      <a:pt x="872" y="385"/>
                    </a:lnTo>
                    <a:lnTo>
                      <a:pt x="939" y="356"/>
                    </a:lnTo>
                    <a:lnTo>
                      <a:pt x="964" y="326"/>
                    </a:lnTo>
                    <a:lnTo>
                      <a:pt x="988" y="314"/>
                    </a:lnTo>
                    <a:lnTo>
                      <a:pt x="996" y="305"/>
                    </a:lnTo>
                    <a:lnTo>
                      <a:pt x="987" y="290"/>
                    </a:lnTo>
                    <a:lnTo>
                      <a:pt x="988" y="278"/>
                    </a:lnTo>
                    <a:lnTo>
                      <a:pt x="983" y="269"/>
                    </a:lnTo>
                    <a:lnTo>
                      <a:pt x="966" y="239"/>
                    </a:lnTo>
                    <a:lnTo>
                      <a:pt x="992" y="228"/>
                    </a:lnTo>
                    <a:lnTo>
                      <a:pt x="1007" y="225"/>
                    </a:lnTo>
                    <a:lnTo>
                      <a:pt x="1019" y="217"/>
                    </a:lnTo>
                    <a:lnTo>
                      <a:pt x="1056" y="210"/>
                    </a:lnTo>
                    <a:lnTo>
                      <a:pt x="1077" y="209"/>
                    </a:lnTo>
                    <a:lnTo>
                      <a:pt x="1072" y="181"/>
                    </a:lnTo>
                    <a:lnTo>
                      <a:pt x="1077" y="175"/>
                    </a:lnTo>
                    <a:lnTo>
                      <a:pt x="1119" y="146"/>
                    </a:lnTo>
                    <a:lnTo>
                      <a:pt x="1172" y="101"/>
                    </a:lnTo>
                    <a:lnTo>
                      <a:pt x="1196" y="73"/>
                    </a:lnTo>
                    <a:lnTo>
                      <a:pt x="1174" y="47"/>
                    </a:lnTo>
                    <a:lnTo>
                      <a:pt x="1214" y="26"/>
                    </a:lnTo>
                    <a:lnTo>
                      <a:pt x="1216" y="33"/>
                    </a:lnTo>
                    <a:lnTo>
                      <a:pt x="1228" y="30"/>
                    </a:lnTo>
                    <a:lnTo>
                      <a:pt x="1226" y="21"/>
                    </a:lnTo>
                    <a:lnTo>
                      <a:pt x="1236" y="20"/>
                    </a:lnTo>
                    <a:lnTo>
                      <a:pt x="1236" y="26"/>
                    </a:lnTo>
                    <a:lnTo>
                      <a:pt x="1257" y="35"/>
                    </a:lnTo>
                    <a:close/>
                  </a:path>
                </a:pathLst>
              </a:custGeom>
              <a:solidFill>
                <a:srgbClr val="cc00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761120" y="4903560"/>
                <a:ext cx="1282680" cy="991800"/>
              </a:xfrm>
              <a:custGeom>
                <a:avLst/>
                <a:gdLst/>
                <a:ahLst/>
                <a:rect l="l" t="t" r="r" b="b"/>
                <a:pathLst>
                  <a:path w="1696" h="1326">
                    <a:moveTo>
                      <a:pt x="790" y="26"/>
                    </a:moveTo>
                    <a:lnTo>
                      <a:pt x="802" y="20"/>
                    </a:lnTo>
                    <a:lnTo>
                      <a:pt x="826" y="24"/>
                    </a:lnTo>
                    <a:lnTo>
                      <a:pt x="835" y="21"/>
                    </a:lnTo>
                    <a:lnTo>
                      <a:pt x="870" y="35"/>
                    </a:lnTo>
                    <a:lnTo>
                      <a:pt x="884" y="23"/>
                    </a:lnTo>
                    <a:lnTo>
                      <a:pt x="919" y="12"/>
                    </a:lnTo>
                    <a:lnTo>
                      <a:pt x="934" y="0"/>
                    </a:lnTo>
                    <a:lnTo>
                      <a:pt x="963" y="14"/>
                    </a:lnTo>
                    <a:lnTo>
                      <a:pt x="981" y="39"/>
                    </a:lnTo>
                    <a:lnTo>
                      <a:pt x="972" y="69"/>
                    </a:lnTo>
                    <a:lnTo>
                      <a:pt x="973" y="77"/>
                    </a:lnTo>
                    <a:lnTo>
                      <a:pt x="978" y="80"/>
                    </a:lnTo>
                    <a:lnTo>
                      <a:pt x="978" y="90"/>
                    </a:lnTo>
                    <a:lnTo>
                      <a:pt x="985" y="93"/>
                    </a:lnTo>
                    <a:lnTo>
                      <a:pt x="990" y="113"/>
                    </a:lnTo>
                    <a:lnTo>
                      <a:pt x="1009" y="114"/>
                    </a:lnTo>
                    <a:lnTo>
                      <a:pt x="1014" y="122"/>
                    </a:lnTo>
                    <a:lnTo>
                      <a:pt x="1027" y="127"/>
                    </a:lnTo>
                    <a:lnTo>
                      <a:pt x="1039" y="156"/>
                    </a:lnTo>
                    <a:lnTo>
                      <a:pt x="1038" y="163"/>
                    </a:lnTo>
                    <a:lnTo>
                      <a:pt x="1016" y="183"/>
                    </a:lnTo>
                    <a:lnTo>
                      <a:pt x="1021" y="204"/>
                    </a:lnTo>
                    <a:lnTo>
                      <a:pt x="1016" y="228"/>
                    </a:lnTo>
                    <a:lnTo>
                      <a:pt x="1022" y="247"/>
                    </a:lnTo>
                    <a:lnTo>
                      <a:pt x="1048" y="259"/>
                    </a:lnTo>
                    <a:lnTo>
                      <a:pt x="1075" y="258"/>
                    </a:lnTo>
                    <a:lnTo>
                      <a:pt x="1082" y="265"/>
                    </a:lnTo>
                    <a:lnTo>
                      <a:pt x="1086" y="276"/>
                    </a:lnTo>
                    <a:lnTo>
                      <a:pt x="1076" y="288"/>
                    </a:lnTo>
                    <a:lnTo>
                      <a:pt x="1069" y="318"/>
                    </a:lnTo>
                    <a:lnTo>
                      <a:pt x="1051" y="355"/>
                    </a:lnTo>
                    <a:lnTo>
                      <a:pt x="1026" y="366"/>
                    </a:lnTo>
                    <a:lnTo>
                      <a:pt x="999" y="384"/>
                    </a:lnTo>
                    <a:lnTo>
                      <a:pt x="1005" y="398"/>
                    </a:lnTo>
                    <a:lnTo>
                      <a:pt x="1010" y="401"/>
                    </a:lnTo>
                    <a:lnTo>
                      <a:pt x="1024" y="403"/>
                    </a:lnTo>
                    <a:lnTo>
                      <a:pt x="1064" y="375"/>
                    </a:lnTo>
                    <a:lnTo>
                      <a:pt x="1117" y="336"/>
                    </a:lnTo>
                    <a:lnTo>
                      <a:pt x="1123" y="320"/>
                    </a:lnTo>
                    <a:lnTo>
                      <a:pt x="1140" y="318"/>
                    </a:lnTo>
                    <a:lnTo>
                      <a:pt x="1147" y="312"/>
                    </a:lnTo>
                    <a:lnTo>
                      <a:pt x="1138" y="306"/>
                    </a:lnTo>
                    <a:lnTo>
                      <a:pt x="1144" y="301"/>
                    </a:lnTo>
                    <a:lnTo>
                      <a:pt x="1156" y="303"/>
                    </a:lnTo>
                    <a:lnTo>
                      <a:pt x="1165" y="297"/>
                    </a:lnTo>
                    <a:lnTo>
                      <a:pt x="1166" y="266"/>
                    </a:lnTo>
                    <a:lnTo>
                      <a:pt x="1156" y="230"/>
                    </a:lnTo>
                    <a:lnTo>
                      <a:pt x="1168" y="235"/>
                    </a:lnTo>
                    <a:lnTo>
                      <a:pt x="1174" y="247"/>
                    </a:lnTo>
                    <a:lnTo>
                      <a:pt x="1196" y="248"/>
                    </a:lnTo>
                    <a:lnTo>
                      <a:pt x="1196" y="263"/>
                    </a:lnTo>
                    <a:lnTo>
                      <a:pt x="1213" y="263"/>
                    </a:lnTo>
                    <a:lnTo>
                      <a:pt x="1214" y="270"/>
                    </a:lnTo>
                    <a:lnTo>
                      <a:pt x="1203" y="289"/>
                    </a:lnTo>
                    <a:lnTo>
                      <a:pt x="1208" y="294"/>
                    </a:lnTo>
                    <a:lnTo>
                      <a:pt x="1225" y="291"/>
                    </a:lnTo>
                    <a:lnTo>
                      <a:pt x="1233" y="287"/>
                    </a:lnTo>
                    <a:lnTo>
                      <a:pt x="1233" y="273"/>
                    </a:lnTo>
                    <a:lnTo>
                      <a:pt x="1239" y="277"/>
                    </a:lnTo>
                    <a:lnTo>
                      <a:pt x="1237" y="301"/>
                    </a:lnTo>
                    <a:lnTo>
                      <a:pt x="1240" y="321"/>
                    </a:lnTo>
                    <a:lnTo>
                      <a:pt x="1239" y="347"/>
                    </a:lnTo>
                    <a:lnTo>
                      <a:pt x="1222" y="373"/>
                    </a:lnTo>
                    <a:lnTo>
                      <a:pt x="1234" y="380"/>
                    </a:lnTo>
                    <a:lnTo>
                      <a:pt x="1252" y="383"/>
                    </a:lnTo>
                    <a:lnTo>
                      <a:pt x="1256" y="389"/>
                    </a:lnTo>
                    <a:lnTo>
                      <a:pt x="1256" y="397"/>
                    </a:lnTo>
                    <a:lnTo>
                      <a:pt x="1262" y="399"/>
                    </a:lnTo>
                    <a:lnTo>
                      <a:pt x="1284" y="387"/>
                    </a:lnTo>
                    <a:lnTo>
                      <a:pt x="1290" y="405"/>
                    </a:lnTo>
                    <a:lnTo>
                      <a:pt x="1275" y="411"/>
                    </a:lnTo>
                    <a:lnTo>
                      <a:pt x="1276" y="419"/>
                    </a:lnTo>
                    <a:lnTo>
                      <a:pt x="1286" y="431"/>
                    </a:lnTo>
                    <a:lnTo>
                      <a:pt x="1285" y="438"/>
                    </a:lnTo>
                    <a:lnTo>
                      <a:pt x="1293" y="441"/>
                    </a:lnTo>
                    <a:lnTo>
                      <a:pt x="1316" y="470"/>
                    </a:lnTo>
                    <a:lnTo>
                      <a:pt x="1345" y="446"/>
                    </a:lnTo>
                    <a:lnTo>
                      <a:pt x="1348" y="465"/>
                    </a:lnTo>
                    <a:lnTo>
                      <a:pt x="1353" y="473"/>
                    </a:lnTo>
                    <a:lnTo>
                      <a:pt x="1377" y="497"/>
                    </a:lnTo>
                    <a:lnTo>
                      <a:pt x="1405" y="535"/>
                    </a:lnTo>
                    <a:lnTo>
                      <a:pt x="1423" y="549"/>
                    </a:lnTo>
                    <a:lnTo>
                      <a:pt x="1440" y="579"/>
                    </a:lnTo>
                    <a:lnTo>
                      <a:pt x="1452" y="578"/>
                    </a:lnTo>
                    <a:lnTo>
                      <a:pt x="1468" y="587"/>
                    </a:lnTo>
                    <a:lnTo>
                      <a:pt x="1482" y="601"/>
                    </a:lnTo>
                    <a:lnTo>
                      <a:pt x="1500" y="599"/>
                    </a:lnTo>
                    <a:lnTo>
                      <a:pt x="1530" y="624"/>
                    </a:lnTo>
                    <a:lnTo>
                      <a:pt x="1542" y="618"/>
                    </a:lnTo>
                    <a:lnTo>
                      <a:pt x="1558" y="618"/>
                    </a:lnTo>
                    <a:lnTo>
                      <a:pt x="1580" y="614"/>
                    </a:lnTo>
                    <a:lnTo>
                      <a:pt x="1621" y="617"/>
                    </a:lnTo>
                    <a:lnTo>
                      <a:pt x="1622" y="618"/>
                    </a:lnTo>
                    <a:lnTo>
                      <a:pt x="1636" y="619"/>
                    </a:lnTo>
                    <a:lnTo>
                      <a:pt x="1647" y="625"/>
                    </a:lnTo>
                    <a:lnTo>
                      <a:pt x="1651" y="638"/>
                    </a:lnTo>
                    <a:lnTo>
                      <a:pt x="1654" y="655"/>
                    </a:lnTo>
                    <a:lnTo>
                      <a:pt x="1658" y="674"/>
                    </a:lnTo>
                    <a:lnTo>
                      <a:pt x="1659" y="693"/>
                    </a:lnTo>
                    <a:lnTo>
                      <a:pt x="1664" y="707"/>
                    </a:lnTo>
                    <a:lnTo>
                      <a:pt x="1671" y="713"/>
                    </a:lnTo>
                    <a:lnTo>
                      <a:pt x="1682" y="713"/>
                    </a:lnTo>
                    <a:lnTo>
                      <a:pt x="1692" y="717"/>
                    </a:lnTo>
                    <a:lnTo>
                      <a:pt x="1694" y="726"/>
                    </a:lnTo>
                    <a:lnTo>
                      <a:pt x="1696" y="734"/>
                    </a:lnTo>
                    <a:lnTo>
                      <a:pt x="1694" y="745"/>
                    </a:lnTo>
                    <a:lnTo>
                      <a:pt x="1674" y="745"/>
                    </a:lnTo>
                    <a:lnTo>
                      <a:pt x="1668" y="759"/>
                    </a:lnTo>
                    <a:lnTo>
                      <a:pt x="1675" y="768"/>
                    </a:lnTo>
                    <a:lnTo>
                      <a:pt x="1671" y="782"/>
                    </a:lnTo>
                    <a:lnTo>
                      <a:pt x="1683" y="789"/>
                    </a:lnTo>
                    <a:lnTo>
                      <a:pt x="1659" y="833"/>
                    </a:lnTo>
                    <a:lnTo>
                      <a:pt x="1656" y="847"/>
                    </a:lnTo>
                    <a:lnTo>
                      <a:pt x="1654" y="865"/>
                    </a:lnTo>
                    <a:lnTo>
                      <a:pt x="1647" y="885"/>
                    </a:lnTo>
                    <a:lnTo>
                      <a:pt x="1640" y="894"/>
                    </a:lnTo>
                    <a:lnTo>
                      <a:pt x="1646" y="907"/>
                    </a:lnTo>
                    <a:lnTo>
                      <a:pt x="1660" y="917"/>
                    </a:lnTo>
                    <a:lnTo>
                      <a:pt x="1665" y="921"/>
                    </a:lnTo>
                    <a:lnTo>
                      <a:pt x="1669" y="930"/>
                    </a:lnTo>
                    <a:lnTo>
                      <a:pt x="1666" y="936"/>
                    </a:lnTo>
                    <a:lnTo>
                      <a:pt x="1660" y="937"/>
                    </a:lnTo>
                    <a:lnTo>
                      <a:pt x="1652" y="931"/>
                    </a:lnTo>
                    <a:lnTo>
                      <a:pt x="1644" y="935"/>
                    </a:lnTo>
                    <a:lnTo>
                      <a:pt x="1628" y="943"/>
                    </a:lnTo>
                    <a:lnTo>
                      <a:pt x="1620" y="947"/>
                    </a:lnTo>
                    <a:lnTo>
                      <a:pt x="1624" y="965"/>
                    </a:lnTo>
                    <a:lnTo>
                      <a:pt x="1629" y="985"/>
                    </a:lnTo>
                    <a:lnTo>
                      <a:pt x="1622" y="993"/>
                    </a:lnTo>
                    <a:lnTo>
                      <a:pt x="1621" y="995"/>
                    </a:lnTo>
                    <a:lnTo>
                      <a:pt x="1611" y="1007"/>
                    </a:lnTo>
                    <a:lnTo>
                      <a:pt x="1605" y="1021"/>
                    </a:lnTo>
                    <a:lnTo>
                      <a:pt x="1610" y="1047"/>
                    </a:lnTo>
                    <a:lnTo>
                      <a:pt x="1606" y="1056"/>
                    </a:lnTo>
                    <a:lnTo>
                      <a:pt x="1591" y="1055"/>
                    </a:lnTo>
                    <a:lnTo>
                      <a:pt x="1567" y="1038"/>
                    </a:lnTo>
                    <a:lnTo>
                      <a:pt x="1539" y="1033"/>
                    </a:lnTo>
                    <a:lnTo>
                      <a:pt x="1514" y="1019"/>
                    </a:lnTo>
                    <a:lnTo>
                      <a:pt x="1494" y="1011"/>
                    </a:lnTo>
                    <a:lnTo>
                      <a:pt x="1460" y="985"/>
                    </a:lnTo>
                    <a:lnTo>
                      <a:pt x="1431" y="985"/>
                    </a:lnTo>
                    <a:lnTo>
                      <a:pt x="1416" y="990"/>
                    </a:lnTo>
                    <a:lnTo>
                      <a:pt x="1411" y="998"/>
                    </a:lnTo>
                    <a:lnTo>
                      <a:pt x="1411" y="1020"/>
                    </a:lnTo>
                    <a:lnTo>
                      <a:pt x="1381" y="1037"/>
                    </a:lnTo>
                    <a:lnTo>
                      <a:pt x="1378" y="1047"/>
                    </a:lnTo>
                    <a:lnTo>
                      <a:pt x="1390" y="1071"/>
                    </a:lnTo>
                    <a:lnTo>
                      <a:pt x="1360" y="1075"/>
                    </a:lnTo>
                    <a:lnTo>
                      <a:pt x="1358" y="1103"/>
                    </a:lnTo>
                    <a:lnTo>
                      <a:pt x="1351" y="1117"/>
                    </a:lnTo>
                    <a:lnTo>
                      <a:pt x="1348" y="1140"/>
                    </a:lnTo>
                    <a:lnTo>
                      <a:pt x="1329" y="1155"/>
                    </a:lnTo>
                    <a:lnTo>
                      <a:pt x="1322" y="1175"/>
                    </a:lnTo>
                    <a:lnTo>
                      <a:pt x="1305" y="1185"/>
                    </a:lnTo>
                    <a:lnTo>
                      <a:pt x="1292" y="1196"/>
                    </a:lnTo>
                    <a:lnTo>
                      <a:pt x="1290" y="1211"/>
                    </a:lnTo>
                    <a:lnTo>
                      <a:pt x="1269" y="1219"/>
                    </a:lnTo>
                    <a:lnTo>
                      <a:pt x="1269" y="1221"/>
                    </a:lnTo>
                    <a:lnTo>
                      <a:pt x="1252" y="1233"/>
                    </a:lnTo>
                    <a:lnTo>
                      <a:pt x="1237" y="1232"/>
                    </a:lnTo>
                    <a:lnTo>
                      <a:pt x="1219" y="1249"/>
                    </a:lnTo>
                    <a:lnTo>
                      <a:pt x="1203" y="1253"/>
                    </a:lnTo>
                    <a:lnTo>
                      <a:pt x="1184" y="1235"/>
                    </a:lnTo>
                    <a:lnTo>
                      <a:pt x="1179" y="1236"/>
                    </a:lnTo>
                    <a:lnTo>
                      <a:pt x="1171" y="1248"/>
                    </a:lnTo>
                    <a:lnTo>
                      <a:pt x="1160" y="1279"/>
                    </a:lnTo>
                    <a:lnTo>
                      <a:pt x="1144" y="1287"/>
                    </a:lnTo>
                    <a:lnTo>
                      <a:pt x="1131" y="1289"/>
                    </a:lnTo>
                    <a:lnTo>
                      <a:pt x="1120" y="1316"/>
                    </a:lnTo>
                    <a:lnTo>
                      <a:pt x="1111" y="1322"/>
                    </a:lnTo>
                    <a:lnTo>
                      <a:pt x="1062" y="1326"/>
                    </a:lnTo>
                    <a:lnTo>
                      <a:pt x="1057" y="1313"/>
                    </a:lnTo>
                    <a:lnTo>
                      <a:pt x="1035" y="1290"/>
                    </a:lnTo>
                    <a:lnTo>
                      <a:pt x="1009" y="1286"/>
                    </a:lnTo>
                    <a:lnTo>
                      <a:pt x="993" y="1296"/>
                    </a:lnTo>
                    <a:lnTo>
                      <a:pt x="981" y="1320"/>
                    </a:lnTo>
                    <a:lnTo>
                      <a:pt x="957" y="1310"/>
                    </a:lnTo>
                    <a:lnTo>
                      <a:pt x="918" y="1302"/>
                    </a:lnTo>
                    <a:lnTo>
                      <a:pt x="894" y="1303"/>
                    </a:lnTo>
                    <a:lnTo>
                      <a:pt x="870" y="1290"/>
                    </a:lnTo>
                    <a:lnTo>
                      <a:pt x="843" y="1289"/>
                    </a:lnTo>
                    <a:lnTo>
                      <a:pt x="814" y="1260"/>
                    </a:lnTo>
                    <a:lnTo>
                      <a:pt x="781" y="1248"/>
                    </a:lnTo>
                    <a:lnTo>
                      <a:pt x="768" y="1248"/>
                    </a:lnTo>
                    <a:lnTo>
                      <a:pt x="751" y="1259"/>
                    </a:lnTo>
                    <a:lnTo>
                      <a:pt x="744" y="1262"/>
                    </a:lnTo>
                    <a:lnTo>
                      <a:pt x="736" y="1257"/>
                    </a:lnTo>
                    <a:lnTo>
                      <a:pt x="727" y="1249"/>
                    </a:lnTo>
                    <a:lnTo>
                      <a:pt x="722" y="1243"/>
                    </a:lnTo>
                    <a:lnTo>
                      <a:pt x="709" y="1239"/>
                    </a:lnTo>
                    <a:lnTo>
                      <a:pt x="682" y="1241"/>
                    </a:lnTo>
                    <a:lnTo>
                      <a:pt x="678" y="1250"/>
                    </a:lnTo>
                    <a:lnTo>
                      <a:pt x="656" y="1278"/>
                    </a:lnTo>
                    <a:lnTo>
                      <a:pt x="634" y="1280"/>
                    </a:lnTo>
                    <a:lnTo>
                      <a:pt x="608" y="1275"/>
                    </a:lnTo>
                    <a:lnTo>
                      <a:pt x="572" y="1262"/>
                    </a:lnTo>
                    <a:lnTo>
                      <a:pt x="544" y="1254"/>
                    </a:lnTo>
                    <a:lnTo>
                      <a:pt x="541" y="1255"/>
                    </a:lnTo>
                    <a:lnTo>
                      <a:pt x="516" y="1225"/>
                    </a:lnTo>
                    <a:lnTo>
                      <a:pt x="507" y="1226"/>
                    </a:lnTo>
                    <a:lnTo>
                      <a:pt x="502" y="1226"/>
                    </a:lnTo>
                    <a:lnTo>
                      <a:pt x="501" y="1227"/>
                    </a:lnTo>
                    <a:lnTo>
                      <a:pt x="487" y="1232"/>
                    </a:lnTo>
                    <a:lnTo>
                      <a:pt x="474" y="1230"/>
                    </a:lnTo>
                    <a:lnTo>
                      <a:pt x="454" y="1230"/>
                    </a:lnTo>
                    <a:lnTo>
                      <a:pt x="438" y="1232"/>
                    </a:lnTo>
                    <a:lnTo>
                      <a:pt x="429" y="1235"/>
                    </a:lnTo>
                    <a:lnTo>
                      <a:pt x="415" y="1236"/>
                    </a:lnTo>
                    <a:lnTo>
                      <a:pt x="392" y="1230"/>
                    </a:lnTo>
                    <a:lnTo>
                      <a:pt x="382" y="1231"/>
                    </a:lnTo>
                    <a:lnTo>
                      <a:pt x="356" y="1254"/>
                    </a:lnTo>
                    <a:lnTo>
                      <a:pt x="336" y="1275"/>
                    </a:lnTo>
                    <a:lnTo>
                      <a:pt x="325" y="1272"/>
                    </a:lnTo>
                    <a:lnTo>
                      <a:pt x="316" y="1247"/>
                    </a:lnTo>
                    <a:lnTo>
                      <a:pt x="292" y="1226"/>
                    </a:lnTo>
                    <a:lnTo>
                      <a:pt x="290" y="1209"/>
                    </a:lnTo>
                    <a:lnTo>
                      <a:pt x="288" y="1199"/>
                    </a:lnTo>
                    <a:lnTo>
                      <a:pt x="279" y="1190"/>
                    </a:lnTo>
                    <a:lnTo>
                      <a:pt x="276" y="1194"/>
                    </a:lnTo>
                    <a:lnTo>
                      <a:pt x="268" y="1201"/>
                    </a:lnTo>
                    <a:lnTo>
                      <a:pt x="258" y="1206"/>
                    </a:lnTo>
                    <a:lnTo>
                      <a:pt x="228" y="1183"/>
                    </a:lnTo>
                    <a:lnTo>
                      <a:pt x="189" y="1177"/>
                    </a:lnTo>
                    <a:lnTo>
                      <a:pt x="174" y="1159"/>
                    </a:lnTo>
                    <a:lnTo>
                      <a:pt x="130" y="1146"/>
                    </a:lnTo>
                    <a:lnTo>
                      <a:pt x="103" y="1135"/>
                    </a:lnTo>
                    <a:lnTo>
                      <a:pt x="72" y="1139"/>
                    </a:lnTo>
                    <a:lnTo>
                      <a:pt x="66" y="1133"/>
                    </a:lnTo>
                    <a:lnTo>
                      <a:pt x="69" y="1107"/>
                    </a:lnTo>
                    <a:lnTo>
                      <a:pt x="75" y="1099"/>
                    </a:lnTo>
                    <a:lnTo>
                      <a:pt x="96" y="1088"/>
                    </a:lnTo>
                    <a:lnTo>
                      <a:pt x="103" y="1104"/>
                    </a:lnTo>
                    <a:lnTo>
                      <a:pt x="104" y="1117"/>
                    </a:lnTo>
                    <a:lnTo>
                      <a:pt x="108" y="1121"/>
                    </a:lnTo>
                    <a:lnTo>
                      <a:pt x="116" y="1106"/>
                    </a:lnTo>
                    <a:lnTo>
                      <a:pt x="130" y="1105"/>
                    </a:lnTo>
                    <a:lnTo>
                      <a:pt x="144" y="1105"/>
                    </a:lnTo>
                    <a:lnTo>
                      <a:pt x="156" y="1080"/>
                    </a:lnTo>
                    <a:lnTo>
                      <a:pt x="142" y="1073"/>
                    </a:lnTo>
                    <a:lnTo>
                      <a:pt x="144" y="1055"/>
                    </a:lnTo>
                    <a:lnTo>
                      <a:pt x="158" y="1047"/>
                    </a:lnTo>
                    <a:lnTo>
                      <a:pt x="157" y="1040"/>
                    </a:lnTo>
                    <a:lnTo>
                      <a:pt x="134" y="1022"/>
                    </a:lnTo>
                    <a:lnTo>
                      <a:pt x="142" y="1009"/>
                    </a:lnTo>
                    <a:lnTo>
                      <a:pt x="138" y="1002"/>
                    </a:lnTo>
                    <a:lnTo>
                      <a:pt x="121" y="991"/>
                    </a:lnTo>
                    <a:lnTo>
                      <a:pt x="87" y="981"/>
                    </a:lnTo>
                    <a:lnTo>
                      <a:pt x="87" y="950"/>
                    </a:lnTo>
                    <a:lnTo>
                      <a:pt x="68" y="942"/>
                    </a:lnTo>
                    <a:lnTo>
                      <a:pt x="60" y="943"/>
                    </a:lnTo>
                    <a:lnTo>
                      <a:pt x="54" y="927"/>
                    </a:lnTo>
                    <a:lnTo>
                      <a:pt x="44" y="930"/>
                    </a:lnTo>
                    <a:lnTo>
                      <a:pt x="52" y="960"/>
                    </a:lnTo>
                    <a:lnTo>
                      <a:pt x="34" y="959"/>
                    </a:lnTo>
                    <a:lnTo>
                      <a:pt x="26" y="951"/>
                    </a:lnTo>
                    <a:lnTo>
                      <a:pt x="0" y="851"/>
                    </a:lnTo>
                    <a:lnTo>
                      <a:pt x="39" y="842"/>
                    </a:lnTo>
                    <a:lnTo>
                      <a:pt x="39" y="807"/>
                    </a:lnTo>
                    <a:lnTo>
                      <a:pt x="21" y="794"/>
                    </a:lnTo>
                    <a:lnTo>
                      <a:pt x="12" y="750"/>
                    </a:lnTo>
                    <a:lnTo>
                      <a:pt x="6" y="737"/>
                    </a:lnTo>
                    <a:lnTo>
                      <a:pt x="21" y="722"/>
                    </a:lnTo>
                    <a:lnTo>
                      <a:pt x="42" y="715"/>
                    </a:lnTo>
                    <a:lnTo>
                      <a:pt x="43" y="703"/>
                    </a:lnTo>
                    <a:lnTo>
                      <a:pt x="64" y="697"/>
                    </a:lnTo>
                    <a:lnTo>
                      <a:pt x="64" y="678"/>
                    </a:lnTo>
                    <a:lnTo>
                      <a:pt x="73" y="661"/>
                    </a:lnTo>
                    <a:lnTo>
                      <a:pt x="69" y="651"/>
                    </a:lnTo>
                    <a:lnTo>
                      <a:pt x="73" y="642"/>
                    </a:lnTo>
                    <a:lnTo>
                      <a:pt x="61" y="630"/>
                    </a:lnTo>
                    <a:lnTo>
                      <a:pt x="57" y="619"/>
                    </a:lnTo>
                    <a:lnTo>
                      <a:pt x="80" y="607"/>
                    </a:lnTo>
                    <a:lnTo>
                      <a:pt x="69" y="587"/>
                    </a:lnTo>
                    <a:lnTo>
                      <a:pt x="70" y="572"/>
                    </a:lnTo>
                    <a:lnTo>
                      <a:pt x="70" y="563"/>
                    </a:lnTo>
                    <a:lnTo>
                      <a:pt x="80" y="533"/>
                    </a:lnTo>
                    <a:lnTo>
                      <a:pt x="80" y="504"/>
                    </a:lnTo>
                    <a:lnTo>
                      <a:pt x="94" y="494"/>
                    </a:lnTo>
                    <a:lnTo>
                      <a:pt x="97" y="483"/>
                    </a:lnTo>
                    <a:lnTo>
                      <a:pt x="110" y="473"/>
                    </a:lnTo>
                    <a:lnTo>
                      <a:pt x="108" y="452"/>
                    </a:lnTo>
                    <a:lnTo>
                      <a:pt x="103" y="441"/>
                    </a:lnTo>
                    <a:lnTo>
                      <a:pt x="121" y="431"/>
                    </a:lnTo>
                    <a:lnTo>
                      <a:pt x="122" y="439"/>
                    </a:lnTo>
                    <a:lnTo>
                      <a:pt x="127" y="438"/>
                    </a:lnTo>
                    <a:lnTo>
                      <a:pt x="135" y="411"/>
                    </a:lnTo>
                    <a:lnTo>
                      <a:pt x="136" y="402"/>
                    </a:lnTo>
                    <a:lnTo>
                      <a:pt x="126" y="381"/>
                    </a:lnTo>
                    <a:lnTo>
                      <a:pt x="144" y="368"/>
                    </a:lnTo>
                    <a:lnTo>
                      <a:pt x="144" y="363"/>
                    </a:lnTo>
                    <a:lnTo>
                      <a:pt x="154" y="380"/>
                    </a:lnTo>
                    <a:lnTo>
                      <a:pt x="166" y="420"/>
                    </a:lnTo>
                    <a:lnTo>
                      <a:pt x="177" y="425"/>
                    </a:lnTo>
                    <a:lnTo>
                      <a:pt x="180" y="431"/>
                    </a:lnTo>
                    <a:lnTo>
                      <a:pt x="201" y="421"/>
                    </a:lnTo>
                    <a:lnTo>
                      <a:pt x="224" y="387"/>
                    </a:lnTo>
                    <a:lnTo>
                      <a:pt x="234" y="383"/>
                    </a:lnTo>
                    <a:lnTo>
                      <a:pt x="236" y="391"/>
                    </a:lnTo>
                    <a:lnTo>
                      <a:pt x="243" y="392"/>
                    </a:lnTo>
                    <a:lnTo>
                      <a:pt x="248" y="383"/>
                    </a:lnTo>
                    <a:lnTo>
                      <a:pt x="256" y="384"/>
                    </a:lnTo>
                    <a:lnTo>
                      <a:pt x="259" y="409"/>
                    </a:lnTo>
                    <a:lnTo>
                      <a:pt x="290" y="410"/>
                    </a:lnTo>
                    <a:lnTo>
                      <a:pt x="300" y="399"/>
                    </a:lnTo>
                    <a:lnTo>
                      <a:pt x="319" y="397"/>
                    </a:lnTo>
                    <a:lnTo>
                      <a:pt x="331" y="407"/>
                    </a:lnTo>
                    <a:lnTo>
                      <a:pt x="340" y="398"/>
                    </a:lnTo>
                    <a:lnTo>
                      <a:pt x="339" y="392"/>
                    </a:lnTo>
                    <a:lnTo>
                      <a:pt x="345" y="389"/>
                    </a:lnTo>
                    <a:lnTo>
                      <a:pt x="361" y="395"/>
                    </a:lnTo>
                    <a:lnTo>
                      <a:pt x="379" y="383"/>
                    </a:lnTo>
                    <a:lnTo>
                      <a:pt x="394" y="387"/>
                    </a:lnTo>
                    <a:lnTo>
                      <a:pt x="414" y="351"/>
                    </a:lnTo>
                    <a:lnTo>
                      <a:pt x="409" y="331"/>
                    </a:lnTo>
                    <a:lnTo>
                      <a:pt x="420" y="287"/>
                    </a:lnTo>
                    <a:lnTo>
                      <a:pt x="414" y="276"/>
                    </a:lnTo>
                    <a:lnTo>
                      <a:pt x="412" y="263"/>
                    </a:lnTo>
                    <a:lnTo>
                      <a:pt x="434" y="229"/>
                    </a:lnTo>
                    <a:lnTo>
                      <a:pt x="458" y="216"/>
                    </a:lnTo>
                    <a:lnTo>
                      <a:pt x="516" y="213"/>
                    </a:lnTo>
                    <a:lnTo>
                      <a:pt x="523" y="236"/>
                    </a:lnTo>
                    <a:lnTo>
                      <a:pt x="532" y="239"/>
                    </a:lnTo>
                    <a:lnTo>
                      <a:pt x="543" y="231"/>
                    </a:lnTo>
                    <a:lnTo>
                      <a:pt x="555" y="235"/>
                    </a:lnTo>
                    <a:lnTo>
                      <a:pt x="558" y="242"/>
                    </a:lnTo>
                    <a:lnTo>
                      <a:pt x="561" y="243"/>
                    </a:lnTo>
                    <a:lnTo>
                      <a:pt x="578" y="239"/>
                    </a:lnTo>
                    <a:lnTo>
                      <a:pt x="591" y="245"/>
                    </a:lnTo>
                    <a:lnTo>
                      <a:pt x="596" y="241"/>
                    </a:lnTo>
                    <a:lnTo>
                      <a:pt x="618" y="243"/>
                    </a:lnTo>
                    <a:lnTo>
                      <a:pt x="620" y="240"/>
                    </a:lnTo>
                    <a:lnTo>
                      <a:pt x="621" y="235"/>
                    </a:lnTo>
                    <a:lnTo>
                      <a:pt x="655" y="227"/>
                    </a:lnTo>
                    <a:lnTo>
                      <a:pt x="679" y="269"/>
                    </a:lnTo>
                    <a:lnTo>
                      <a:pt x="696" y="247"/>
                    </a:lnTo>
                    <a:lnTo>
                      <a:pt x="690" y="241"/>
                    </a:lnTo>
                    <a:lnTo>
                      <a:pt x="679" y="253"/>
                    </a:lnTo>
                    <a:lnTo>
                      <a:pt x="668" y="241"/>
                    </a:lnTo>
                    <a:lnTo>
                      <a:pt x="673" y="227"/>
                    </a:lnTo>
                    <a:lnTo>
                      <a:pt x="662" y="207"/>
                    </a:lnTo>
                    <a:lnTo>
                      <a:pt x="662" y="199"/>
                    </a:lnTo>
                    <a:lnTo>
                      <a:pt x="668" y="193"/>
                    </a:lnTo>
                    <a:lnTo>
                      <a:pt x="696" y="182"/>
                    </a:lnTo>
                    <a:lnTo>
                      <a:pt x="705" y="194"/>
                    </a:lnTo>
                    <a:lnTo>
                      <a:pt x="715" y="194"/>
                    </a:lnTo>
                    <a:lnTo>
                      <a:pt x="723" y="183"/>
                    </a:lnTo>
                    <a:lnTo>
                      <a:pt x="733" y="189"/>
                    </a:lnTo>
                    <a:lnTo>
                      <a:pt x="759" y="168"/>
                    </a:lnTo>
                    <a:lnTo>
                      <a:pt x="768" y="167"/>
                    </a:lnTo>
                    <a:lnTo>
                      <a:pt x="777" y="175"/>
                    </a:lnTo>
                    <a:lnTo>
                      <a:pt x="783" y="173"/>
                    </a:lnTo>
                    <a:lnTo>
                      <a:pt x="786" y="134"/>
                    </a:lnTo>
                    <a:lnTo>
                      <a:pt x="764" y="101"/>
                    </a:lnTo>
                    <a:lnTo>
                      <a:pt x="758" y="43"/>
                    </a:lnTo>
                    <a:lnTo>
                      <a:pt x="759" y="35"/>
                    </a:lnTo>
                    <a:lnTo>
                      <a:pt x="790" y="26"/>
                    </a:lnTo>
                    <a:close/>
                  </a:path>
                </a:pathLst>
              </a:custGeom>
              <a:solidFill>
                <a:srgbClr val="cc00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2959200" y="3670920"/>
              <a:ext cx="2957760" cy="1979280"/>
              <a:chOff x="2959200" y="3670920"/>
              <a:chExt cx="2957760" cy="1979280"/>
            </a:xfrm>
          </p:grpSpPr>
          <p:sp>
            <p:nvSpPr>
              <p:cNvPr id="346" name=""/>
              <p:cNvSpPr/>
              <p:nvPr/>
            </p:nvSpPr>
            <p:spPr>
              <a:xfrm>
                <a:off x="4602240" y="3670920"/>
                <a:ext cx="1314720" cy="1479600"/>
              </a:xfrm>
              <a:custGeom>
                <a:avLst/>
                <a:gdLst/>
                <a:ahLst/>
                <a:rect l="l" t="t" r="r" b="b"/>
                <a:pathLst>
                  <a:path w="1738" h="1977">
                    <a:moveTo>
                      <a:pt x="787" y="0"/>
                    </a:moveTo>
                    <a:lnTo>
                      <a:pt x="824" y="12"/>
                    </a:lnTo>
                    <a:lnTo>
                      <a:pt x="831" y="15"/>
                    </a:lnTo>
                    <a:lnTo>
                      <a:pt x="838" y="16"/>
                    </a:lnTo>
                    <a:lnTo>
                      <a:pt x="852" y="32"/>
                    </a:lnTo>
                    <a:lnTo>
                      <a:pt x="885" y="87"/>
                    </a:lnTo>
                    <a:lnTo>
                      <a:pt x="903" y="81"/>
                    </a:lnTo>
                    <a:lnTo>
                      <a:pt x="894" y="49"/>
                    </a:lnTo>
                    <a:lnTo>
                      <a:pt x="973" y="116"/>
                    </a:lnTo>
                    <a:lnTo>
                      <a:pt x="990" y="122"/>
                    </a:lnTo>
                    <a:lnTo>
                      <a:pt x="1083" y="140"/>
                    </a:lnTo>
                    <a:lnTo>
                      <a:pt x="1094" y="146"/>
                    </a:lnTo>
                    <a:lnTo>
                      <a:pt x="1120" y="171"/>
                    </a:lnTo>
                    <a:lnTo>
                      <a:pt x="1136" y="166"/>
                    </a:lnTo>
                    <a:lnTo>
                      <a:pt x="1153" y="177"/>
                    </a:lnTo>
                    <a:lnTo>
                      <a:pt x="1196" y="175"/>
                    </a:lnTo>
                    <a:lnTo>
                      <a:pt x="1209" y="176"/>
                    </a:lnTo>
                    <a:lnTo>
                      <a:pt x="1201" y="202"/>
                    </a:lnTo>
                    <a:lnTo>
                      <a:pt x="1212" y="214"/>
                    </a:lnTo>
                    <a:lnTo>
                      <a:pt x="1209" y="234"/>
                    </a:lnTo>
                    <a:lnTo>
                      <a:pt x="1218" y="258"/>
                    </a:lnTo>
                    <a:lnTo>
                      <a:pt x="1218" y="260"/>
                    </a:lnTo>
                    <a:lnTo>
                      <a:pt x="1207" y="270"/>
                    </a:lnTo>
                    <a:lnTo>
                      <a:pt x="1201" y="280"/>
                    </a:lnTo>
                    <a:lnTo>
                      <a:pt x="1195" y="290"/>
                    </a:lnTo>
                    <a:lnTo>
                      <a:pt x="1183" y="300"/>
                    </a:lnTo>
                    <a:lnTo>
                      <a:pt x="1131" y="330"/>
                    </a:lnTo>
                    <a:lnTo>
                      <a:pt x="1128" y="343"/>
                    </a:lnTo>
                    <a:lnTo>
                      <a:pt x="1132" y="363"/>
                    </a:lnTo>
                    <a:lnTo>
                      <a:pt x="1147" y="388"/>
                    </a:lnTo>
                    <a:lnTo>
                      <a:pt x="1137" y="400"/>
                    </a:lnTo>
                    <a:lnTo>
                      <a:pt x="1136" y="414"/>
                    </a:lnTo>
                    <a:lnTo>
                      <a:pt x="1140" y="429"/>
                    </a:lnTo>
                    <a:lnTo>
                      <a:pt x="1156" y="448"/>
                    </a:lnTo>
                    <a:lnTo>
                      <a:pt x="1168" y="447"/>
                    </a:lnTo>
                    <a:lnTo>
                      <a:pt x="1182" y="456"/>
                    </a:lnTo>
                    <a:lnTo>
                      <a:pt x="1202" y="454"/>
                    </a:lnTo>
                    <a:lnTo>
                      <a:pt x="1290" y="501"/>
                    </a:lnTo>
                    <a:lnTo>
                      <a:pt x="1305" y="507"/>
                    </a:lnTo>
                    <a:lnTo>
                      <a:pt x="1346" y="510"/>
                    </a:lnTo>
                    <a:lnTo>
                      <a:pt x="1369" y="508"/>
                    </a:lnTo>
                    <a:lnTo>
                      <a:pt x="1380" y="510"/>
                    </a:lnTo>
                    <a:lnTo>
                      <a:pt x="1383" y="514"/>
                    </a:lnTo>
                    <a:lnTo>
                      <a:pt x="1389" y="530"/>
                    </a:lnTo>
                    <a:lnTo>
                      <a:pt x="1406" y="524"/>
                    </a:lnTo>
                    <a:lnTo>
                      <a:pt x="1406" y="550"/>
                    </a:lnTo>
                    <a:lnTo>
                      <a:pt x="1395" y="555"/>
                    </a:lnTo>
                    <a:lnTo>
                      <a:pt x="1395" y="562"/>
                    </a:lnTo>
                    <a:lnTo>
                      <a:pt x="1386" y="566"/>
                    </a:lnTo>
                    <a:lnTo>
                      <a:pt x="1386" y="579"/>
                    </a:lnTo>
                    <a:lnTo>
                      <a:pt x="1414" y="558"/>
                    </a:lnTo>
                    <a:lnTo>
                      <a:pt x="1444" y="570"/>
                    </a:lnTo>
                    <a:lnTo>
                      <a:pt x="1448" y="583"/>
                    </a:lnTo>
                    <a:lnTo>
                      <a:pt x="1455" y="578"/>
                    </a:lnTo>
                    <a:lnTo>
                      <a:pt x="1467" y="580"/>
                    </a:lnTo>
                    <a:lnTo>
                      <a:pt x="1483" y="561"/>
                    </a:lnTo>
                    <a:lnTo>
                      <a:pt x="1506" y="564"/>
                    </a:lnTo>
                    <a:lnTo>
                      <a:pt x="1509" y="555"/>
                    </a:lnTo>
                    <a:lnTo>
                      <a:pt x="1528" y="564"/>
                    </a:lnTo>
                    <a:lnTo>
                      <a:pt x="1528" y="553"/>
                    </a:lnTo>
                    <a:lnTo>
                      <a:pt x="1536" y="544"/>
                    </a:lnTo>
                    <a:lnTo>
                      <a:pt x="1556" y="546"/>
                    </a:lnTo>
                    <a:lnTo>
                      <a:pt x="1563" y="541"/>
                    </a:lnTo>
                    <a:lnTo>
                      <a:pt x="1564" y="531"/>
                    </a:lnTo>
                    <a:lnTo>
                      <a:pt x="1561" y="502"/>
                    </a:lnTo>
                    <a:lnTo>
                      <a:pt x="1575" y="468"/>
                    </a:lnTo>
                    <a:lnTo>
                      <a:pt x="1584" y="463"/>
                    </a:lnTo>
                    <a:lnTo>
                      <a:pt x="1618" y="468"/>
                    </a:lnTo>
                    <a:lnTo>
                      <a:pt x="1634" y="451"/>
                    </a:lnTo>
                    <a:lnTo>
                      <a:pt x="1651" y="440"/>
                    </a:lnTo>
                    <a:lnTo>
                      <a:pt x="1651" y="433"/>
                    </a:lnTo>
                    <a:lnTo>
                      <a:pt x="1651" y="429"/>
                    </a:lnTo>
                    <a:lnTo>
                      <a:pt x="1657" y="420"/>
                    </a:lnTo>
                    <a:lnTo>
                      <a:pt x="1656" y="411"/>
                    </a:lnTo>
                    <a:lnTo>
                      <a:pt x="1672" y="410"/>
                    </a:lnTo>
                    <a:lnTo>
                      <a:pt x="1676" y="426"/>
                    </a:lnTo>
                    <a:lnTo>
                      <a:pt x="1684" y="423"/>
                    </a:lnTo>
                    <a:lnTo>
                      <a:pt x="1699" y="411"/>
                    </a:lnTo>
                    <a:lnTo>
                      <a:pt x="1701" y="417"/>
                    </a:lnTo>
                    <a:lnTo>
                      <a:pt x="1717" y="436"/>
                    </a:lnTo>
                    <a:lnTo>
                      <a:pt x="1731" y="451"/>
                    </a:lnTo>
                    <a:lnTo>
                      <a:pt x="1738" y="457"/>
                    </a:lnTo>
                    <a:lnTo>
                      <a:pt x="1738" y="470"/>
                    </a:lnTo>
                    <a:lnTo>
                      <a:pt x="1736" y="477"/>
                    </a:lnTo>
                    <a:lnTo>
                      <a:pt x="1726" y="488"/>
                    </a:lnTo>
                    <a:lnTo>
                      <a:pt x="1722" y="495"/>
                    </a:lnTo>
                    <a:lnTo>
                      <a:pt x="1720" y="508"/>
                    </a:lnTo>
                    <a:lnTo>
                      <a:pt x="1725" y="520"/>
                    </a:lnTo>
                    <a:lnTo>
                      <a:pt x="1730" y="535"/>
                    </a:lnTo>
                    <a:lnTo>
                      <a:pt x="1726" y="546"/>
                    </a:lnTo>
                    <a:lnTo>
                      <a:pt x="1724" y="552"/>
                    </a:lnTo>
                    <a:lnTo>
                      <a:pt x="1708" y="555"/>
                    </a:lnTo>
                    <a:lnTo>
                      <a:pt x="1700" y="561"/>
                    </a:lnTo>
                    <a:lnTo>
                      <a:pt x="1696" y="573"/>
                    </a:lnTo>
                    <a:lnTo>
                      <a:pt x="1687" y="588"/>
                    </a:lnTo>
                    <a:lnTo>
                      <a:pt x="1681" y="594"/>
                    </a:lnTo>
                    <a:lnTo>
                      <a:pt x="1664" y="598"/>
                    </a:lnTo>
                    <a:lnTo>
                      <a:pt x="1645" y="601"/>
                    </a:lnTo>
                    <a:lnTo>
                      <a:pt x="1639" y="604"/>
                    </a:lnTo>
                    <a:lnTo>
                      <a:pt x="1632" y="610"/>
                    </a:lnTo>
                    <a:lnTo>
                      <a:pt x="1628" y="620"/>
                    </a:lnTo>
                    <a:lnTo>
                      <a:pt x="1628" y="633"/>
                    </a:lnTo>
                    <a:lnTo>
                      <a:pt x="1635" y="650"/>
                    </a:lnTo>
                    <a:lnTo>
                      <a:pt x="1639" y="656"/>
                    </a:lnTo>
                    <a:lnTo>
                      <a:pt x="1641" y="668"/>
                    </a:lnTo>
                    <a:lnTo>
                      <a:pt x="1639" y="686"/>
                    </a:lnTo>
                    <a:lnTo>
                      <a:pt x="1638" y="698"/>
                    </a:lnTo>
                    <a:lnTo>
                      <a:pt x="1633" y="716"/>
                    </a:lnTo>
                    <a:lnTo>
                      <a:pt x="1626" y="733"/>
                    </a:lnTo>
                    <a:lnTo>
                      <a:pt x="1621" y="745"/>
                    </a:lnTo>
                    <a:lnTo>
                      <a:pt x="1610" y="752"/>
                    </a:lnTo>
                    <a:lnTo>
                      <a:pt x="1576" y="765"/>
                    </a:lnTo>
                    <a:lnTo>
                      <a:pt x="1551" y="781"/>
                    </a:lnTo>
                    <a:lnTo>
                      <a:pt x="1537" y="788"/>
                    </a:lnTo>
                    <a:lnTo>
                      <a:pt x="1527" y="796"/>
                    </a:lnTo>
                    <a:lnTo>
                      <a:pt x="1520" y="812"/>
                    </a:lnTo>
                    <a:lnTo>
                      <a:pt x="1519" y="829"/>
                    </a:lnTo>
                    <a:lnTo>
                      <a:pt x="1516" y="852"/>
                    </a:lnTo>
                    <a:lnTo>
                      <a:pt x="1509" y="883"/>
                    </a:lnTo>
                    <a:lnTo>
                      <a:pt x="1496" y="913"/>
                    </a:lnTo>
                    <a:lnTo>
                      <a:pt x="1480" y="934"/>
                    </a:lnTo>
                    <a:lnTo>
                      <a:pt x="1474" y="944"/>
                    </a:lnTo>
                    <a:lnTo>
                      <a:pt x="1472" y="951"/>
                    </a:lnTo>
                    <a:lnTo>
                      <a:pt x="1471" y="963"/>
                    </a:lnTo>
                    <a:lnTo>
                      <a:pt x="1473" y="969"/>
                    </a:lnTo>
                    <a:lnTo>
                      <a:pt x="1480" y="973"/>
                    </a:lnTo>
                    <a:lnTo>
                      <a:pt x="1492" y="982"/>
                    </a:lnTo>
                    <a:lnTo>
                      <a:pt x="1508" y="994"/>
                    </a:lnTo>
                    <a:lnTo>
                      <a:pt x="1524" y="1003"/>
                    </a:lnTo>
                    <a:lnTo>
                      <a:pt x="1528" y="1011"/>
                    </a:lnTo>
                    <a:lnTo>
                      <a:pt x="1530" y="1017"/>
                    </a:lnTo>
                    <a:lnTo>
                      <a:pt x="1522" y="1028"/>
                    </a:lnTo>
                    <a:lnTo>
                      <a:pt x="1514" y="1041"/>
                    </a:lnTo>
                    <a:lnTo>
                      <a:pt x="1501" y="1054"/>
                    </a:lnTo>
                    <a:lnTo>
                      <a:pt x="1492" y="1065"/>
                    </a:lnTo>
                    <a:lnTo>
                      <a:pt x="1485" y="1081"/>
                    </a:lnTo>
                    <a:lnTo>
                      <a:pt x="1483" y="1089"/>
                    </a:lnTo>
                    <a:lnTo>
                      <a:pt x="1477" y="1096"/>
                    </a:lnTo>
                    <a:lnTo>
                      <a:pt x="1472" y="1095"/>
                    </a:lnTo>
                    <a:lnTo>
                      <a:pt x="1462" y="1087"/>
                    </a:lnTo>
                    <a:lnTo>
                      <a:pt x="1453" y="1083"/>
                    </a:lnTo>
                    <a:lnTo>
                      <a:pt x="1440" y="1087"/>
                    </a:lnTo>
                    <a:lnTo>
                      <a:pt x="1426" y="1092"/>
                    </a:lnTo>
                    <a:lnTo>
                      <a:pt x="1407" y="1087"/>
                    </a:lnTo>
                    <a:lnTo>
                      <a:pt x="1399" y="1092"/>
                    </a:lnTo>
                    <a:lnTo>
                      <a:pt x="1390" y="1099"/>
                    </a:lnTo>
                    <a:lnTo>
                      <a:pt x="1389" y="1110"/>
                    </a:lnTo>
                    <a:lnTo>
                      <a:pt x="1390" y="1118"/>
                    </a:lnTo>
                    <a:lnTo>
                      <a:pt x="1395" y="1129"/>
                    </a:lnTo>
                    <a:lnTo>
                      <a:pt x="1405" y="1137"/>
                    </a:lnTo>
                    <a:lnTo>
                      <a:pt x="1413" y="1141"/>
                    </a:lnTo>
                    <a:lnTo>
                      <a:pt x="1418" y="1150"/>
                    </a:lnTo>
                    <a:lnTo>
                      <a:pt x="1420" y="1158"/>
                    </a:lnTo>
                    <a:lnTo>
                      <a:pt x="1413" y="1166"/>
                    </a:lnTo>
                    <a:lnTo>
                      <a:pt x="1398" y="1171"/>
                    </a:lnTo>
                    <a:lnTo>
                      <a:pt x="1383" y="1174"/>
                    </a:lnTo>
                    <a:lnTo>
                      <a:pt x="1374" y="1186"/>
                    </a:lnTo>
                    <a:lnTo>
                      <a:pt x="1371" y="1201"/>
                    </a:lnTo>
                    <a:lnTo>
                      <a:pt x="1366" y="1219"/>
                    </a:lnTo>
                    <a:lnTo>
                      <a:pt x="1360" y="1227"/>
                    </a:lnTo>
                    <a:lnTo>
                      <a:pt x="1336" y="1228"/>
                    </a:lnTo>
                    <a:lnTo>
                      <a:pt x="1329" y="1222"/>
                    </a:lnTo>
                    <a:lnTo>
                      <a:pt x="1316" y="1207"/>
                    </a:lnTo>
                    <a:lnTo>
                      <a:pt x="1310" y="1203"/>
                    </a:lnTo>
                    <a:lnTo>
                      <a:pt x="1299" y="1203"/>
                    </a:lnTo>
                    <a:lnTo>
                      <a:pt x="1286" y="1208"/>
                    </a:lnTo>
                    <a:lnTo>
                      <a:pt x="1270" y="1212"/>
                    </a:lnTo>
                    <a:lnTo>
                      <a:pt x="1249" y="1220"/>
                    </a:lnTo>
                    <a:lnTo>
                      <a:pt x="1243" y="1228"/>
                    </a:lnTo>
                    <a:lnTo>
                      <a:pt x="1236" y="1245"/>
                    </a:lnTo>
                    <a:lnTo>
                      <a:pt x="1227" y="1267"/>
                    </a:lnTo>
                    <a:lnTo>
                      <a:pt x="1219" y="1286"/>
                    </a:lnTo>
                    <a:lnTo>
                      <a:pt x="1222" y="1298"/>
                    </a:lnTo>
                    <a:lnTo>
                      <a:pt x="1228" y="1305"/>
                    </a:lnTo>
                    <a:lnTo>
                      <a:pt x="1238" y="1314"/>
                    </a:lnTo>
                    <a:lnTo>
                      <a:pt x="1238" y="1323"/>
                    </a:lnTo>
                    <a:lnTo>
                      <a:pt x="1234" y="1334"/>
                    </a:lnTo>
                    <a:lnTo>
                      <a:pt x="1227" y="1347"/>
                    </a:lnTo>
                    <a:lnTo>
                      <a:pt x="1221" y="1354"/>
                    </a:lnTo>
                    <a:lnTo>
                      <a:pt x="1219" y="1364"/>
                    </a:lnTo>
                    <a:lnTo>
                      <a:pt x="1214" y="1375"/>
                    </a:lnTo>
                    <a:lnTo>
                      <a:pt x="1204" y="1386"/>
                    </a:lnTo>
                    <a:lnTo>
                      <a:pt x="1195" y="1393"/>
                    </a:lnTo>
                    <a:lnTo>
                      <a:pt x="1190" y="1401"/>
                    </a:lnTo>
                    <a:lnTo>
                      <a:pt x="1182" y="1417"/>
                    </a:lnTo>
                    <a:lnTo>
                      <a:pt x="1174" y="1432"/>
                    </a:lnTo>
                    <a:lnTo>
                      <a:pt x="1168" y="1447"/>
                    </a:lnTo>
                    <a:lnTo>
                      <a:pt x="1165" y="1462"/>
                    </a:lnTo>
                    <a:lnTo>
                      <a:pt x="1164" y="1480"/>
                    </a:lnTo>
                    <a:lnTo>
                      <a:pt x="1168" y="1500"/>
                    </a:lnTo>
                    <a:lnTo>
                      <a:pt x="1177" y="1504"/>
                    </a:lnTo>
                    <a:lnTo>
                      <a:pt x="1191" y="1512"/>
                    </a:lnTo>
                    <a:lnTo>
                      <a:pt x="1207" y="1515"/>
                    </a:lnTo>
                    <a:lnTo>
                      <a:pt x="1219" y="1525"/>
                    </a:lnTo>
                    <a:lnTo>
                      <a:pt x="1224" y="1539"/>
                    </a:lnTo>
                    <a:lnTo>
                      <a:pt x="1230" y="1557"/>
                    </a:lnTo>
                    <a:lnTo>
                      <a:pt x="1230" y="1567"/>
                    </a:lnTo>
                    <a:lnTo>
                      <a:pt x="1226" y="1576"/>
                    </a:lnTo>
                    <a:lnTo>
                      <a:pt x="1216" y="1587"/>
                    </a:lnTo>
                    <a:lnTo>
                      <a:pt x="1208" y="1596"/>
                    </a:lnTo>
                    <a:lnTo>
                      <a:pt x="1206" y="1604"/>
                    </a:lnTo>
                    <a:lnTo>
                      <a:pt x="1206" y="1616"/>
                    </a:lnTo>
                    <a:lnTo>
                      <a:pt x="1206" y="1626"/>
                    </a:lnTo>
                    <a:lnTo>
                      <a:pt x="1203" y="1638"/>
                    </a:lnTo>
                    <a:lnTo>
                      <a:pt x="1197" y="1640"/>
                    </a:lnTo>
                    <a:lnTo>
                      <a:pt x="1189" y="1642"/>
                    </a:lnTo>
                    <a:lnTo>
                      <a:pt x="1179" y="1640"/>
                    </a:lnTo>
                    <a:lnTo>
                      <a:pt x="1171" y="1630"/>
                    </a:lnTo>
                    <a:lnTo>
                      <a:pt x="1154" y="1624"/>
                    </a:lnTo>
                    <a:lnTo>
                      <a:pt x="1137" y="1628"/>
                    </a:lnTo>
                    <a:lnTo>
                      <a:pt x="1131" y="1629"/>
                    </a:lnTo>
                    <a:lnTo>
                      <a:pt x="1119" y="1638"/>
                    </a:lnTo>
                    <a:lnTo>
                      <a:pt x="1106" y="1647"/>
                    </a:lnTo>
                    <a:lnTo>
                      <a:pt x="1094" y="1659"/>
                    </a:lnTo>
                    <a:lnTo>
                      <a:pt x="1088" y="1671"/>
                    </a:lnTo>
                    <a:lnTo>
                      <a:pt x="1077" y="1695"/>
                    </a:lnTo>
                    <a:lnTo>
                      <a:pt x="1069" y="1735"/>
                    </a:lnTo>
                    <a:lnTo>
                      <a:pt x="1066" y="1752"/>
                    </a:lnTo>
                    <a:lnTo>
                      <a:pt x="1072" y="1762"/>
                    </a:lnTo>
                    <a:lnTo>
                      <a:pt x="1075" y="1777"/>
                    </a:lnTo>
                    <a:lnTo>
                      <a:pt x="1070" y="1791"/>
                    </a:lnTo>
                    <a:lnTo>
                      <a:pt x="1062" y="1801"/>
                    </a:lnTo>
                    <a:lnTo>
                      <a:pt x="1056" y="1809"/>
                    </a:lnTo>
                    <a:lnTo>
                      <a:pt x="1047" y="1827"/>
                    </a:lnTo>
                    <a:lnTo>
                      <a:pt x="1048" y="1844"/>
                    </a:lnTo>
                    <a:lnTo>
                      <a:pt x="1041" y="1860"/>
                    </a:lnTo>
                    <a:lnTo>
                      <a:pt x="1033" y="1868"/>
                    </a:lnTo>
                    <a:lnTo>
                      <a:pt x="1018" y="1869"/>
                    </a:lnTo>
                    <a:lnTo>
                      <a:pt x="1009" y="1869"/>
                    </a:lnTo>
                    <a:lnTo>
                      <a:pt x="998" y="1867"/>
                    </a:lnTo>
                    <a:lnTo>
                      <a:pt x="982" y="1863"/>
                    </a:lnTo>
                    <a:lnTo>
                      <a:pt x="972" y="1868"/>
                    </a:lnTo>
                    <a:lnTo>
                      <a:pt x="962" y="1874"/>
                    </a:lnTo>
                    <a:lnTo>
                      <a:pt x="960" y="1879"/>
                    </a:lnTo>
                    <a:lnTo>
                      <a:pt x="954" y="1893"/>
                    </a:lnTo>
                    <a:lnTo>
                      <a:pt x="951" y="1905"/>
                    </a:lnTo>
                    <a:lnTo>
                      <a:pt x="945" y="1918"/>
                    </a:lnTo>
                    <a:lnTo>
                      <a:pt x="939" y="1929"/>
                    </a:lnTo>
                    <a:lnTo>
                      <a:pt x="931" y="1939"/>
                    </a:lnTo>
                    <a:lnTo>
                      <a:pt x="920" y="1947"/>
                    </a:lnTo>
                    <a:lnTo>
                      <a:pt x="912" y="1954"/>
                    </a:lnTo>
                    <a:lnTo>
                      <a:pt x="906" y="1962"/>
                    </a:lnTo>
                    <a:lnTo>
                      <a:pt x="895" y="1972"/>
                    </a:lnTo>
                    <a:lnTo>
                      <a:pt x="888" y="1977"/>
                    </a:lnTo>
                    <a:lnTo>
                      <a:pt x="880" y="1977"/>
                    </a:lnTo>
                    <a:lnTo>
                      <a:pt x="862" y="1974"/>
                    </a:lnTo>
                    <a:lnTo>
                      <a:pt x="849" y="1954"/>
                    </a:lnTo>
                    <a:lnTo>
                      <a:pt x="841" y="1941"/>
                    </a:lnTo>
                    <a:lnTo>
                      <a:pt x="835" y="1938"/>
                    </a:lnTo>
                    <a:lnTo>
                      <a:pt x="819" y="1938"/>
                    </a:lnTo>
                    <a:lnTo>
                      <a:pt x="793" y="1941"/>
                    </a:lnTo>
                    <a:lnTo>
                      <a:pt x="771" y="1945"/>
                    </a:lnTo>
                    <a:lnTo>
                      <a:pt x="757" y="1944"/>
                    </a:lnTo>
                    <a:lnTo>
                      <a:pt x="742" y="1935"/>
                    </a:lnTo>
                    <a:lnTo>
                      <a:pt x="733" y="1921"/>
                    </a:lnTo>
                    <a:lnTo>
                      <a:pt x="718" y="1911"/>
                    </a:lnTo>
                    <a:lnTo>
                      <a:pt x="706" y="1910"/>
                    </a:lnTo>
                    <a:lnTo>
                      <a:pt x="700" y="1914"/>
                    </a:lnTo>
                    <a:lnTo>
                      <a:pt x="697" y="1924"/>
                    </a:lnTo>
                    <a:lnTo>
                      <a:pt x="694" y="1935"/>
                    </a:lnTo>
                    <a:lnTo>
                      <a:pt x="690" y="1940"/>
                    </a:lnTo>
                    <a:lnTo>
                      <a:pt x="673" y="1932"/>
                    </a:lnTo>
                    <a:lnTo>
                      <a:pt x="652" y="1912"/>
                    </a:lnTo>
                    <a:lnTo>
                      <a:pt x="637" y="1899"/>
                    </a:lnTo>
                    <a:lnTo>
                      <a:pt x="624" y="1897"/>
                    </a:lnTo>
                    <a:lnTo>
                      <a:pt x="604" y="1897"/>
                    </a:lnTo>
                    <a:lnTo>
                      <a:pt x="588" y="1900"/>
                    </a:lnTo>
                    <a:lnTo>
                      <a:pt x="573" y="1904"/>
                    </a:lnTo>
                    <a:lnTo>
                      <a:pt x="554" y="1910"/>
                    </a:lnTo>
                    <a:lnTo>
                      <a:pt x="531" y="1920"/>
                    </a:lnTo>
                    <a:lnTo>
                      <a:pt x="513" y="1928"/>
                    </a:lnTo>
                    <a:lnTo>
                      <a:pt x="505" y="1905"/>
                    </a:lnTo>
                    <a:lnTo>
                      <a:pt x="472" y="1878"/>
                    </a:lnTo>
                    <a:lnTo>
                      <a:pt x="494" y="1786"/>
                    </a:lnTo>
                    <a:lnTo>
                      <a:pt x="474" y="1737"/>
                    </a:lnTo>
                    <a:lnTo>
                      <a:pt x="460" y="1717"/>
                    </a:lnTo>
                    <a:lnTo>
                      <a:pt x="457" y="1695"/>
                    </a:lnTo>
                    <a:lnTo>
                      <a:pt x="398" y="1702"/>
                    </a:lnTo>
                    <a:lnTo>
                      <a:pt x="382" y="1753"/>
                    </a:lnTo>
                    <a:lnTo>
                      <a:pt x="301" y="1752"/>
                    </a:lnTo>
                    <a:lnTo>
                      <a:pt x="298" y="1756"/>
                    </a:lnTo>
                    <a:lnTo>
                      <a:pt x="255" y="1735"/>
                    </a:lnTo>
                    <a:lnTo>
                      <a:pt x="252" y="1740"/>
                    </a:lnTo>
                    <a:lnTo>
                      <a:pt x="238" y="1735"/>
                    </a:lnTo>
                    <a:lnTo>
                      <a:pt x="243" y="1724"/>
                    </a:lnTo>
                    <a:lnTo>
                      <a:pt x="211" y="1701"/>
                    </a:lnTo>
                    <a:lnTo>
                      <a:pt x="198" y="1684"/>
                    </a:lnTo>
                    <a:lnTo>
                      <a:pt x="211" y="1657"/>
                    </a:lnTo>
                    <a:lnTo>
                      <a:pt x="228" y="1647"/>
                    </a:lnTo>
                    <a:lnTo>
                      <a:pt x="243" y="1648"/>
                    </a:lnTo>
                    <a:lnTo>
                      <a:pt x="247" y="1614"/>
                    </a:lnTo>
                    <a:lnTo>
                      <a:pt x="248" y="1558"/>
                    </a:lnTo>
                    <a:lnTo>
                      <a:pt x="272" y="1556"/>
                    </a:lnTo>
                    <a:lnTo>
                      <a:pt x="270" y="1536"/>
                    </a:lnTo>
                    <a:lnTo>
                      <a:pt x="258" y="1520"/>
                    </a:lnTo>
                    <a:lnTo>
                      <a:pt x="265" y="1507"/>
                    </a:lnTo>
                    <a:lnTo>
                      <a:pt x="265" y="1494"/>
                    </a:lnTo>
                    <a:lnTo>
                      <a:pt x="277" y="1450"/>
                    </a:lnTo>
                    <a:lnTo>
                      <a:pt x="296" y="1417"/>
                    </a:lnTo>
                    <a:lnTo>
                      <a:pt x="297" y="1405"/>
                    </a:lnTo>
                    <a:lnTo>
                      <a:pt x="290" y="1389"/>
                    </a:lnTo>
                    <a:lnTo>
                      <a:pt x="280" y="1383"/>
                    </a:lnTo>
                    <a:lnTo>
                      <a:pt x="237" y="1375"/>
                    </a:lnTo>
                    <a:lnTo>
                      <a:pt x="228" y="1357"/>
                    </a:lnTo>
                    <a:lnTo>
                      <a:pt x="236" y="1330"/>
                    </a:lnTo>
                    <a:lnTo>
                      <a:pt x="228" y="1272"/>
                    </a:lnTo>
                    <a:lnTo>
                      <a:pt x="229" y="1226"/>
                    </a:lnTo>
                    <a:lnTo>
                      <a:pt x="236" y="1202"/>
                    </a:lnTo>
                    <a:lnTo>
                      <a:pt x="225" y="1196"/>
                    </a:lnTo>
                    <a:lnTo>
                      <a:pt x="229" y="1186"/>
                    </a:lnTo>
                    <a:lnTo>
                      <a:pt x="235" y="1138"/>
                    </a:lnTo>
                    <a:lnTo>
                      <a:pt x="232" y="1108"/>
                    </a:lnTo>
                    <a:lnTo>
                      <a:pt x="254" y="1107"/>
                    </a:lnTo>
                    <a:lnTo>
                      <a:pt x="241" y="1074"/>
                    </a:lnTo>
                    <a:lnTo>
                      <a:pt x="248" y="1047"/>
                    </a:lnTo>
                    <a:lnTo>
                      <a:pt x="241" y="1021"/>
                    </a:lnTo>
                    <a:lnTo>
                      <a:pt x="262" y="954"/>
                    </a:lnTo>
                    <a:lnTo>
                      <a:pt x="214" y="918"/>
                    </a:lnTo>
                    <a:lnTo>
                      <a:pt x="171" y="921"/>
                    </a:lnTo>
                    <a:lnTo>
                      <a:pt x="133" y="921"/>
                    </a:lnTo>
                    <a:lnTo>
                      <a:pt x="105" y="886"/>
                    </a:lnTo>
                    <a:lnTo>
                      <a:pt x="85" y="873"/>
                    </a:lnTo>
                    <a:lnTo>
                      <a:pt x="62" y="846"/>
                    </a:lnTo>
                    <a:lnTo>
                      <a:pt x="33" y="861"/>
                    </a:lnTo>
                    <a:lnTo>
                      <a:pt x="25" y="873"/>
                    </a:lnTo>
                    <a:lnTo>
                      <a:pt x="13" y="834"/>
                    </a:lnTo>
                    <a:lnTo>
                      <a:pt x="0" y="752"/>
                    </a:lnTo>
                    <a:lnTo>
                      <a:pt x="2" y="742"/>
                    </a:lnTo>
                    <a:lnTo>
                      <a:pt x="12" y="733"/>
                    </a:lnTo>
                    <a:lnTo>
                      <a:pt x="33" y="718"/>
                    </a:lnTo>
                    <a:lnTo>
                      <a:pt x="46" y="687"/>
                    </a:lnTo>
                    <a:lnTo>
                      <a:pt x="67" y="668"/>
                    </a:lnTo>
                    <a:lnTo>
                      <a:pt x="74" y="663"/>
                    </a:lnTo>
                    <a:lnTo>
                      <a:pt x="80" y="666"/>
                    </a:lnTo>
                    <a:lnTo>
                      <a:pt x="103" y="679"/>
                    </a:lnTo>
                    <a:lnTo>
                      <a:pt x="128" y="684"/>
                    </a:lnTo>
                    <a:lnTo>
                      <a:pt x="157" y="672"/>
                    </a:lnTo>
                    <a:lnTo>
                      <a:pt x="158" y="669"/>
                    </a:lnTo>
                    <a:lnTo>
                      <a:pt x="160" y="656"/>
                    </a:lnTo>
                    <a:lnTo>
                      <a:pt x="165" y="650"/>
                    </a:lnTo>
                    <a:lnTo>
                      <a:pt x="189" y="636"/>
                    </a:lnTo>
                    <a:lnTo>
                      <a:pt x="210" y="634"/>
                    </a:lnTo>
                    <a:lnTo>
                      <a:pt x="229" y="637"/>
                    </a:lnTo>
                    <a:lnTo>
                      <a:pt x="242" y="636"/>
                    </a:lnTo>
                    <a:lnTo>
                      <a:pt x="253" y="620"/>
                    </a:lnTo>
                    <a:lnTo>
                      <a:pt x="267" y="631"/>
                    </a:lnTo>
                    <a:lnTo>
                      <a:pt x="316" y="668"/>
                    </a:lnTo>
                    <a:lnTo>
                      <a:pt x="355" y="657"/>
                    </a:lnTo>
                    <a:lnTo>
                      <a:pt x="372" y="645"/>
                    </a:lnTo>
                    <a:lnTo>
                      <a:pt x="382" y="657"/>
                    </a:lnTo>
                    <a:lnTo>
                      <a:pt x="387" y="660"/>
                    </a:lnTo>
                    <a:lnTo>
                      <a:pt x="408" y="633"/>
                    </a:lnTo>
                    <a:lnTo>
                      <a:pt x="433" y="618"/>
                    </a:lnTo>
                    <a:lnTo>
                      <a:pt x="433" y="595"/>
                    </a:lnTo>
                    <a:lnTo>
                      <a:pt x="440" y="585"/>
                    </a:lnTo>
                    <a:lnTo>
                      <a:pt x="439" y="568"/>
                    </a:lnTo>
                    <a:lnTo>
                      <a:pt x="433" y="561"/>
                    </a:lnTo>
                    <a:lnTo>
                      <a:pt x="412" y="564"/>
                    </a:lnTo>
                    <a:lnTo>
                      <a:pt x="406" y="556"/>
                    </a:lnTo>
                    <a:lnTo>
                      <a:pt x="411" y="549"/>
                    </a:lnTo>
                    <a:lnTo>
                      <a:pt x="436" y="552"/>
                    </a:lnTo>
                    <a:lnTo>
                      <a:pt x="438" y="543"/>
                    </a:lnTo>
                    <a:lnTo>
                      <a:pt x="424" y="528"/>
                    </a:lnTo>
                    <a:lnTo>
                      <a:pt x="426" y="518"/>
                    </a:lnTo>
                    <a:lnTo>
                      <a:pt x="418" y="513"/>
                    </a:lnTo>
                    <a:lnTo>
                      <a:pt x="418" y="482"/>
                    </a:lnTo>
                    <a:lnTo>
                      <a:pt x="423" y="466"/>
                    </a:lnTo>
                    <a:lnTo>
                      <a:pt x="417" y="452"/>
                    </a:lnTo>
                    <a:lnTo>
                      <a:pt x="400" y="450"/>
                    </a:lnTo>
                    <a:lnTo>
                      <a:pt x="404" y="411"/>
                    </a:lnTo>
                    <a:lnTo>
                      <a:pt x="408" y="398"/>
                    </a:lnTo>
                    <a:lnTo>
                      <a:pt x="432" y="402"/>
                    </a:lnTo>
                    <a:lnTo>
                      <a:pt x="441" y="382"/>
                    </a:lnTo>
                    <a:lnTo>
                      <a:pt x="480" y="363"/>
                    </a:lnTo>
                    <a:lnTo>
                      <a:pt x="486" y="379"/>
                    </a:lnTo>
                    <a:lnTo>
                      <a:pt x="484" y="400"/>
                    </a:lnTo>
                    <a:lnTo>
                      <a:pt x="550" y="394"/>
                    </a:lnTo>
                    <a:lnTo>
                      <a:pt x="544" y="379"/>
                    </a:lnTo>
                    <a:lnTo>
                      <a:pt x="574" y="364"/>
                    </a:lnTo>
                    <a:lnTo>
                      <a:pt x="594" y="332"/>
                    </a:lnTo>
                    <a:lnTo>
                      <a:pt x="600" y="338"/>
                    </a:lnTo>
                    <a:lnTo>
                      <a:pt x="608" y="346"/>
                    </a:lnTo>
                    <a:lnTo>
                      <a:pt x="610" y="334"/>
                    </a:lnTo>
                    <a:lnTo>
                      <a:pt x="604" y="330"/>
                    </a:lnTo>
                    <a:lnTo>
                      <a:pt x="597" y="320"/>
                    </a:lnTo>
                    <a:lnTo>
                      <a:pt x="580" y="312"/>
                    </a:lnTo>
                    <a:lnTo>
                      <a:pt x="585" y="306"/>
                    </a:lnTo>
                    <a:lnTo>
                      <a:pt x="592" y="295"/>
                    </a:lnTo>
                    <a:lnTo>
                      <a:pt x="595" y="284"/>
                    </a:lnTo>
                    <a:lnTo>
                      <a:pt x="586" y="282"/>
                    </a:lnTo>
                    <a:lnTo>
                      <a:pt x="596" y="266"/>
                    </a:lnTo>
                    <a:lnTo>
                      <a:pt x="601" y="236"/>
                    </a:lnTo>
                    <a:lnTo>
                      <a:pt x="613" y="238"/>
                    </a:lnTo>
                    <a:lnTo>
                      <a:pt x="630" y="230"/>
                    </a:lnTo>
                    <a:lnTo>
                      <a:pt x="621" y="218"/>
                    </a:lnTo>
                    <a:lnTo>
                      <a:pt x="619" y="214"/>
                    </a:lnTo>
                    <a:lnTo>
                      <a:pt x="619" y="204"/>
                    </a:lnTo>
                    <a:lnTo>
                      <a:pt x="620" y="202"/>
                    </a:lnTo>
                    <a:lnTo>
                      <a:pt x="600" y="174"/>
                    </a:lnTo>
                    <a:lnTo>
                      <a:pt x="616" y="154"/>
                    </a:lnTo>
                    <a:lnTo>
                      <a:pt x="634" y="142"/>
                    </a:lnTo>
                    <a:lnTo>
                      <a:pt x="658" y="120"/>
                    </a:lnTo>
                    <a:lnTo>
                      <a:pt x="680" y="117"/>
                    </a:lnTo>
                    <a:lnTo>
                      <a:pt x="684" y="111"/>
                    </a:lnTo>
                    <a:lnTo>
                      <a:pt x="684" y="106"/>
                    </a:lnTo>
                    <a:lnTo>
                      <a:pt x="687" y="102"/>
                    </a:lnTo>
                    <a:lnTo>
                      <a:pt x="714" y="94"/>
                    </a:lnTo>
                    <a:lnTo>
                      <a:pt x="720" y="86"/>
                    </a:lnTo>
                    <a:lnTo>
                      <a:pt x="733" y="63"/>
                    </a:lnTo>
                    <a:lnTo>
                      <a:pt x="740" y="37"/>
                    </a:lnTo>
                    <a:lnTo>
                      <a:pt x="746" y="22"/>
                    </a:lnTo>
                    <a:lnTo>
                      <a:pt x="764" y="7"/>
                    </a:lnTo>
                    <a:lnTo>
                      <a:pt x="774" y="2"/>
                    </a:lnTo>
                    <a:lnTo>
                      <a:pt x="787" y="0"/>
                    </a:lnTo>
                    <a:close/>
                  </a:path>
                </a:pathLst>
              </a:custGeom>
              <a:solidFill>
                <a:srgbClr val="99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959200" y="3782880"/>
                <a:ext cx="1452600" cy="1867320"/>
              </a:xfrm>
              <a:custGeom>
                <a:avLst/>
                <a:gdLst/>
                <a:ahLst/>
                <a:rect l="l" t="t" r="r" b="b"/>
                <a:pathLst>
                  <a:path w="1852" h="2489">
                    <a:moveTo>
                      <a:pt x="439" y="133"/>
                    </a:moveTo>
                    <a:lnTo>
                      <a:pt x="446" y="129"/>
                    </a:lnTo>
                    <a:lnTo>
                      <a:pt x="485" y="84"/>
                    </a:lnTo>
                    <a:lnTo>
                      <a:pt x="533" y="78"/>
                    </a:lnTo>
                    <a:lnTo>
                      <a:pt x="544" y="92"/>
                    </a:lnTo>
                    <a:lnTo>
                      <a:pt x="572" y="12"/>
                    </a:lnTo>
                    <a:lnTo>
                      <a:pt x="610" y="0"/>
                    </a:lnTo>
                    <a:lnTo>
                      <a:pt x="625" y="9"/>
                    </a:lnTo>
                    <a:lnTo>
                      <a:pt x="624" y="29"/>
                    </a:lnTo>
                    <a:lnTo>
                      <a:pt x="631" y="31"/>
                    </a:lnTo>
                    <a:lnTo>
                      <a:pt x="654" y="48"/>
                    </a:lnTo>
                    <a:lnTo>
                      <a:pt x="688" y="60"/>
                    </a:lnTo>
                    <a:lnTo>
                      <a:pt x="706" y="84"/>
                    </a:lnTo>
                    <a:lnTo>
                      <a:pt x="739" y="107"/>
                    </a:lnTo>
                    <a:lnTo>
                      <a:pt x="713" y="162"/>
                    </a:lnTo>
                    <a:lnTo>
                      <a:pt x="695" y="185"/>
                    </a:lnTo>
                    <a:lnTo>
                      <a:pt x="676" y="229"/>
                    </a:lnTo>
                    <a:lnTo>
                      <a:pt x="724" y="281"/>
                    </a:lnTo>
                    <a:lnTo>
                      <a:pt x="733" y="249"/>
                    </a:lnTo>
                    <a:lnTo>
                      <a:pt x="743" y="240"/>
                    </a:lnTo>
                    <a:lnTo>
                      <a:pt x="798" y="222"/>
                    </a:lnTo>
                    <a:lnTo>
                      <a:pt x="821" y="221"/>
                    </a:lnTo>
                    <a:lnTo>
                      <a:pt x="857" y="185"/>
                    </a:lnTo>
                    <a:lnTo>
                      <a:pt x="895" y="197"/>
                    </a:lnTo>
                    <a:lnTo>
                      <a:pt x="895" y="207"/>
                    </a:lnTo>
                    <a:lnTo>
                      <a:pt x="911" y="209"/>
                    </a:lnTo>
                    <a:lnTo>
                      <a:pt x="920" y="203"/>
                    </a:lnTo>
                    <a:lnTo>
                      <a:pt x="930" y="188"/>
                    </a:lnTo>
                    <a:lnTo>
                      <a:pt x="959" y="68"/>
                    </a:lnTo>
                    <a:lnTo>
                      <a:pt x="964" y="60"/>
                    </a:lnTo>
                    <a:lnTo>
                      <a:pt x="1016" y="81"/>
                    </a:lnTo>
                    <a:lnTo>
                      <a:pt x="1043" y="81"/>
                    </a:lnTo>
                    <a:lnTo>
                      <a:pt x="1068" y="56"/>
                    </a:lnTo>
                    <a:lnTo>
                      <a:pt x="1079" y="67"/>
                    </a:lnTo>
                    <a:lnTo>
                      <a:pt x="1123" y="151"/>
                    </a:lnTo>
                    <a:lnTo>
                      <a:pt x="1129" y="169"/>
                    </a:lnTo>
                    <a:lnTo>
                      <a:pt x="1139" y="225"/>
                    </a:lnTo>
                    <a:lnTo>
                      <a:pt x="1145" y="242"/>
                    </a:lnTo>
                    <a:lnTo>
                      <a:pt x="1169" y="265"/>
                    </a:lnTo>
                    <a:lnTo>
                      <a:pt x="1210" y="323"/>
                    </a:lnTo>
                    <a:lnTo>
                      <a:pt x="1240" y="342"/>
                    </a:lnTo>
                    <a:lnTo>
                      <a:pt x="1279" y="357"/>
                    </a:lnTo>
                    <a:lnTo>
                      <a:pt x="1312" y="391"/>
                    </a:lnTo>
                    <a:lnTo>
                      <a:pt x="1332" y="409"/>
                    </a:lnTo>
                    <a:lnTo>
                      <a:pt x="1363" y="396"/>
                    </a:lnTo>
                    <a:lnTo>
                      <a:pt x="1416" y="409"/>
                    </a:lnTo>
                    <a:lnTo>
                      <a:pt x="1444" y="367"/>
                    </a:lnTo>
                    <a:lnTo>
                      <a:pt x="1462" y="315"/>
                    </a:lnTo>
                    <a:lnTo>
                      <a:pt x="1468" y="306"/>
                    </a:lnTo>
                    <a:lnTo>
                      <a:pt x="1496" y="330"/>
                    </a:lnTo>
                    <a:lnTo>
                      <a:pt x="1541" y="357"/>
                    </a:lnTo>
                    <a:lnTo>
                      <a:pt x="1567" y="359"/>
                    </a:lnTo>
                    <a:lnTo>
                      <a:pt x="1610" y="378"/>
                    </a:lnTo>
                    <a:lnTo>
                      <a:pt x="1613" y="351"/>
                    </a:lnTo>
                    <a:lnTo>
                      <a:pt x="1627" y="320"/>
                    </a:lnTo>
                    <a:lnTo>
                      <a:pt x="1637" y="311"/>
                    </a:lnTo>
                    <a:lnTo>
                      <a:pt x="1651" y="308"/>
                    </a:lnTo>
                    <a:lnTo>
                      <a:pt x="1681" y="287"/>
                    </a:lnTo>
                    <a:lnTo>
                      <a:pt x="1710" y="285"/>
                    </a:lnTo>
                    <a:lnTo>
                      <a:pt x="1729" y="275"/>
                    </a:lnTo>
                    <a:lnTo>
                      <a:pt x="1765" y="294"/>
                    </a:lnTo>
                    <a:lnTo>
                      <a:pt x="1782" y="259"/>
                    </a:lnTo>
                    <a:lnTo>
                      <a:pt x="1784" y="259"/>
                    </a:lnTo>
                    <a:lnTo>
                      <a:pt x="1799" y="270"/>
                    </a:lnTo>
                    <a:lnTo>
                      <a:pt x="1817" y="294"/>
                    </a:lnTo>
                    <a:lnTo>
                      <a:pt x="1824" y="297"/>
                    </a:lnTo>
                    <a:lnTo>
                      <a:pt x="1837" y="295"/>
                    </a:lnTo>
                    <a:lnTo>
                      <a:pt x="1852" y="309"/>
                    </a:lnTo>
                    <a:lnTo>
                      <a:pt x="1818" y="332"/>
                    </a:lnTo>
                    <a:lnTo>
                      <a:pt x="1805" y="336"/>
                    </a:lnTo>
                    <a:lnTo>
                      <a:pt x="1800" y="342"/>
                    </a:lnTo>
                    <a:lnTo>
                      <a:pt x="1799" y="359"/>
                    </a:lnTo>
                    <a:lnTo>
                      <a:pt x="1802" y="375"/>
                    </a:lnTo>
                    <a:lnTo>
                      <a:pt x="1800" y="383"/>
                    </a:lnTo>
                    <a:lnTo>
                      <a:pt x="1783" y="386"/>
                    </a:lnTo>
                    <a:lnTo>
                      <a:pt x="1771" y="398"/>
                    </a:lnTo>
                    <a:lnTo>
                      <a:pt x="1768" y="411"/>
                    </a:lnTo>
                    <a:lnTo>
                      <a:pt x="1771" y="422"/>
                    </a:lnTo>
                    <a:lnTo>
                      <a:pt x="1810" y="415"/>
                    </a:lnTo>
                    <a:lnTo>
                      <a:pt x="1826" y="422"/>
                    </a:lnTo>
                    <a:lnTo>
                      <a:pt x="1836" y="438"/>
                    </a:lnTo>
                    <a:lnTo>
                      <a:pt x="1838" y="449"/>
                    </a:lnTo>
                    <a:lnTo>
                      <a:pt x="1836" y="465"/>
                    </a:lnTo>
                    <a:lnTo>
                      <a:pt x="1829" y="477"/>
                    </a:lnTo>
                    <a:lnTo>
                      <a:pt x="1820" y="482"/>
                    </a:lnTo>
                    <a:lnTo>
                      <a:pt x="1804" y="487"/>
                    </a:lnTo>
                    <a:lnTo>
                      <a:pt x="1795" y="493"/>
                    </a:lnTo>
                    <a:lnTo>
                      <a:pt x="1784" y="515"/>
                    </a:lnTo>
                    <a:lnTo>
                      <a:pt x="1765" y="534"/>
                    </a:lnTo>
                    <a:lnTo>
                      <a:pt x="1733" y="554"/>
                    </a:lnTo>
                    <a:lnTo>
                      <a:pt x="1723" y="536"/>
                    </a:lnTo>
                    <a:lnTo>
                      <a:pt x="1715" y="536"/>
                    </a:lnTo>
                    <a:lnTo>
                      <a:pt x="1703" y="543"/>
                    </a:lnTo>
                    <a:lnTo>
                      <a:pt x="1692" y="560"/>
                    </a:lnTo>
                    <a:lnTo>
                      <a:pt x="1685" y="577"/>
                    </a:lnTo>
                    <a:lnTo>
                      <a:pt x="1682" y="583"/>
                    </a:lnTo>
                    <a:lnTo>
                      <a:pt x="1666" y="581"/>
                    </a:lnTo>
                    <a:lnTo>
                      <a:pt x="1646" y="599"/>
                    </a:lnTo>
                    <a:lnTo>
                      <a:pt x="1634" y="601"/>
                    </a:lnTo>
                    <a:lnTo>
                      <a:pt x="1610" y="596"/>
                    </a:lnTo>
                    <a:lnTo>
                      <a:pt x="1622" y="611"/>
                    </a:lnTo>
                    <a:lnTo>
                      <a:pt x="1630" y="627"/>
                    </a:lnTo>
                    <a:lnTo>
                      <a:pt x="1638" y="636"/>
                    </a:lnTo>
                    <a:lnTo>
                      <a:pt x="1673" y="624"/>
                    </a:lnTo>
                    <a:lnTo>
                      <a:pt x="1678" y="633"/>
                    </a:lnTo>
                    <a:lnTo>
                      <a:pt x="1676" y="645"/>
                    </a:lnTo>
                    <a:lnTo>
                      <a:pt x="1655" y="644"/>
                    </a:lnTo>
                    <a:lnTo>
                      <a:pt x="1625" y="662"/>
                    </a:lnTo>
                    <a:lnTo>
                      <a:pt x="1618" y="671"/>
                    </a:lnTo>
                    <a:lnTo>
                      <a:pt x="1618" y="679"/>
                    </a:lnTo>
                    <a:lnTo>
                      <a:pt x="1649" y="708"/>
                    </a:lnTo>
                    <a:lnTo>
                      <a:pt x="1663" y="715"/>
                    </a:lnTo>
                    <a:lnTo>
                      <a:pt x="1678" y="696"/>
                    </a:lnTo>
                    <a:lnTo>
                      <a:pt x="1672" y="681"/>
                    </a:lnTo>
                    <a:lnTo>
                      <a:pt x="1661" y="671"/>
                    </a:lnTo>
                    <a:lnTo>
                      <a:pt x="1670" y="663"/>
                    </a:lnTo>
                    <a:lnTo>
                      <a:pt x="1690" y="657"/>
                    </a:lnTo>
                    <a:lnTo>
                      <a:pt x="1691" y="659"/>
                    </a:lnTo>
                    <a:lnTo>
                      <a:pt x="1706" y="675"/>
                    </a:lnTo>
                    <a:lnTo>
                      <a:pt x="1710" y="695"/>
                    </a:lnTo>
                    <a:lnTo>
                      <a:pt x="1694" y="708"/>
                    </a:lnTo>
                    <a:lnTo>
                      <a:pt x="1661" y="741"/>
                    </a:lnTo>
                    <a:lnTo>
                      <a:pt x="1574" y="857"/>
                    </a:lnTo>
                    <a:lnTo>
                      <a:pt x="1580" y="870"/>
                    </a:lnTo>
                    <a:lnTo>
                      <a:pt x="1616" y="901"/>
                    </a:lnTo>
                    <a:lnTo>
                      <a:pt x="1620" y="909"/>
                    </a:lnTo>
                    <a:lnTo>
                      <a:pt x="1624" y="938"/>
                    </a:lnTo>
                    <a:lnTo>
                      <a:pt x="1603" y="981"/>
                    </a:lnTo>
                    <a:lnTo>
                      <a:pt x="1578" y="1010"/>
                    </a:lnTo>
                    <a:lnTo>
                      <a:pt x="1577" y="1020"/>
                    </a:lnTo>
                    <a:lnTo>
                      <a:pt x="1580" y="1029"/>
                    </a:lnTo>
                    <a:lnTo>
                      <a:pt x="1600" y="1043"/>
                    </a:lnTo>
                    <a:lnTo>
                      <a:pt x="1604" y="1055"/>
                    </a:lnTo>
                    <a:lnTo>
                      <a:pt x="1604" y="1070"/>
                    </a:lnTo>
                    <a:lnTo>
                      <a:pt x="1598" y="1100"/>
                    </a:lnTo>
                    <a:lnTo>
                      <a:pt x="1598" y="1130"/>
                    </a:lnTo>
                    <a:lnTo>
                      <a:pt x="1567" y="1170"/>
                    </a:lnTo>
                    <a:lnTo>
                      <a:pt x="1544" y="1203"/>
                    </a:lnTo>
                    <a:lnTo>
                      <a:pt x="1474" y="1149"/>
                    </a:lnTo>
                    <a:lnTo>
                      <a:pt x="1366" y="1208"/>
                    </a:lnTo>
                    <a:lnTo>
                      <a:pt x="1348" y="1217"/>
                    </a:lnTo>
                    <a:lnTo>
                      <a:pt x="1313" y="1249"/>
                    </a:lnTo>
                    <a:lnTo>
                      <a:pt x="1350" y="1293"/>
                    </a:lnTo>
                    <a:lnTo>
                      <a:pt x="1402" y="1287"/>
                    </a:lnTo>
                    <a:lnTo>
                      <a:pt x="1464" y="1339"/>
                    </a:lnTo>
                    <a:lnTo>
                      <a:pt x="1472" y="1370"/>
                    </a:lnTo>
                    <a:lnTo>
                      <a:pt x="1460" y="1399"/>
                    </a:lnTo>
                    <a:lnTo>
                      <a:pt x="1448" y="1412"/>
                    </a:lnTo>
                    <a:lnTo>
                      <a:pt x="1450" y="1421"/>
                    </a:lnTo>
                    <a:lnTo>
                      <a:pt x="1470" y="1451"/>
                    </a:lnTo>
                    <a:lnTo>
                      <a:pt x="1470" y="1475"/>
                    </a:lnTo>
                    <a:lnTo>
                      <a:pt x="1453" y="1493"/>
                    </a:lnTo>
                    <a:lnTo>
                      <a:pt x="1447" y="1530"/>
                    </a:lnTo>
                    <a:lnTo>
                      <a:pt x="1418" y="1549"/>
                    </a:lnTo>
                    <a:lnTo>
                      <a:pt x="1392" y="1541"/>
                    </a:lnTo>
                    <a:lnTo>
                      <a:pt x="1375" y="1527"/>
                    </a:lnTo>
                    <a:lnTo>
                      <a:pt x="1261" y="1608"/>
                    </a:lnTo>
                    <a:lnTo>
                      <a:pt x="1235" y="1579"/>
                    </a:lnTo>
                    <a:lnTo>
                      <a:pt x="1201" y="1591"/>
                    </a:lnTo>
                    <a:lnTo>
                      <a:pt x="1183" y="1590"/>
                    </a:lnTo>
                    <a:lnTo>
                      <a:pt x="1160" y="1604"/>
                    </a:lnTo>
                    <a:lnTo>
                      <a:pt x="1138" y="1611"/>
                    </a:lnTo>
                    <a:lnTo>
                      <a:pt x="1142" y="1638"/>
                    </a:lnTo>
                    <a:lnTo>
                      <a:pt x="1156" y="1653"/>
                    </a:lnTo>
                    <a:lnTo>
                      <a:pt x="1172" y="1668"/>
                    </a:lnTo>
                    <a:lnTo>
                      <a:pt x="1180" y="1692"/>
                    </a:lnTo>
                    <a:lnTo>
                      <a:pt x="1142" y="1734"/>
                    </a:lnTo>
                    <a:lnTo>
                      <a:pt x="1111" y="1777"/>
                    </a:lnTo>
                    <a:lnTo>
                      <a:pt x="1114" y="1783"/>
                    </a:lnTo>
                    <a:lnTo>
                      <a:pt x="1144" y="1824"/>
                    </a:lnTo>
                    <a:lnTo>
                      <a:pt x="1157" y="1857"/>
                    </a:lnTo>
                    <a:lnTo>
                      <a:pt x="1174" y="1879"/>
                    </a:lnTo>
                    <a:lnTo>
                      <a:pt x="1177" y="1904"/>
                    </a:lnTo>
                    <a:lnTo>
                      <a:pt x="1184" y="1917"/>
                    </a:lnTo>
                    <a:lnTo>
                      <a:pt x="1184" y="1923"/>
                    </a:lnTo>
                    <a:lnTo>
                      <a:pt x="1177" y="1922"/>
                    </a:lnTo>
                    <a:lnTo>
                      <a:pt x="1170" y="1929"/>
                    </a:lnTo>
                    <a:lnTo>
                      <a:pt x="1159" y="1940"/>
                    </a:lnTo>
                    <a:lnTo>
                      <a:pt x="1132" y="1958"/>
                    </a:lnTo>
                    <a:lnTo>
                      <a:pt x="1105" y="1959"/>
                    </a:lnTo>
                    <a:lnTo>
                      <a:pt x="1085" y="1956"/>
                    </a:lnTo>
                    <a:lnTo>
                      <a:pt x="1064" y="1952"/>
                    </a:lnTo>
                    <a:lnTo>
                      <a:pt x="1050" y="1949"/>
                    </a:lnTo>
                    <a:lnTo>
                      <a:pt x="1038" y="1955"/>
                    </a:lnTo>
                    <a:lnTo>
                      <a:pt x="1034" y="1957"/>
                    </a:lnTo>
                    <a:lnTo>
                      <a:pt x="1027" y="1977"/>
                    </a:lnTo>
                    <a:lnTo>
                      <a:pt x="1008" y="1995"/>
                    </a:lnTo>
                    <a:lnTo>
                      <a:pt x="996" y="1997"/>
                    </a:lnTo>
                    <a:lnTo>
                      <a:pt x="978" y="2000"/>
                    </a:lnTo>
                    <a:lnTo>
                      <a:pt x="967" y="2007"/>
                    </a:lnTo>
                    <a:lnTo>
                      <a:pt x="964" y="2018"/>
                    </a:lnTo>
                    <a:lnTo>
                      <a:pt x="970" y="2030"/>
                    </a:lnTo>
                    <a:lnTo>
                      <a:pt x="986" y="2053"/>
                    </a:lnTo>
                    <a:lnTo>
                      <a:pt x="984" y="2067"/>
                    </a:lnTo>
                    <a:lnTo>
                      <a:pt x="976" y="2078"/>
                    </a:lnTo>
                    <a:lnTo>
                      <a:pt x="954" y="2088"/>
                    </a:lnTo>
                    <a:lnTo>
                      <a:pt x="934" y="2091"/>
                    </a:lnTo>
                    <a:lnTo>
                      <a:pt x="920" y="2097"/>
                    </a:lnTo>
                    <a:lnTo>
                      <a:pt x="916" y="2113"/>
                    </a:lnTo>
                    <a:lnTo>
                      <a:pt x="905" y="2141"/>
                    </a:lnTo>
                    <a:lnTo>
                      <a:pt x="890" y="2154"/>
                    </a:lnTo>
                    <a:lnTo>
                      <a:pt x="883" y="2160"/>
                    </a:lnTo>
                    <a:lnTo>
                      <a:pt x="871" y="2171"/>
                    </a:lnTo>
                    <a:lnTo>
                      <a:pt x="862" y="2189"/>
                    </a:lnTo>
                    <a:lnTo>
                      <a:pt x="847" y="2202"/>
                    </a:lnTo>
                    <a:lnTo>
                      <a:pt x="835" y="2208"/>
                    </a:lnTo>
                    <a:lnTo>
                      <a:pt x="822" y="2211"/>
                    </a:lnTo>
                    <a:lnTo>
                      <a:pt x="811" y="2215"/>
                    </a:lnTo>
                    <a:lnTo>
                      <a:pt x="805" y="2222"/>
                    </a:lnTo>
                    <a:lnTo>
                      <a:pt x="794" y="2227"/>
                    </a:lnTo>
                    <a:lnTo>
                      <a:pt x="788" y="2223"/>
                    </a:lnTo>
                    <a:lnTo>
                      <a:pt x="781" y="2214"/>
                    </a:lnTo>
                    <a:lnTo>
                      <a:pt x="778" y="2207"/>
                    </a:lnTo>
                    <a:lnTo>
                      <a:pt x="768" y="2205"/>
                    </a:lnTo>
                    <a:lnTo>
                      <a:pt x="757" y="2204"/>
                    </a:lnTo>
                    <a:lnTo>
                      <a:pt x="742" y="2211"/>
                    </a:lnTo>
                    <a:lnTo>
                      <a:pt x="725" y="2222"/>
                    </a:lnTo>
                    <a:lnTo>
                      <a:pt x="706" y="2238"/>
                    </a:lnTo>
                    <a:lnTo>
                      <a:pt x="694" y="2247"/>
                    </a:lnTo>
                    <a:lnTo>
                      <a:pt x="678" y="2256"/>
                    </a:lnTo>
                    <a:lnTo>
                      <a:pt x="670" y="2263"/>
                    </a:lnTo>
                    <a:lnTo>
                      <a:pt x="666" y="2274"/>
                    </a:lnTo>
                    <a:lnTo>
                      <a:pt x="673" y="2288"/>
                    </a:lnTo>
                    <a:lnTo>
                      <a:pt x="684" y="2298"/>
                    </a:lnTo>
                    <a:lnTo>
                      <a:pt x="688" y="2305"/>
                    </a:lnTo>
                    <a:lnTo>
                      <a:pt x="683" y="2311"/>
                    </a:lnTo>
                    <a:lnTo>
                      <a:pt x="670" y="2312"/>
                    </a:lnTo>
                    <a:lnTo>
                      <a:pt x="653" y="2312"/>
                    </a:lnTo>
                    <a:lnTo>
                      <a:pt x="626" y="2310"/>
                    </a:lnTo>
                    <a:lnTo>
                      <a:pt x="611" y="2309"/>
                    </a:lnTo>
                    <a:lnTo>
                      <a:pt x="596" y="2303"/>
                    </a:lnTo>
                    <a:lnTo>
                      <a:pt x="592" y="2297"/>
                    </a:lnTo>
                    <a:lnTo>
                      <a:pt x="582" y="2294"/>
                    </a:lnTo>
                    <a:lnTo>
                      <a:pt x="568" y="2300"/>
                    </a:lnTo>
                    <a:lnTo>
                      <a:pt x="557" y="2307"/>
                    </a:lnTo>
                    <a:lnTo>
                      <a:pt x="551" y="2315"/>
                    </a:lnTo>
                    <a:lnTo>
                      <a:pt x="533" y="2315"/>
                    </a:lnTo>
                    <a:lnTo>
                      <a:pt x="512" y="2315"/>
                    </a:lnTo>
                    <a:lnTo>
                      <a:pt x="488" y="2306"/>
                    </a:lnTo>
                    <a:lnTo>
                      <a:pt x="478" y="2297"/>
                    </a:lnTo>
                    <a:lnTo>
                      <a:pt x="468" y="2287"/>
                    </a:lnTo>
                    <a:lnTo>
                      <a:pt x="466" y="2274"/>
                    </a:lnTo>
                    <a:lnTo>
                      <a:pt x="467" y="2259"/>
                    </a:lnTo>
                    <a:lnTo>
                      <a:pt x="464" y="2246"/>
                    </a:lnTo>
                    <a:lnTo>
                      <a:pt x="457" y="2234"/>
                    </a:lnTo>
                    <a:lnTo>
                      <a:pt x="448" y="2227"/>
                    </a:lnTo>
                    <a:lnTo>
                      <a:pt x="438" y="2221"/>
                    </a:lnTo>
                    <a:lnTo>
                      <a:pt x="427" y="2227"/>
                    </a:lnTo>
                    <a:lnTo>
                      <a:pt x="416" y="2237"/>
                    </a:lnTo>
                    <a:lnTo>
                      <a:pt x="400" y="2259"/>
                    </a:lnTo>
                    <a:lnTo>
                      <a:pt x="389" y="2281"/>
                    </a:lnTo>
                    <a:lnTo>
                      <a:pt x="384" y="2288"/>
                    </a:lnTo>
                    <a:lnTo>
                      <a:pt x="374" y="2301"/>
                    </a:lnTo>
                    <a:lnTo>
                      <a:pt x="368" y="2316"/>
                    </a:lnTo>
                    <a:lnTo>
                      <a:pt x="378" y="2329"/>
                    </a:lnTo>
                    <a:lnTo>
                      <a:pt x="382" y="2348"/>
                    </a:lnTo>
                    <a:lnTo>
                      <a:pt x="382" y="2355"/>
                    </a:lnTo>
                    <a:lnTo>
                      <a:pt x="374" y="2363"/>
                    </a:lnTo>
                    <a:lnTo>
                      <a:pt x="360" y="2365"/>
                    </a:lnTo>
                    <a:lnTo>
                      <a:pt x="341" y="2365"/>
                    </a:lnTo>
                    <a:lnTo>
                      <a:pt x="325" y="2366"/>
                    </a:lnTo>
                    <a:lnTo>
                      <a:pt x="308" y="2372"/>
                    </a:lnTo>
                    <a:lnTo>
                      <a:pt x="296" y="2382"/>
                    </a:lnTo>
                    <a:lnTo>
                      <a:pt x="286" y="2390"/>
                    </a:lnTo>
                    <a:lnTo>
                      <a:pt x="271" y="2397"/>
                    </a:lnTo>
                    <a:lnTo>
                      <a:pt x="265" y="2401"/>
                    </a:lnTo>
                    <a:lnTo>
                      <a:pt x="262" y="2409"/>
                    </a:lnTo>
                    <a:lnTo>
                      <a:pt x="269" y="2419"/>
                    </a:lnTo>
                    <a:lnTo>
                      <a:pt x="271" y="2436"/>
                    </a:lnTo>
                    <a:lnTo>
                      <a:pt x="258" y="2448"/>
                    </a:lnTo>
                    <a:lnTo>
                      <a:pt x="247" y="2442"/>
                    </a:lnTo>
                    <a:lnTo>
                      <a:pt x="221" y="2454"/>
                    </a:lnTo>
                    <a:lnTo>
                      <a:pt x="211" y="2454"/>
                    </a:lnTo>
                    <a:lnTo>
                      <a:pt x="164" y="2438"/>
                    </a:lnTo>
                    <a:lnTo>
                      <a:pt x="150" y="2439"/>
                    </a:lnTo>
                    <a:lnTo>
                      <a:pt x="130" y="2456"/>
                    </a:lnTo>
                    <a:lnTo>
                      <a:pt x="106" y="2472"/>
                    </a:lnTo>
                    <a:lnTo>
                      <a:pt x="92" y="2469"/>
                    </a:lnTo>
                    <a:lnTo>
                      <a:pt x="88" y="2483"/>
                    </a:lnTo>
                    <a:lnTo>
                      <a:pt x="48" y="2489"/>
                    </a:lnTo>
                    <a:lnTo>
                      <a:pt x="38" y="2479"/>
                    </a:lnTo>
                    <a:lnTo>
                      <a:pt x="31" y="2473"/>
                    </a:lnTo>
                    <a:lnTo>
                      <a:pt x="26" y="2453"/>
                    </a:lnTo>
                    <a:lnTo>
                      <a:pt x="22" y="2435"/>
                    </a:lnTo>
                    <a:lnTo>
                      <a:pt x="30" y="2431"/>
                    </a:lnTo>
                    <a:lnTo>
                      <a:pt x="46" y="2423"/>
                    </a:lnTo>
                    <a:lnTo>
                      <a:pt x="54" y="2419"/>
                    </a:lnTo>
                    <a:lnTo>
                      <a:pt x="62" y="2425"/>
                    </a:lnTo>
                    <a:lnTo>
                      <a:pt x="68" y="2424"/>
                    </a:lnTo>
                    <a:lnTo>
                      <a:pt x="71" y="2418"/>
                    </a:lnTo>
                    <a:lnTo>
                      <a:pt x="67" y="2409"/>
                    </a:lnTo>
                    <a:lnTo>
                      <a:pt x="62" y="2405"/>
                    </a:lnTo>
                    <a:lnTo>
                      <a:pt x="48" y="2395"/>
                    </a:lnTo>
                    <a:lnTo>
                      <a:pt x="42" y="2382"/>
                    </a:lnTo>
                    <a:lnTo>
                      <a:pt x="49" y="2373"/>
                    </a:lnTo>
                    <a:lnTo>
                      <a:pt x="56" y="2353"/>
                    </a:lnTo>
                    <a:lnTo>
                      <a:pt x="58" y="2335"/>
                    </a:lnTo>
                    <a:lnTo>
                      <a:pt x="61" y="2321"/>
                    </a:lnTo>
                    <a:lnTo>
                      <a:pt x="85" y="2277"/>
                    </a:lnTo>
                    <a:lnTo>
                      <a:pt x="73" y="2270"/>
                    </a:lnTo>
                    <a:lnTo>
                      <a:pt x="77" y="2256"/>
                    </a:lnTo>
                    <a:lnTo>
                      <a:pt x="70" y="2247"/>
                    </a:lnTo>
                    <a:lnTo>
                      <a:pt x="76" y="2233"/>
                    </a:lnTo>
                    <a:lnTo>
                      <a:pt x="96" y="2233"/>
                    </a:lnTo>
                    <a:lnTo>
                      <a:pt x="98" y="2222"/>
                    </a:lnTo>
                    <a:lnTo>
                      <a:pt x="96" y="2214"/>
                    </a:lnTo>
                    <a:lnTo>
                      <a:pt x="94" y="2205"/>
                    </a:lnTo>
                    <a:lnTo>
                      <a:pt x="84" y="2201"/>
                    </a:lnTo>
                    <a:lnTo>
                      <a:pt x="73" y="2201"/>
                    </a:lnTo>
                    <a:lnTo>
                      <a:pt x="66" y="2195"/>
                    </a:lnTo>
                    <a:lnTo>
                      <a:pt x="61" y="2181"/>
                    </a:lnTo>
                    <a:lnTo>
                      <a:pt x="60" y="2162"/>
                    </a:lnTo>
                    <a:lnTo>
                      <a:pt x="56" y="2143"/>
                    </a:lnTo>
                    <a:lnTo>
                      <a:pt x="53" y="2126"/>
                    </a:lnTo>
                    <a:lnTo>
                      <a:pt x="49" y="2113"/>
                    </a:lnTo>
                    <a:lnTo>
                      <a:pt x="38" y="2107"/>
                    </a:lnTo>
                    <a:lnTo>
                      <a:pt x="24" y="2106"/>
                    </a:lnTo>
                    <a:lnTo>
                      <a:pt x="23" y="2105"/>
                    </a:lnTo>
                    <a:lnTo>
                      <a:pt x="25" y="2094"/>
                    </a:lnTo>
                    <a:lnTo>
                      <a:pt x="35" y="2094"/>
                    </a:lnTo>
                    <a:lnTo>
                      <a:pt x="44" y="2087"/>
                    </a:lnTo>
                    <a:lnTo>
                      <a:pt x="48" y="2079"/>
                    </a:lnTo>
                    <a:lnTo>
                      <a:pt x="46" y="2071"/>
                    </a:lnTo>
                    <a:lnTo>
                      <a:pt x="38" y="2063"/>
                    </a:lnTo>
                    <a:lnTo>
                      <a:pt x="23" y="2049"/>
                    </a:lnTo>
                    <a:lnTo>
                      <a:pt x="10" y="2037"/>
                    </a:lnTo>
                    <a:lnTo>
                      <a:pt x="4" y="2029"/>
                    </a:lnTo>
                    <a:lnTo>
                      <a:pt x="0" y="2018"/>
                    </a:lnTo>
                    <a:lnTo>
                      <a:pt x="1" y="2005"/>
                    </a:lnTo>
                    <a:lnTo>
                      <a:pt x="5" y="1993"/>
                    </a:lnTo>
                    <a:lnTo>
                      <a:pt x="10" y="1986"/>
                    </a:lnTo>
                    <a:lnTo>
                      <a:pt x="16" y="1982"/>
                    </a:lnTo>
                    <a:lnTo>
                      <a:pt x="25" y="1981"/>
                    </a:lnTo>
                    <a:lnTo>
                      <a:pt x="32" y="1985"/>
                    </a:lnTo>
                    <a:lnTo>
                      <a:pt x="36" y="1991"/>
                    </a:lnTo>
                    <a:lnTo>
                      <a:pt x="38" y="2003"/>
                    </a:lnTo>
                    <a:lnTo>
                      <a:pt x="36" y="2019"/>
                    </a:lnTo>
                    <a:lnTo>
                      <a:pt x="37" y="2031"/>
                    </a:lnTo>
                    <a:lnTo>
                      <a:pt x="42" y="2033"/>
                    </a:lnTo>
                    <a:lnTo>
                      <a:pt x="52" y="2024"/>
                    </a:lnTo>
                    <a:lnTo>
                      <a:pt x="60" y="2017"/>
                    </a:lnTo>
                    <a:lnTo>
                      <a:pt x="62" y="2009"/>
                    </a:lnTo>
                    <a:lnTo>
                      <a:pt x="60" y="1989"/>
                    </a:lnTo>
                    <a:lnTo>
                      <a:pt x="60" y="1976"/>
                    </a:lnTo>
                    <a:lnTo>
                      <a:pt x="62" y="1968"/>
                    </a:lnTo>
                    <a:lnTo>
                      <a:pt x="66" y="1964"/>
                    </a:lnTo>
                    <a:lnTo>
                      <a:pt x="72" y="1955"/>
                    </a:lnTo>
                    <a:lnTo>
                      <a:pt x="78" y="1946"/>
                    </a:lnTo>
                    <a:lnTo>
                      <a:pt x="85" y="1944"/>
                    </a:lnTo>
                    <a:lnTo>
                      <a:pt x="90" y="1946"/>
                    </a:lnTo>
                    <a:lnTo>
                      <a:pt x="97" y="1944"/>
                    </a:lnTo>
                    <a:lnTo>
                      <a:pt x="103" y="1937"/>
                    </a:lnTo>
                    <a:lnTo>
                      <a:pt x="104" y="1931"/>
                    </a:lnTo>
                    <a:lnTo>
                      <a:pt x="101" y="1926"/>
                    </a:lnTo>
                    <a:lnTo>
                      <a:pt x="97" y="1920"/>
                    </a:lnTo>
                    <a:lnTo>
                      <a:pt x="98" y="1910"/>
                    </a:lnTo>
                    <a:lnTo>
                      <a:pt x="104" y="1899"/>
                    </a:lnTo>
                    <a:lnTo>
                      <a:pt x="106" y="1893"/>
                    </a:lnTo>
                    <a:lnTo>
                      <a:pt x="102" y="1887"/>
                    </a:lnTo>
                    <a:lnTo>
                      <a:pt x="98" y="1884"/>
                    </a:lnTo>
                    <a:lnTo>
                      <a:pt x="91" y="1886"/>
                    </a:lnTo>
                    <a:lnTo>
                      <a:pt x="77" y="1897"/>
                    </a:lnTo>
                    <a:lnTo>
                      <a:pt x="61" y="1907"/>
                    </a:lnTo>
                    <a:lnTo>
                      <a:pt x="59" y="1909"/>
                    </a:lnTo>
                    <a:lnTo>
                      <a:pt x="50" y="1911"/>
                    </a:lnTo>
                    <a:lnTo>
                      <a:pt x="41" y="1910"/>
                    </a:lnTo>
                    <a:lnTo>
                      <a:pt x="35" y="1907"/>
                    </a:lnTo>
                    <a:lnTo>
                      <a:pt x="32" y="1899"/>
                    </a:lnTo>
                    <a:lnTo>
                      <a:pt x="32" y="1893"/>
                    </a:lnTo>
                    <a:lnTo>
                      <a:pt x="37" y="1886"/>
                    </a:lnTo>
                    <a:lnTo>
                      <a:pt x="48" y="1881"/>
                    </a:lnTo>
                    <a:lnTo>
                      <a:pt x="58" y="1873"/>
                    </a:lnTo>
                    <a:lnTo>
                      <a:pt x="64" y="1865"/>
                    </a:lnTo>
                    <a:lnTo>
                      <a:pt x="66" y="1861"/>
                    </a:lnTo>
                    <a:lnTo>
                      <a:pt x="70" y="1857"/>
                    </a:lnTo>
                    <a:lnTo>
                      <a:pt x="73" y="1855"/>
                    </a:lnTo>
                    <a:lnTo>
                      <a:pt x="84" y="1856"/>
                    </a:lnTo>
                    <a:lnTo>
                      <a:pt x="92" y="1856"/>
                    </a:lnTo>
                    <a:lnTo>
                      <a:pt x="101" y="1853"/>
                    </a:lnTo>
                    <a:lnTo>
                      <a:pt x="107" y="1845"/>
                    </a:lnTo>
                    <a:lnTo>
                      <a:pt x="108" y="1837"/>
                    </a:lnTo>
                    <a:lnTo>
                      <a:pt x="102" y="1827"/>
                    </a:lnTo>
                    <a:lnTo>
                      <a:pt x="95" y="1818"/>
                    </a:lnTo>
                    <a:lnTo>
                      <a:pt x="91" y="1808"/>
                    </a:lnTo>
                    <a:lnTo>
                      <a:pt x="90" y="1800"/>
                    </a:lnTo>
                    <a:lnTo>
                      <a:pt x="91" y="1795"/>
                    </a:lnTo>
                    <a:lnTo>
                      <a:pt x="97" y="1788"/>
                    </a:lnTo>
                    <a:lnTo>
                      <a:pt x="102" y="1785"/>
                    </a:lnTo>
                    <a:lnTo>
                      <a:pt x="108" y="1788"/>
                    </a:lnTo>
                    <a:lnTo>
                      <a:pt x="118" y="1796"/>
                    </a:lnTo>
                    <a:lnTo>
                      <a:pt x="130" y="1808"/>
                    </a:lnTo>
                    <a:lnTo>
                      <a:pt x="138" y="1812"/>
                    </a:lnTo>
                    <a:lnTo>
                      <a:pt x="151" y="1811"/>
                    </a:lnTo>
                    <a:lnTo>
                      <a:pt x="161" y="1807"/>
                    </a:lnTo>
                    <a:lnTo>
                      <a:pt x="167" y="1803"/>
                    </a:lnTo>
                    <a:lnTo>
                      <a:pt x="170" y="1800"/>
                    </a:lnTo>
                    <a:lnTo>
                      <a:pt x="168" y="1772"/>
                    </a:lnTo>
                    <a:lnTo>
                      <a:pt x="172" y="1752"/>
                    </a:lnTo>
                    <a:lnTo>
                      <a:pt x="180" y="1722"/>
                    </a:lnTo>
                    <a:lnTo>
                      <a:pt x="181" y="1709"/>
                    </a:lnTo>
                    <a:lnTo>
                      <a:pt x="178" y="1698"/>
                    </a:lnTo>
                    <a:lnTo>
                      <a:pt x="154" y="1668"/>
                    </a:lnTo>
                    <a:lnTo>
                      <a:pt x="148" y="1653"/>
                    </a:lnTo>
                    <a:lnTo>
                      <a:pt x="146" y="1650"/>
                    </a:lnTo>
                    <a:lnTo>
                      <a:pt x="144" y="1645"/>
                    </a:lnTo>
                    <a:lnTo>
                      <a:pt x="138" y="1626"/>
                    </a:lnTo>
                    <a:lnTo>
                      <a:pt x="137" y="1598"/>
                    </a:lnTo>
                    <a:lnTo>
                      <a:pt x="127" y="1538"/>
                    </a:lnTo>
                    <a:lnTo>
                      <a:pt x="125" y="1506"/>
                    </a:lnTo>
                    <a:lnTo>
                      <a:pt x="136" y="1478"/>
                    </a:lnTo>
                    <a:lnTo>
                      <a:pt x="156" y="1441"/>
                    </a:lnTo>
                    <a:lnTo>
                      <a:pt x="170" y="1403"/>
                    </a:lnTo>
                    <a:lnTo>
                      <a:pt x="173" y="1369"/>
                    </a:lnTo>
                    <a:lnTo>
                      <a:pt x="166" y="1337"/>
                    </a:lnTo>
                    <a:lnTo>
                      <a:pt x="146" y="1305"/>
                    </a:lnTo>
                    <a:lnTo>
                      <a:pt x="138" y="1265"/>
                    </a:lnTo>
                    <a:lnTo>
                      <a:pt x="132" y="1205"/>
                    </a:lnTo>
                    <a:lnTo>
                      <a:pt x="131" y="1172"/>
                    </a:lnTo>
                    <a:lnTo>
                      <a:pt x="110" y="1146"/>
                    </a:lnTo>
                    <a:lnTo>
                      <a:pt x="88" y="1111"/>
                    </a:lnTo>
                    <a:lnTo>
                      <a:pt x="89" y="1091"/>
                    </a:lnTo>
                    <a:lnTo>
                      <a:pt x="101" y="1067"/>
                    </a:lnTo>
                    <a:lnTo>
                      <a:pt x="112" y="1056"/>
                    </a:lnTo>
                    <a:lnTo>
                      <a:pt x="115" y="1050"/>
                    </a:lnTo>
                    <a:lnTo>
                      <a:pt x="124" y="1040"/>
                    </a:lnTo>
                    <a:lnTo>
                      <a:pt x="126" y="1038"/>
                    </a:lnTo>
                    <a:lnTo>
                      <a:pt x="162" y="1037"/>
                    </a:lnTo>
                    <a:lnTo>
                      <a:pt x="178" y="1039"/>
                    </a:lnTo>
                    <a:lnTo>
                      <a:pt x="208" y="1027"/>
                    </a:lnTo>
                    <a:lnTo>
                      <a:pt x="224" y="1014"/>
                    </a:lnTo>
                    <a:lnTo>
                      <a:pt x="232" y="996"/>
                    </a:lnTo>
                    <a:lnTo>
                      <a:pt x="247" y="981"/>
                    </a:lnTo>
                    <a:lnTo>
                      <a:pt x="254" y="974"/>
                    </a:lnTo>
                    <a:lnTo>
                      <a:pt x="256" y="967"/>
                    </a:lnTo>
                    <a:lnTo>
                      <a:pt x="265" y="957"/>
                    </a:lnTo>
                    <a:lnTo>
                      <a:pt x="271" y="957"/>
                    </a:lnTo>
                    <a:lnTo>
                      <a:pt x="280" y="931"/>
                    </a:lnTo>
                    <a:lnTo>
                      <a:pt x="283" y="917"/>
                    </a:lnTo>
                    <a:lnTo>
                      <a:pt x="282" y="885"/>
                    </a:lnTo>
                    <a:lnTo>
                      <a:pt x="259" y="836"/>
                    </a:lnTo>
                    <a:lnTo>
                      <a:pt x="248" y="789"/>
                    </a:lnTo>
                    <a:lnTo>
                      <a:pt x="239" y="758"/>
                    </a:lnTo>
                    <a:lnTo>
                      <a:pt x="242" y="751"/>
                    </a:lnTo>
                    <a:lnTo>
                      <a:pt x="226" y="717"/>
                    </a:lnTo>
                    <a:lnTo>
                      <a:pt x="217" y="717"/>
                    </a:lnTo>
                    <a:lnTo>
                      <a:pt x="215" y="675"/>
                    </a:lnTo>
                    <a:lnTo>
                      <a:pt x="192" y="635"/>
                    </a:lnTo>
                    <a:lnTo>
                      <a:pt x="180" y="614"/>
                    </a:lnTo>
                    <a:lnTo>
                      <a:pt x="179" y="591"/>
                    </a:lnTo>
                    <a:lnTo>
                      <a:pt x="192" y="552"/>
                    </a:lnTo>
                    <a:lnTo>
                      <a:pt x="197" y="539"/>
                    </a:lnTo>
                    <a:lnTo>
                      <a:pt x="204" y="533"/>
                    </a:lnTo>
                    <a:lnTo>
                      <a:pt x="209" y="528"/>
                    </a:lnTo>
                    <a:lnTo>
                      <a:pt x="209" y="515"/>
                    </a:lnTo>
                    <a:lnTo>
                      <a:pt x="218" y="498"/>
                    </a:lnTo>
                    <a:lnTo>
                      <a:pt x="224" y="498"/>
                    </a:lnTo>
                    <a:lnTo>
                      <a:pt x="234" y="470"/>
                    </a:lnTo>
                    <a:lnTo>
                      <a:pt x="232" y="434"/>
                    </a:lnTo>
                    <a:lnTo>
                      <a:pt x="232" y="413"/>
                    </a:lnTo>
                    <a:lnTo>
                      <a:pt x="216" y="371"/>
                    </a:lnTo>
                    <a:lnTo>
                      <a:pt x="214" y="342"/>
                    </a:lnTo>
                    <a:lnTo>
                      <a:pt x="212" y="323"/>
                    </a:lnTo>
                    <a:lnTo>
                      <a:pt x="221" y="302"/>
                    </a:lnTo>
                    <a:lnTo>
                      <a:pt x="235" y="279"/>
                    </a:lnTo>
                    <a:lnTo>
                      <a:pt x="236" y="257"/>
                    </a:lnTo>
                    <a:lnTo>
                      <a:pt x="244" y="243"/>
                    </a:lnTo>
                    <a:lnTo>
                      <a:pt x="246" y="234"/>
                    </a:lnTo>
                    <a:lnTo>
                      <a:pt x="240" y="223"/>
                    </a:lnTo>
                    <a:lnTo>
                      <a:pt x="235" y="218"/>
                    </a:lnTo>
                    <a:lnTo>
                      <a:pt x="224" y="210"/>
                    </a:lnTo>
                    <a:lnTo>
                      <a:pt x="222" y="198"/>
                    </a:lnTo>
                    <a:lnTo>
                      <a:pt x="221" y="189"/>
                    </a:lnTo>
                    <a:lnTo>
                      <a:pt x="221" y="183"/>
                    </a:lnTo>
                    <a:lnTo>
                      <a:pt x="223" y="174"/>
                    </a:lnTo>
                    <a:lnTo>
                      <a:pt x="228" y="168"/>
                    </a:lnTo>
                    <a:lnTo>
                      <a:pt x="271" y="181"/>
                    </a:lnTo>
                    <a:lnTo>
                      <a:pt x="305" y="179"/>
                    </a:lnTo>
                    <a:lnTo>
                      <a:pt x="308" y="189"/>
                    </a:lnTo>
                    <a:lnTo>
                      <a:pt x="360" y="211"/>
                    </a:lnTo>
                    <a:lnTo>
                      <a:pt x="394" y="192"/>
                    </a:lnTo>
                    <a:lnTo>
                      <a:pt x="406" y="149"/>
                    </a:lnTo>
                    <a:lnTo>
                      <a:pt x="414" y="140"/>
                    </a:lnTo>
                    <a:lnTo>
                      <a:pt x="439" y="133"/>
                    </a:lnTo>
                    <a:close/>
                  </a:path>
                </a:pathLst>
              </a:custGeom>
              <a:solidFill>
                <a:srgbClr val="99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92960" y="4303800"/>
                <a:ext cx="1198440" cy="1021680"/>
              </a:xfrm>
              <a:custGeom>
                <a:avLst/>
                <a:gdLst/>
                <a:ahLst/>
                <a:rect l="l" t="t" r="r" b="b"/>
                <a:pathLst>
                  <a:path w="1584" h="1365">
                    <a:moveTo>
                      <a:pt x="583" y="25"/>
                    </a:moveTo>
                    <a:lnTo>
                      <a:pt x="599" y="12"/>
                    </a:lnTo>
                    <a:lnTo>
                      <a:pt x="601" y="26"/>
                    </a:lnTo>
                    <a:lnTo>
                      <a:pt x="606" y="37"/>
                    </a:lnTo>
                    <a:lnTo>
                      <a:pt x="628" y="51"/>
                    </a:lnTo>
                    <a:lnTo>
                      <a:pt x="637" y="73"/>
                    </a:lnTo>
                    <a:lnTo>
                      <a:pt x="637" y="86"/>
                    </a:lnTo>
                    <a:lnTo>
                      <a:pt x="640" y="92"/>
                    </a:lnTo>
                    <a:lnTo>
                      <a:pt x="652" y="86"/>
                    </a:lnTo>
                    <a:lnTo>
                      <a:pt x="647" y="60"/>
                    </a:lnTo>
                    <a:lnTo>
                      <a:pt x="651" y="54"/>
                    </a:lnTo>
                    <a:lnTo>
                      <a:pt x="660" y="52"/>
                    </a:lnTo>
                    <a:lnTo>
                      <a:pt x="690" y="82"/>
                    </a:lnTo>
                    <a:lnTo>
                      <a:pt x="718" y="94"/>
                    </a:lnTo>
                    <a:lnTo>
                      <a:pt x="750" y="116"/>
                    </a:lnTo>
                    <a:lnTo>
                      <a:pt x="762" y="96"/>
                    </a:lnTo>
                    <a:lnTo>
                      <a:pt x="768" y="90"/>
                    </a:lnTo>
                    <a:lnTo>
                      <a:pt x="768" y="75"/>
                    </a:lnTo>
                    <a:lnTo>
                      <a:pt x="787" y="54"/>
                    </a:lnTo>
                    <a:lnTo>
                      <a:pt x="813" y="57"/>
                    </a:lnTo>
                    <a:lnTo>
                      <a:pt x="815" y="48"/>
                    </a:lnTo>
                    <a:lnTo>
                      <a:pt x="804" y="39"/>
                    </a:lnTo>
                    <a:lnTo>
                      <a:pt x="819" y="30"/>
                    </a:lnTo>
                    <a:lnTo>
                      <a:pt x="850" y="25"/>
                    </a:lnTo>
                    <a:lnTo>
                      <a:pt x="874" y="34"/>
                    </a:lnTo>
                    <a:lnTo>
                      <a:pt x="912" y="88"/>
                    </a:lnTo>
                    <a:lnTo>
                      <a:pt x="959" y="93"/>
                    </a:lnTo>
                    <a:lnTo>
                      <a:pt x="965" y="97"/>
                    </a:lnTo>
                    <a:lnTo>
                      <a:pt x="985" y="88"/>
                    </a:lnTo>
                    <a:lnTo>
                      <a:pt x="985" y="68"/>
                    </a:lnTo>
                    <a:lnTo>
                      <a:pt x="996" y="55"/>
                    </a:lnTo>
                    <a:lnTo>
                      <a:pt x="1003" y="57"/>
                    </a:lnTo>
                    <a:lnTo>
                      <a:pt x="1033" y="48"/>
                    </a:lnTo>
                    <a:lnTo>
                      <a:pt x="1060" y="45"/>
                    </a:lnTo>
                    <a:lnTo>
                      <a:pt x="1069" y="37"/>
                    </a:lnTo>
                    <a:lnTo>
                      <a:pt x="1096" y="27"/>
                    </a:lnTo>
                    <a:lnTo>
                      <a:pt x="1104" y="15"/>
                    </a:lnTo>
                    <a:lnTo>
                      <a:pt x="1133" y="0"/>
                    </a:lnTo>
                    <a:lnTo>
                      <a:pt x="1156" y="27"/>
                    </a:lnTo>
                    <a:lnTo>
                      <a:pt x="1176" y="40"/>
                    </a:lnTo>
                    <a:lnTo>
                      <a:pt x="1204" y="75"/>
                    </a:lnTo>
                    <a:lnTo>
                      <a:pt x="1242" y="75"/>
                    </a:lnTo>
                    <a:lnTo>
                      <a:pt x="1285" y="72"/>
                    </a:lnTo>
                    <a:lnTo>
                      <a:pt x="1333" y="108"/>
                    </a:lnTo>
                    <a:lnTo>
                      <a:pt x="1312" y="175"/>
                    </a:lnTo>
                    <a:lnTo>
                      <a:pt x="1319" y="201"/>
                    </a:lnTo>
                    <a:lnTo>
                      <a:pt x="1312" y="228"/>
                    </a:lnTo>
                    <a:lnTo>
                      <a:pt x="1325" y="261"/>
                    </a:lnTo>
                    <a:lnTo>
                      <a:pt x="1303" y="262"/>
                    </a:lnTo>
                    <a:lnTo>
                      <a:pt x="1306" y="292"/>
                    </a:lnTo>
                    <a:lnTo>
                      <a:pt x="1300" y="340"/>
                    </a:lnTo>
                    <a:lnTo>
                      <a:pt x="1296" y="350"/>
                    </a:lnTo>
                    <a:lnTo>
                      <a:pt x="1307" y="356"/>
                    </a:lnTo>
                    <a:lnTo>
                      <a:pt x="1300" y="380"/>
                    </a:lnTo>
                    <a:lnTo>
                      <a:pt x="1299" y="426"/>
                    </a:lnTo>
                    <a:lnTo>
                      <a:pt x="1307" y="484"/>
                    </a:lnTo>
                    <a:lnTo>
                      <a:pt x="1299" y="511"/>
                    </a:lnTo>
                    <a:lnTo>
                      <a:pt x="1308" y="529"/>
                    </a:lnTo>
                    <a:lnTo>
                      <a:pt x="1351" y="537"/>
                    </a:lnTo>
                    <a:lnTo>
                      <a:pt x="1361" y="543"/>
                    </a:lnTo>
                    <a:lnTo>
                      <a:pt x="1368" y="559"/>
                    </a:lnTo>
                    <a:lnTo>
                      <a:pt x="1367" y="571"/>
                    </a:lnTo>
                    <a:lnTo>
                      <a:pt x="1348" y="604"/>
                    </a:lnTo>
                    <a:lnTo>
                      <a:pt x="1336" y="648"/>
                    </a:lnTo>
                    <a:lnTo>
                      <a:pt x="1336" y="661"/>
                    </a:lnTo>
                    <a:lnTo>
                      <a:pt x="1329" y="674"/>
                    </a:lnTo>
                    <a:lnTo>
                      <a:pt x="1341" y="690"/>
                    </a:lnTo>
                    <a:lnTo>
                      <a:pt x="1343" y="710"/>
                    </a:lnTo>
                    <a:lnTo>
                      <a:pt x="1319" y="712"/>
                    </a:lnTo>
                    <a:lnTo>
                      <a:pt x="1318" y="768"/>
                    </a:lnTo>
                    <a:lnTo>
                      <a:pt x="1314" y="802"/>
                    </a:lnTo>
                    <a:lnTo>
                      <a:pt x="1299" y="801"/>
                    </a:lnTo>
                    <a:lnTo>
                      <a:pt x="1282" y="811"/>
                    </a:lnTo>
                    <a:lnTo>
                      <a:pt x="1269" y="838"/>
                    </a:lnTo>
                    <a:lnTo>
                      <a:pt x="1282" y="855"/>
                    </a:lnTo>
                    <a:lnTo>
                      <a:pt x="1314" y="878"/>
                    </a:lnTo>
                    <a:lnTo>
                      <a:pt x="1309" y="889"/>
                    </a:lnTo>
                    <a:lnTo>
                      <a:pt x="1323" y="894"/>
                    </a:lnTo>
                    <a:lnTo>
                      <a:pt x="1326" y="889"/>
                    </a:lnTo>
                    <a:lnTo>
                      <a:pt x="1369" y="910"/>
                    </a:lnTo>
                    <a:lnTo>
                      <a:pt x="1372" y="906"/>
                    </a:lnTo>
                    <a:lnTo>
                      <a:pt x="1453" y="907"/>
                    </a:lnTo>
                    <a:lnTo>
                      <a:pt x="1469" y="856"/>
                    </a:lnTo>
                    <a:lnTo>
                      <a:pt x="1528" y="849"/>
                    </a:lnTo>
                    <a:lnTo>
                      <a:pt x="1531" y="871"/>
                    </a:lnTo>
                    <a:lnTo>
                      <a:pt x="1545" y="891"/>
                    </a:lnTo>
                    <a:lnTo>
                      <a:pt x="1565" y="940"/>
                    </a:lnTo>
                    <a:lnTo>
                      <a:pt x="1543" y="1032"/>
                    </a:lnTo>
                    <a:lnTo>
                      <a:pt x="1576" y="1059"/>
                    </a:lnTo>
                    <a:lnTo>
                      <a:pt x="1584" y="1082"/>
                    </a:lnTo>
                    <a:lnTo>
                      <a:pt x="1566" y="1095"/>
                    </a:lnTo>
                    <a:lnTo>
                      <a:pt x="1552" y="1111"/>
                    </a:lnTo>
                    <a:lnTo>
                      <a:pt x="1542" y="1128"/>
                    </a:lnTo>
                    <a:lnTo>
                      <a:pt x="1537" y="1142"/>
                    </a:lnTo>
                    <a:lnTo>
                      <a:pt x="1536" y="1160"/>
                    </a:lnTo>
                    <a:lnTo>
                      <a:pt x="1540" y="1176"/>
                    </a:lnTo>
                    <a:lnTo>
                      <a:pt x="1545" y="1190"/>
                    </a:lnTo>
                    <a:lnTo>
                      <a:pt x="1547" y="1204"/>
                    </a:lnTo>
                    <a:lnTo>
                      <a:pt x="1545" y="1212"/>
                    </a:lnTo>
                    <a:lnTo>
                      <a:pt x="1534" y="1212"/>
                    </a:lnTo>
                    <a:lnTo>
                      <a:pt x="1529" y="1210"/>
                    </a:lnTo>
                    <a:lnTo>
                      <a:pt x="1517" y="1209"/>
                    </a:lnTo>
                    <a:lnTo>
                      <a:pt x="1510" y="1212"/>
                    </a:lnTo>
                    <a:lnTo>
                      <a:pt x="1504" y="1221"/>
                    </a:lnTo>
                    <a:lnTo>
                      <a:pt x="1501" y="1236"/>
                    </a:lnTo>
                    <a:lnTo>
                      <a:pt x="1498" y="1255"/>
                    </a:lnTo>
                    <a:lnTo>
                      <a:pt x="1498" y="1256"/>
                    </a:lnTo>
                    <a:lnTo>
                      <a:pt x="1489" y="1278"/>
                    </a:lnTo>
                    <a:lnTo>
                      <a:pt x="1481" y="1285"/>
                    </a:lnTo>
                    <a:lnTo>
                      <a:pt x="1469" y="1293"/>
                    </a:lnTo>
                    <a:lnTo>
                      <a:pt x="1462" y="1296"/>
                    </a:lnTo>
                    <a:lnTo>
                      <a:pt x="1457" y="1297"/>
                    </a:lnTo>
                    <a:lnTo>
                      <a:pt x="1453" y="1304"/>
                    </a:lnTo>
                    <a:lnTo>
                      <a:pt x="1444" y="1314"/>
                    </a:lnTo>
                    <a:lnTo>
                      <a:pt x="1434" y="1316"/>
                    </a:lnTo>
                    <a:lnTo>
                      <a:pt x="1422" y="1315"/>
                    </a:lnTo>
                    <a:lnTo>
                      <a:pt x="1411" y="1320"/>
                    </a:lnTo>
                    <a:lnTo>
                      <a:pt x="1404" y="1330"/>
                    </a:lnTo>
                    <a:lnTo>
                      <a:pt x="1395" y="1344"/>
                    </a:lnTo>
                    <a:lnTo>
                      <a:pt x="1389" y="1351"/>
                    </a:lnTo>
                    <a:lnTo>
                      <a:pt x="1377" y="1350"/>
                    </a:lnTo>
                    <a:lnTo>
                      <a:pt x="1369" y="1345"/>
                    </a:lnTo>
                    <a:lnTo>
                      <a:pt x="1350" y="1330"/>
                    </a:lnTo>
                    <a:lnTo>
                      <a:pt x="1341" y="1321"/>
                    </a:lnTo>
                    <a:lnTo>
                      <a:pt x="1329" y="1310"/>
                    </a:lnTo>
                    <a:lnTo>
                      <a:pt x="1303" y="1297"/>
                    </a:lnTo>
                    <a:lnTo>
                      <a:pt x="1270" y="1272"/>
                    </a:lnTo>
                    <a:lnTo>
                      <a:pt x="1239" y="1254"/>
                    </a:lnTo>
                    <a:lnTo>
                      <a:pt x="1197" y="1237"/>
                    </a:lnTo>
                    <a:lnTo>
                      <a:pt x="1186" y="1242"/>
                    </a:lnTo>
                    <a:lnTo>
                      <a:pt x="1182" y="1252"/>
                    </a:lnTo>
                    <a:lnTo>
                      <a:pt x="1186" y="1262"/>
                    </a:lnTo>
                    <a:lnTo>
                      <a:pt x="1188" y="1278"/>
                    </a:lnTo>
                    <a:lnTo>
                      <a:pt x="1188" y="1291"/>
                    </a:lnTo>
                    <a:lnTo>
                      <a:pt x="1179" y="1305"/>
                    </a:lnTo>
                    <a:lnTo>
                      <a:pt x="1162" y="1315"/>
                    </a:lnTo>
                    <a:lnTo>
                      <a:pt x="1134" y="1323"/>
                    </a:lnTo>
                    <a:lnTo>
                      <a:pt x="1114" y="1327"/>
                    </a:lnTo>
                    <a:lnTo>
                      <a:pt x="1097" y="1324"/>
                    </a:lnTo>
                    <a:lnTo>
                      <a:pt x="1075" y="1311"/>
                    </a:lnTo>
                    <a:lnTo>
                      <a:pt x="1061" y="1305"/>
                    </a:lnTo>
                    <a:lnTo>
                      <a:pt x="1039" y="1303"/>
                    </a:lnTo>
                    <a:lnTo>
                      <a:pt x="1029" y="1300"/>
                    </a:lnTo>
                    <a:lnTo>
                      <a:pt x="1017" y="1287"/>
                    </a:lnTo>
                    <a:lnTo>
                      <a:pt x="1011" y="1285"/>
                    </a:lnTo>
                    <a:lnTo>
                      <a:pt x="1000" y="1286"/>
                    </a:lnTo>
                    <a:lnTo>
                      <a:pt x="990" y="1291"/>
                    </a:lnTo>
                    <a:lnTo>
                      <a:pt x="978" y="1298"/>
                    </a:lnTo>
                    <a:lnTo>
                      <a:pt x="965" y="1305"/>
                    </a:lnTo>
                    <a:lnTo>
                      <a:pt x="942" y="1311"/>
                    </a:lnTo>
                    <a:lnTo>
                      <a:pt x="923" y="1315"/>
                    </a:lnTo>
                    <a:lnTo>
                      <a:pt x="905" y="1318"/>
                    </a:lnTo>
                    <a:lnTo>
                      <a:pt x="888" y="1332"/>
                    </a:lnTo>
                    <a:lnTo>
                      <a:pt x="882" y="1348"/>
                    </a:lnTo>
                    <a:lnTo>
                      <a:pt x="880" y="1365"/>
                    </a:lnTo>
                    <a:lnTo>
                      <a:pt x="865" y="1364"/>
                    </a:lnTo>
                    <a:lnTo>
                      <a:pt x="855" y="1360"/>
                    </a:lnTo>
                    <a:lnTo>
                      <a:pt x="841" y="1357"/>
                    </a:lnTo>
                    <a:lnTo>
                      <a:pt x="827" y="1347"/>
                    </a:lnTo>
                    <a:lnTo>
                      <a:pt x="816" y="1335"/>
                    </a:lnTo>
                    <a:lnTo>
                      <a:pt x="805" y="1320"/>
                    </a:lnTo>
                    <a:lnTo>
                      <a:pt x="789" y="1303"/>
                    </a:lnTo>
                    <a:lnTo>
                      <a:pt x="777" y="1300"/>
                    </a:lnTo>
                    <a:lnTo>
                      <a:pt x="762" y="1303"/>
                    </a:lnTo>
                    <a:lnTo>
                      <a:pt x="743" y="1314"/>
                    </a:lnTo>
                    <a:lnTo>
                      <a:pt x="732" y="1321"/>
                    </a:lnTo>
                    <a:lnTo>
                      <a:pt x="724" y="1321"/>
                    </a:lnTo>
                    <a:lnTo>
                      <a:pt x="702" y="1312"/>
                    </a:lnTo>
                    <a:lnTo>
                      <a:pt x="689" y="1305"/>
                    </a:lnTo>
                    <a:lnTo>
                      <a:pt x="679" y="1298"/>
                    </a:lnTo>
                    <a:lnTo>
                      <a:pt x="672" y="1284"/>
                    </a:lnTo>
                    <a:lnTo>
                      <a:pt x="663" y="1268"/>
                    </a:lnTo>
                    <a:lnTo>
                      <a:pt x="654" y="1264"/>
                    </a:lnTo>
                    <a:lnTo>
                      <a:pt x="647" y="1268"/>
                    </a:lnTo>
                    <a:lnTo>
                      <a:pt x="641" y="1274"/>
                    </a:lnTo>
                    <a:lnTo>
                      <a:pt x="635" y="1286"/>
                    </a:lnTo>
                    <a:lnTo>
                      <a:pt x="616" y="1315"/>
                    </a:lnTo>
                    <a:lnTo>
                      <a:pt x="611" y="1318"/>
                    </a:lnTo>
                    <a:lnTo>
                      <a:pt x="583" y="1324"/>
                    </a:lnTo>
                    <a:lnTo>
                      <a:pt x="571" y="1318"/>
                    </a:lnTo>
                    <a:lnTo>
                      <a:pt x="565" y="1308"/>
                    </a:lnTo>
                    <a:lnTo>
                      <a:pt x="564" y="1298"/>
                    </a:lnTo>
                    <a:lnTo>
                      <a:pt x="555" y="1285"/>
                    </a:lnTo>
                    <a:lnTo>
                      <a:pt x="539" y="1276"/>
                    </a:lnTo>
                    <a:lnTo>
                      <a:pt x="514" y="1268"/>
                    </a:lnTo>
                    <a:lnTo>
                      <a:pt x="507" y="1266"/>
                    </a:lnTo>
                    <a:lnTo>
                      <a:pt x="465" y="1268"/>
                    </a:lnTo>
                    <a:lnTo>
                      <a:pt x="449" y="1268"/>
                    </a:lnTo>
                    <a:lnTo>
                      <a:pt x="436" y="1274"/>
                    </a:lnTo>
                    <a:lnTo>
                      <a:pt x="395" y="1296"/>
                    </a:lnTo>
                    <a:lnTo>
                      <a:pt x="377" y="1306"/>
                    </a:lnTo>
                    <a:lnTo>
                      <a:pt x="345" y="1318"/>
                    </a:lnTo>
                    <a:lnTo>
                      <a:pt x="319" y="1327"/>
                    </a:lnTo>
                    <a:lnTo>
                      <a:pt x="305" y="1339"/>
                    </a:lnTo>
                    <a:lnTo>
                      <a:pt x="291" y="1353"/>
                    </a:lnTo>
                    <a:lnTo>
                      <a:pt x="279" y="1356"/>
                    </a:lnTo>
                    <a:lnTo>
                      <a:pt x="268" y="1347"/>
                    </a:lnTo>
                    <a:lnTo>
                      <a:pt x="226" y="1323"/>
                    </a:lnTo>
                    <a:lnTo>
                      <a:pt x="208" y="1318"/>
                    </a:lnTo>
                    <a:lnTo>
                      <a:pt x="189" y="1311"/>
                    </a:lnTo>
                    <a:lnTo>
                      <a:pt x="160" y="1288"/>
                    </a:lnTo>
                    <a:lnTo>
                      <a:pt x="142" y="1266"/>
                    </a:lnTo>
                    <a:lnTo>
                      <a:pt x="119" y="1249"/>
                    </a:lnTo>
                    <a:lnTo>
                      <a:pt x="107" y="1248"/>
                    </a:lnTo>
                    <a:lnTo>
                      <a:pt x="88" y="1246"/>
                    </a:lnTo>
                    <a:lnTo>
                      <a:pt x="73" y="1240"/>
                    </a:lnTo>
                    <a:lnTo>
                      <a:pt x="73" y="1234"/>
                    </a:lnTo>
                    <a:lnTo>
                      <a:pt x="66" y="1221"/>
                    </a:lnTo>
                    <a:lnTo>
                      <a:pt x="63" y="1196"/>
                    </a:lnTo>
                    <a:lnTo>
                      <a:pt x="46" y="1174"/>
                    </a:lnTo>
                    <a:lnTo>
                      <a:pt x="33" y="1141"/>
                    </a:lnTo>
                    <a:lnTo>
                      <a:pt x="3" y="1100"/>
                    </a:lnTo>
                    <a:lnTo>
                      <a:pt x="0" y="1094"/>
                    </a:lnTo>
                    <a:lnTo>
                      <a:pt x="31" y="1051"/>
                    </a:lnTo>
                    <a:lnTo>
                      <a:pt x="69" y="1009"/>
                    </a:lnTo>
                    <a:lnTo>
                      <a:pt x="61" y="985"/>
                    </a:lnTo>
                    <a:lnTo>
                      <a:pt x="45" y="970"/>
                    </a:lnTo>
                    <a:lnTo>
                      <a:pt x="31" y="955"/>
                    </a:lnTo>
                    <a:lnTo>
                      <a:pt x="27" y="928"/>
                    </a:lnTo>
                    <a:lnTo>
                      <a:pt x="49" y="921"/>
                    </a:lnTo>
                    <a:lnTo>
                      <a:pt x="72" y="907"/>
                    </a:lnTo>
                    <a:lnTo>
                      <a:pt x="90" y="908"/>
                    </a:lnTo>
                    <a:lnTo>
                      <a:pt x="124" y="896"/>
                    </a:lnTo>
                    <a:lnTo>
                      <a:pt x="150" y="925"/>
                    </a:lnTo>
                    <a:lnTo>
                      <a:pt x="264" y="844"/>
                    </a:lnTo>
                    <a:lnTo>
                      <a:pt x="281" y="858"/>
                    </a:lnTo>
                    <a:lnTo>
                      <a:pt x="307" y="866"/>
                    </a:lnTo>
                    <a:lnTo>
                      <a:pt x="336" y="847"/>
                    </a:lnTo>
                    <a:lnTo>
                      <a:pt x="342" y="810"/>
                    </a:lnTo>
                    <a:lnTo>
                      <a:pt x="359" y="792"/>
                    </a:lnTo>
                    <a:lnTo>
                      <a:pt x="359" y="768"/>
                    </a:lnTo>
                    <a:lnTo>
                      <a:pt x="339" y="738"/>
                    </a:lnTo>
                    <a:lnTo>
                      <a:pt x="337" y="729"/>
                    </a:lnTo>
                    <a:lnTo>
                      <a:pt x="349" y="716"/>
                    </a:lnTo>
                    <a:lnTo>
                      <a:pt x="361" y="687"/>
                    </a:lnTo>
                    <a:lnTo>
                      <a:pt x="353" y="656"/>
                    </a:lnTo>
                    <a:lnTo>
                      <a:pt x="291" y="604"/>
                    </a:lnTo>
                    <a:lnTo>
                      <a:pt x="239" y="610"/>
                    </a:lnTo>
                    <a:lnTo>
                      <a:pt x="202" y="566"/>
                    </a:lnTo>
                    <a:lnTo>
                      <a:pt x="237" y="534"/>
                    </a:lnTo>
                    <a:lnTo>
                      <a:pt x="255" y="525"/>
                    </a:lnTo>
                    <a:lnTo>
                      <a:pt x="363" y="466"/>
                    </a:lnTo>
                    <a:lnTo>
                      <a:pt x="433" y="520"/>
                    </a:lnTo>
                    <a:lnTo>
                      <a:pt x="456" y="487"/>
                    </a:lnTo>
                    <a:lnTo>
                      <a:pt x="487" y="447"/>
                    </a:lnTo>
                    <a:lnTo>
                      <a:pt x="487" y="417"/>
                    </a:lnTo>
                    <a:lnTo>
                      <a:pt x="493" y="387"/>
                    </a:lnTo>
                    <a:lnTo>
                      <a:pt x="493" y="372"/>
                    </a:lnTo>
                    <a:lnTo>
                      <a:pt x="489" y="360"/>
                    </a:lnTo>
                    <a:lnTo>
                      <a:pt x="469" y="346"/>
                    </a:lnTo>
                    <a:lnTo>
                      <a:pt x="466" y="337"/>
                    </a:lnTo>
                    <a:lnTo>
                      <a:pt x="467" y="327"/>
                    </a:lnTo>
                    <a:lnTo>
                      <a:pt x="492" y="298"/>
                    </a:lnTo>
                    <a:lnTo>
                      <a:pt x="513" y="255"/>
                    </a:lnTo>
                    <a:lnTo>
                      <a:pt x="509" y="226"/>
                    </a:lnTo>
                    <a:lnTo>
                      <a:pt x="505" y="218"/>
                    </a:lnTo>
                    <a:lnTo>
                      <a:pt x="469" y="187"/>
                    </a:lnTo>
                    <a:lnTo>
                      <a:pt x="463" y="174"/>
                    </a:lnTo>
                    <a:lnTo>
                      <a:pt x="550" y="58"/>
                    </a:lnTo>
                    <a:lnTo>
                      <a:pt x="583" y="25"/>
                    </a:lnTo>
                    <a:close/>
                  </a:path>
                </a:pathLst>
              </a:custGeom>
              <a:solidFill>
                <a:srgbClr val="99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101760" y="4489200"/>
              <a:ext cx="233352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ffffff"/>
                  </a:solidFill>
                  <a:latin typeface="Times New Roman"/>
                </a:rPr>
                <a:t>           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él-alföldi regionális 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116880" y="3141360"/>
              <a:ext cx="390240" cy="315360"/>
            </a:xfrm>
            <a:custGeom>
              <a:avLst/>
              <a:gdLst/>
              <a:ahLst/>
              <a:rect l="l" t="t" r="r" b="b"/>
              <a:pathLst>
                <a:path w="515" h="424">
                  <a:moveTo>
                    <a:pt x="0" y="84"/>
                  </a:moveTo>
                  <a:lnTo>
                    <a:pt x="17" y="55"/>
                  </a:lnTo>
                  <a:lnTo>
                    <a:pt x="41" y="59"/>
                  </a:lnTo>
                  <a:lnTo>
                    <a:pt x="19" y="36"/>
                  </a:lnTo>
                  <a:lnTo>
                    <a:pt x="32" y="19"/>
                  </a:lnTo>
                  <a:lnTo>
                    <a:pt x="71" y="39"/>
                  </a:lnTo>
                  <a:lnTo>
                    <a:pt x="63" y="85"/>
                  </a:lnTo>
                  <a:lnTo>
                    <a:pt x="90" y="115"/>
                  </a:lnTo>
                  <a:lnTo>
                    <a:pt x="122" y="114"/>
                  </a:lnTo>
                  <a:lnTo>
                    <a:pt x="95" y="57"/>
                  </a:lnTo>
                  <a:lnTo>
                    <a:pt x="110" y="28"/>
                  </a:lnTo>
                  <a:lnTo>
                    <a:pt x="90" y="15"/>
                  </a:lnTo>
                  <a:lnTo>
                    <a:pt x="129" y="3"/>
                  </a:lnTo>
                  <a:lnTo>
                    <a:pt x="144" y="51"/>
                  </a:lnTo>
                  <a:lnTo>
                    <a:pt x="147" y="15"/>
                  </a:lnTo>
                  <a:lnTo>
                    <a:pt x="191" y="0"/>
                  </a:lnTo>
                  <a:lnTo>
                    <a:pt x="245" y="37"/>
                  </a:lnTo>
                  <a:lnTo>
                    <a:pt x="257" y="15"/>
                  </a:lnTo>
                  <a:lnTo>
                    <a:pt x="307" y="70"/>
                  </a:lnTo>
                  <a:lnTo>
                    <a:pt x="271" y="118"/>
                  </a:lnTo>
                  <a:lnTo>
                    <a:pt x="295" y="139"/>
                  </a:lnTo>
                  <a:lnTo>
                    <a:pt x="321" y="112"/>
                  </a:lnTo>
                  <a:lnTo>
                    <a:pt x="345" y="133"/>
                  </a:lnTo>
                  <a:lnTo>
                    <a:pt x="338" y="150"/>
                  </a:lnTo>
                  <a:lnTo>
                    <a:pt x="372" y="143"/>
                  </a:lnTo>
                  <a:lnTo>
                    <a:pt x="353" y="108"/>
                  </a:lnTo>
                  <a:lnTo>
                    <a:pt x="420" y="102"/>
                  </a:lnTo>
                  <a:lnTo>
                    <a:pt x="435" y="121"/>
                  </a:lnTo>
                  <a:lnTo>
                    <a:pt x="417" y="157"/>
                  </a:lnTo>
                  <a:lnTo>
                    <a:pt x="384" y="161"/>
                  </a:lnTo>
                  <a:lnTo>
                    <a:pt x="397" y="183"/>
                  </a:lnTo>
                  <a:lnTo>
                    <a:pt x="385" y="195"/>
                  </a:lnTo>
                  <a:lnTo>
                    <a:pt x="483" y="181"/>
                  </a:lnTo>
                  <a:lnTo>
                    <a:pt x="515" y="237"/>
                  </a:lnTo>
                  <a:lnTo>
                    <a:pt x="447" y="274"/>
                  </a:lnTo>
                  <a:lnTo>
                    <a:pt x="404" y="262"/>
                  </a:lnTo>
                  <a:lnTo>
                    <a:pt x="443" y="228"/>
                  </a:lnTo>
                  <a:lnTo>
                    <a:pt x="414" y="210"/>
                  </a:lnTo>
                  <a:lnTo>
                    <a:pt x="339" y="210"/>
                  </a:lnTo>
                  <a:lnTo>
                    <a:pt x="318" y="241"/>
                  </a:lnTo>
                  <a:lnTo>
                    <a:pt x="374" y="279"/>
                  </a:lnTo>
                  <a:lnTo>
                    <a:pt x="361" y="289"/>
                  </a:lnTo>
                  <a:lnTo>
                    <a:pt x="423" y="301"/>
                  </a:lnTo>
                  <a:lnTo>
                    <a:pt x="381" y="347"/>
                  </a:lnTo>
                  <a:lnTo>
                    <a:pt x="326" y="304"/>
                  </a:lnTo>
                  <a:lnTo>
                    <a:pt x="317" y="325"/>
                  </a:lnTo>
                  <a:lnTo>
                    <a:pt x="331" y="347"/>
                  </a:lnTo>
                  <a:lnTo>
                    <a:pt x="371" y="365"/>
                  </a:lnTo>
                  <a:lnTo>
                    <a:pt x="353" y="415"/>
                  </a:lnTo>
                  <a:lnTo>
                    <a:pt x="325" y="408"/>
                  </a:lnTo>
                  <a:lnTo>
                    <a:pt x="331" y="363"/>
                  </a:lnTo>
                  <a:lnTo>
                    <a:pt x="294" y="300"/>
                  </a:lnTo>
                  <a:lnTo>
                    <a:pt x="275" y="311"/>
                  </a:lnTo>
                  <a:lnTo>
                    <a:pt x="267" y="363"/>
                  </a:lnTo>
                  <a:lnTo>
                    <a:pt x="289" y="418"/>
                  </a:lnTo>
                  <a:lnTo>
                    <a:pt x="253" y="411"/>
                  </a:lnTo>
                  <a:lnTo>
                    <a:pt x="233" y="307"/>
                  </a:lnTo>
                  <a:lnTo>
                    <a:pt x="212" y="311"/>
                  </a:lnTo>
                  <a:lnTo>
                    <a:pt x="211" y="334"/>
                  </a:lnTo>
                  <a:lnTo>
                    <a:pt x="225" y="329"/>
                  </a:lnTo>
                  <a:lnTo>
                    <a:pt x="239" y="407"/>
                  </a:lnTo>
                  <a:lnTo>
                    <a:pt x="206" y="400"/>
                  </a:lnTo>
                  <a:lnTo>
                    <a:pt x="189" y="364"/>
                  </a:lnTo>
                  <a:lnTo>
                    <a:pt x="146" y="409"/>
                  </a:lnTo>
                  <a:lnTo>
                    <a:pt x="135" y="400"/>
                  </a:lnTo>
                  <a:lnTo>
                    <a:pt x="93" y="373"/>
                  </a:lnTo>
                  <a:lnTo>
                    <a:pt x="55" y="424"/>
                  </a:lnTo>
                  <a:lnTo>
                    <a:pt x="31" y="407"/>
                  </a:lnTo>
                  <a:lnTo>
                    <a:pt x="67" y="366"/>
                  </a:lnTo>
                  <a:lnTo>
                    <a:pt x="54" y="336"/>
                  </a:lnTo>
                  <a:lnTo>
                    <a:pt x="67" y="327"/>
                  </a:lnTo>
                  <a:lnTo>
                    <a:pt x="90" y="365"/>
                  </a:lnTo>
                  <a:lnTo>
                    <a:pt x="111" y="358"/>
                  </a:lnTo>
                  <a:lnTo>
                    <a:pt x="99" y="340"/>
                  </a:lnTo>
                  <a:lnTo>
                    <a:pt x="122" y="327"/>
                  </a:lnTo>
                  <a:lnTo>
                    <a:pt x="127" y="289"/>
                  </a:lnTo>
                  <a:lnTo>
                    <a:pt x="84" y="288"/>
                  </a:lnTo>
                  <a:lnTo>
                    <a:pt x="78" y="256"/>
                  </a:lnTo>
                  <a:lnTo>
                    <a:pt x="109" y="246"/>
                  </a:lnTo>
                  <a:lnTo>
                    <a:pt x="107" y="229"/>
                  </a:lnTo>
                  <a:lnTo>
                    <a:pt x="72" y="225"/>
                  </a:lnTo>
                  <a:lnTo>
                    <a:pt x="105" y="168"/>
                  </a:lnTo>
                  <a:lnTo>
                    <a:pt x="38" y="141"/>
                  </a:lnTo>
                  <a:lnTo>
                    <a:pt x="47" y="83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9933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825640" y="2425320"/>
              <a:ext cx="1463400" cy="1676160"/>
            </a:xfrm>
            <a:custGeom>
              <a:avLst/>
              <a:gdLst/>
              <a:ahLst/>
              <a:rect l="l" t="t" r="r" b="b"/>
              <a:pathLst>
                <a:path w="1934" h="2243">
                  <a:moveTo>
                    <a:pt x="385" y="83"/>
                  </a:moveTo>
                  <a:lnTo>
                    <a:pt x="393" y="91"/>
                  </a:lnTo>
                  <a:lnTo>
                    <a:pt x="401" y="82"/>
                  </a:lnTo>
                  <a:lnTo>
                    <a:pt x="411" y="82"/>
                  </a:lnTo>
                  <a:lnTo>
                    <a:pt x="416" y="94"/>
                  </a:lnTo>
                  <a:lnTo>
                    <a:pt x="428" y="100"/>
                  </a:lnTo>
                  <a:lnTo>
                    <a:pt x="422" y="106"/>
                  </a:lnTo>
                  <a:lnTo>
                    <a:pt x="419" y="118"/>
                  </a:lnTo>
                  <a:lnTo>
                    <a:pt x="425" y="135"/>
                  </a:lnTo>
                  <a:lnTo>
                    <a:pt x="407" y="143"/>
                  </a:lnTo>
                  <a:lnTo>
                    <a:pt x="407" y="154"/>
                  </a:lnTo>
                  <a:lnTo>
                    <a:pt x="393" y="166"/>
                  </a:lnTo>
                  <a:lnTo>
                    <a:pt x="348" y="191"/>
                  </a:lnTo>
                  <a:lnTo>
                    <a:pt x="336" y="203"/>
                  </a:lnTo>
                  <a:lnTo>
                    <a:pt x="347" y="209"/>
                  </a:lnTo>
                  <a:lnTo>
                    <a:pt x="347" y="220"/>
                  </a:lnTo>
                  <a:lnTo>
                    <a:pt x="342" y="233"/>
                  </a:lnTo>
                  <a:lnTo>
                    <a:pt x="366" y="263"/>
                  </a:lnTo>
                  <a:lnTo>
                    <a:pt x="410" y="295"/>
                  </a:lnTo>
                  <a:lnTo>
                    <a:pt x="422" y="315"/>
                  </a:lnTo>
                  <a:lnTo>
                    <a:pt x="476" y="353"/>
                  </a:lnTo>
                  <a:lnTo>
                    <a:pt x="475" y="367"/>
                  </a:lnTo>
                  <a:lnTo>
                    <a:pt x="483" y="379"/>
                  </a:lnTo>
                  <a:lnTo>
                    <a:pt x="503" y="383"/>
                  </a:lnTo>
                  <a:lnTo>
                    <a:pt x="516" y="401"/>
                  </a:lnTo>
                  <a:lnTo>
                    <a:pt x="516" y="414"/>
                  </a:lnTo>
                  <a:lnTo>
                    <a:pt x="534" y="420"/>
                  </a:lnTo>
                  <a:lnTo>
                    <a:pt x="547" y="414"/>
                  </a:lnTo>
                  <a:lnTo>
                    <a:pt x="555" y="401"/>
                  </a:lnTo>
                  <a:lnTo>
                    <a:pt x="573" y="401"/>
                  </a:lnTo>
                  <a:lnTo>
                    <a:pt x="597" y="409"/>
                  </a:lnTo>
                  <a:lnTo>
                    <a:pt x="626" y="427"/>
                  </a:lnTo>
                  <a:lnTo>
                    <a:pt x="672" y="441"/>
                  </a:lnTo>
                  <a:lnTo>
                    <a:pt x="695" y="433"/>
                  </a:lnTo>
                  <a:lnTo>
                    <a:pt x="728" y="445"/>
                  </a:lnTo>
                  <a:lnTo>
                    <a:pt x="732" y="460"/>
                  </a:lnTo>
                  <a:lnTo>
                    <a:pt x="750" y="473"/>
                  </a:lnTo>
                  <a:lnTo>
                    <a:pt x="789" y="487"/>
                  </a:lnTo>
                  <a:lnTo>
                    <a:pt x="800" y="475"/>
                  </a:lnTo>
                  <a:lnTo>
                    <a:pt x="821" y="478"/>
                  </a:lnTo>
                  <a:lnTo>
                    <a:pt x="839" y="468"/>
                  </a:lnTo>
                  <a:lnTo>
                    <a:pt x="879" y="462"/>
                  </a:lnTo>
                  <a:lnTo>
                    <a:pt x="961" y="489"/>
                  </a:lnTo>
                  <a:lnTo>
                    <a:pt x="1004" y="484"/>
                  </a:lnTo>
                  <a:lnTo>
                    <a:pt x="1053" y="509"/>
                  </a:lnTo>
                  <a:lnTo>
                    <a:pt x="1056" y="520"/>
                  </a:lnTo>
                  <a:lnTo>
                    <a:pt x="1043" y="527"/>
                  </a:lnTo>
                  <a:lnTo>
                    <a:pt x="1029" y="544"/>
                  </a:lnTo>
                  <a:lnTo>
                    <a:pt x="1017" y="547"/>
                  </a:lnTo>
                  <a:lnTo>
                    <a:pt x="1021" y="567"/>
                  </a:lnTo>
                  <a:lnTo>
                    <a:pt x="1019" y="588"/>
                  </a:lnTo>
                  <a:lnTo>
                    <a:pt x="1050" y="589"/>
                  </a:lnTo>
                  <a:lnTo>
                    <a:pt x="1063" y="600"/>
                  </a:lnTo>
                  <a:lnTo>
                    <a:pt x="1058" y="631"/>
                  </a:lnTo>
                  <a:lnTo>
                    <a:pt x="1077" y="679"/>
                  </a:lnTo>
                  <a:lnTo>
                    <a:pt x="1086" y="684"/>
                  </a:lnTo>
                  <a:lnTo>
                    <a:pt x="1092" y="708"/>
                  </a:lnTo>
                  <a:lnTo>
                    <a:pt x="1088" y="712"/>
                  </a:lnTo>
                  <a:lnTo>
                    <a:pt x="1092" y="717"/>
                  </a:lnTo>
                  <a:lnTo>
                    <a:pt x="1097" y="719"/>
                  </a:lnTo>
                  <a:lnTo>
                    <a:pt x="1104" y="739"/>
                  </a:lnTo>
                  <a:lnTo>
                    <a:pt x="1116" y="756"/>
                  </a:lnTo>
                  <a:lnTo>
                    <a:pt x="1146" y="741"/>
                  </a:lnTo>
                  <a:lnTo>
                    <a:pt x="1145" y="733"/>
                  </a:lnTo>
                  <a:lnTo>
                    <a:pt x="1139" y="730"/>
                  </a:lnTo>
                  <a:lnTo>
                    <a:pt x="1117" y="724"/>
                  </a:lnTo>
                  <a:lnTo>
                    <a:pt x="1117" y="715"/>
                  </a:lnTo>
                  <a:lnTo>
                    <a:pt x="1119" y="696"/>
                  </a:lnTo>
                  <a:lnTo>
                    <a:pt x="1128" y="687"/>
                  </a:lnTo>
                  <a:lnTo>
                    <a:pt x="1145" y="679"/>
                  </a:lnTo>
                  <a:lnTo>
                    <a:pt x="1161" y="643"/>
                  </a:lnTo>
                  <a:lnTo>
                    <a:pt x="1173" y="642"/>
                  </a:lnTo>
                  <a:lnTo>
                    <a:pt x="1214" y="665"/>
                  </a:lnTo>
                  <a:lnTo>
                    <a:pt x="1245" y="706"/>
                  </a:lnTo>
                  <a:lnTo>
                    <a:pt x="1254" y="713"/>
                  </a:lnTo>
                  <a:lnTo>
                    <a:pt x="1251" y="731"/>
                  </a:lnTo>
                  <a:lnTo>
                    <a:pt x="1239" y="739"/>
                  </a:lnTo>
                  <a:lnTo>
                    <a:pt x="1247" y="751"/>
                  </a:lnTo>
                  <a:lnTo>
                    <a:pt x="1247" y="773"/>
                  </a:lnTo>
                  <a:lnTo>
                    <a:pt x="1275" y="826"/>
                  </a:lnTo>
                  <a:lnTo>
                    <a:pt x="1297" y="846"/>
                  </a:lnTo>
                  <a:lnTo>
                    <a:pt x="1320" y="844"/>
                  </a:lnTo>
                  <a:lnTo>
                    <a:pt x="1305" y="867"/>
                  </a:lnTo>
                  <a:lnTo>
                    <a:pt x="1311" y="873"/>
                  </a:lnTo>
                  <a:lnTo>
                    <a:pt x="1317" y="888"/>
                  </a:lnTo>
                  <a:lnTo>
                    <a:pt x="1339" y="912"/>
                  </a:lnTo>
                  <a:lnTo>
                    <a:pt x="1334" y="947"/>
                  </a:lnTo>
                  <a:lnTo>
                    <a:pt x="1349" y="959"/>
                  </a:lnTo>
                  <a:lnTo>
                    <a:pt x="1319" y="987"/>
                  </a:lnTo>
                  <a:lnTo>
                    <a:pt x="1319" y="1007"/>
                  </a:lnTo>
                  <a:lnTo>
                    <a:pt x="1315" y="1015"/>
                  </a:lnTo>
                  <a:lnTo>
                    <a:pt x="1328" y="1030"/>
                  </a:lnTo>
                  <a:lnTo>
                    <a:pt x="1321" y="1047"/>
                  </a:lnTo>
                  <a:lnTo>
                    <a:pt x="1358" y="1078"/>
                  </a:lnTo>
                  <a:lnTo>
                    <a:pt x="1376" y="1104"/>
                  </a:lnTo>
                  <a:lnTo>
                    <a:pt x="1385" y="1110"/>
                  </a:lnTo>
                  <a:lnTo>
                    <a:pt x="1424" y="1079"/>
                  </a:lnTo>
                  <a:lnTo>
                    <a:pt x="1429" y="1071"/>
                  </a:lnTo>
                  <a:lnTo>
                    <a:pt x="1443" y="1087"/>
                  </a:lnTo>
                  <a:lnTo>
                    <a:pt x="1457" y="1084"/>
                  </a:lnTo>
                  <a:lnTo>
                    <a:pt x="1467" y="1089"/>
                  </a:lnTo>
                  <a:lnTo>
                    <a:pt x="1483" y="1069"/>
                  </a:lnTo>
                  <a:lnTo>
                    <a:pt x="1500" y="1084"/>
                  </a:lnTo>
                  <a:lnTo>
                    <a:pt x="1481" y="1116"/>
                  </a:lnTo>
                  <a:lnTo>
                    <a:pt x="1471" y="1141"/>
                  </a:lnTo>
                  <a:lnTo>
                    <a:pt x="1445" y="1171"/>
                  </a:lnTo>
                  <a:lnTo>
                    <a:pt x="1513" y="1223"/>
                  </a:lnTo>
                  <a:lnTo>
                    <a:pt x="1542" y="1266"/>
                  </a:lnTo>
                  <a:lnTo>
                    <a:pt x="1542" y="1288"/>
                  </a:lnTo>
                  <a:lnTo>
                    <a:pt x="1557" y="1295"/>
                  </a:lnTo>
                  <a:lnTo>
                    <a:pt x="1581" y="1319"/>
                  </a:lnTo>
                  <a:lnTo>
                    <a:pt x="1673" y="1380"/>
                  </a:lnTo>
                  <a:lnTo>
                    <a:pt x="1724" y="1407"/>
                  </a:lnTo>
                  <a:lnTo>
                    <a:pt x="1757" y="1450"/>
                  </a:lnTo>
                  <a:lnTo>
                    <a:pt x="1759" y="1455"/>
                  </a:lnTo>
                  <a:lnTo>
                    <a:pt x="1757" y="1471"/>
                  </a:lnTo>
                  <a:lnTo>
                    <a:pt x="1759" y="1481"/>
                  </a:lnTo>
                  <a:lnTo>
                    <a:pt x="1795" y="1522"/>
                  </a:lnTo>
                  <a:lnTo>
                    <a:pt x="1758" y="1625"/>
                  </a:lnTo>
                  <a:lnTo>
                    <a:pt x="1823" y="1651"/>
                  </a:lnTo>
                  <a:lnTo>
                    <a:pt x="1860" y="1684"/>
                  </a:lnTo>
                  <a:lnTo>
                    <a:pt x="1878" y="1691"/>
                  </a:lnTo>
                  <a:lnTo>
                    <a:pt x="1881" y="1709"/>
                  </a:lnTo>
                  <a:lnTo>
                    <a:pt x="1893" y="1728"/>
                  </a:lnTo>
                  <a:lnTo>
                    <a:pt x="1893" y="1743"/>
                  </a:lnTo>
                  <a:lnTo>
                    <a:pt x="1905" y="1767"/>
                  </a:lnTo>
                  <a:lnTo>
                    <a:pt x="1907" y="1779"/>
                  </a:lnTo>
                  <a:lnTo>
                    <a:pt x="1867" y="1831"/>
                  </a:lnTo>
                  <a:lnTo>
                    <a:pt x="1845" y="1847"/>
                  </a:lnTo>
                  <a:lnTo>
                    <a:pt x="1844" y="1863"/>
                  </a:lnTo>
                  <a:lnTo>
                    <a:pt x="1837" y="1882"/>
                  </a:lnTo>
                  <a:lnTo>
                    <a:pt x="1842" y="1897"/>
                  </a:lnTo>
                  <a:lnTo>
                    <a:pt x="1859" y="1924"/>
                  </a:lnTo>
                  <a:lnTo>
                    <a:pt x="1850" y="1931"/>
                  </a:lnTo>
                  <a:lnTo>
                    <a:pt x="1866" y="1954"/>
                  </a:lnTo>
                  <a:lnTo>
                    <a:pt x="1867" y="1963"/>
                  </a:lnTo>
                  <a:lnTo>
                    <a:pt x="1881" y="1981"/>
                  </a:lnTo>
                  <a:lnTo>
                    <a:pt x="1904" y="2055"/>
                  </a:lnTo>
                  <a:lnTo>
                    <a:pt x="1927" y="2061"/>
                  </a:lnTo>
                  <a:lnTo>
                    <a:pt x="1934" y="2080"/>
                  </a:lnTo>
                  <a:lnTo>
                    <a:pt x="1927" y="2093"/>
                  </a:lnTo>
                  <a:lnTo>
                    <a:pt x="1910" y="2128"/>
                  </a:lnTo>
                  <a:lnTo>
                    <a:pt x="1874" y="2109"/>
                  </a:lnTo>
                  <a:lnTo>
                    <a:pt x="1855" y="2119"/>
                  </a:lnTo>
                  <a:lnTo>
                    <a:pt x="1826" y="2121"/>
                  </a:lnTo>
                  <a:lnTo>
                    <a:pt x="1796" y="2142"/>
                  </a:lnTo>
                  <a:lnTo>
                    <a:pt x="1782" y="2145"/>
                  </a:lnTo>
                  <a:lnTo>
                    <a:pt x="1772" y="2154"/>
                  </a:lnTo>
                  <a:lnTo>
                    <a:pt x="1758" y="2185"/>
                  </a:lnTo>
                  <a:lnTo>
                    <a:pt x="1755" y="2212"/>
                  </a:lnTo>
                  <a:lnTo>
                    <a:pt x="1712" y="2193"/>
                  </a:lnTo>
                  <a:lnTo>
                    <a:pt x="1686" y="2191"/>
                  </a:lnTo>
                  <a:lnTo>
                    <a:pt x="1641" y="2164"/>
                  </a:lnTo>
                  <a:lnTo>
                    <a:pt x="1613" y="2140"/>
                  </a:lnTo>
                  <a:lnTo>
                    <a:pt x="1607" y="2149"/>
                  </a:lnTo>
                  <a:lnTo>
                    <a:pt x="1589" y="2201"/>
                  </a:lnTo>
                  <a:lnTo>
                    <a:pt x="1561" y="2243"/>
                  </a:lnTo>
                  <a:lnTo>
                    <a:pt x="1508" y="2230"/>
                  </a:lnTo>
                  <a:lnTo>
                    <a:pt x="1477" y="2243"/>
                  </a:lnTo>
                  <a:lnTo>
                    <a:pt x="1457" y="2225"/>
                  </a:lnTo>
                  <a:lnTo>
                    <a:pt x="1424" y="2191"/>
                  </a:lnTo>
                  <a:lnTo>
                    <a:pt x="1385" y="2176"/>
                  </a:lnTo>
                  <a:lnTo>
                    <a:pt x="1355" y="2157"/>
                  </a:lnTo>
                  <a:lnTo>
                    <a:pt x="1314" y="2099"/>
                  </a:lnTo>
                  <a:lnTo>
                    <a:pt x="1290" y="2076"/>
                  </a:lnTo>
                  <a:lnTo>
                    <a:pt x="1284" y="2059"/>
                  </a:lnTo>
                  <a:lnTo>
                    <a:pt x="1274" y="2003"/>
                  </a:lnTo>
                  <a:lnTo>
                    <a:pt x="1268" y="1985"/>
                  </a:lnTo>
                  <a:lnTo>
                    <a:pt x="1224" y="1901"/>
                  </a:lnTo>
                  <a:lnTo>
                    <a:pt x="1213" y="1890"/>
                  </a:lnTo>
                  <a:lnTo>
                    <a:pt x="1188" y="1915"/>
                  </a:lnTo>
                  <a:lnTo>
                    <a:pt x="1161" y="1915"/>
                  </a:lnTo>
                  <a:lnTo>
                    <a:pt x="1109" y="1894"/>
                  </a:lnTo>
                  <a:lnTo>
                    <a:pt x="1104" y="1902"/>
                  </a:lnTo>
                  <a:lnTo>
                    <a:pt x="1075" y="2022"/>
                  </a:lnTo>
                  <a:lnTo>
                    <a:pt x="1065" y="2037"/>
                  </a:lnTo>
                  <a:lnTo>
                    <a:pt x="1056" y="2043"/>
                  </a:lnTo>
                  <a:lnTo>
                    <a:pt x="1040" y="2041"/>
                  </a:lnTo>
                  <a:lnTo>
                    <a:pt x="1040" y="2031"/>
                  </a:lnTo>
                  <a:lnTo>
                    <a:pt x="1002" y="2019"/>
                  </a:lnTo>
                  <a:lnTo>
                    <a:pt x="966" y="2055"/>
                  </a:lnTo>
                  <a:lnTo>
                    <a:pt x="943" y="2056"/>
                  </a:lnTo>
                  <a:lnTo>
                    <a:pt x="888" y="2074"/>
                  </a:lnTo>
                  <a:lnTo>
                    <a:pt x="878" y="2083"/>
                  </a:lnTo>
                  <a:lnTo>
                    <a:pt x="869" y="2115"/>
                  </a:lnTo>
                  <a:lnTo>
                    <a:pt x="821" y="2063"/>
                  </a:lnTo>
                  <a:lnTo>
                    <a:pt x="840" y="2019"/>
                  </a:lnTo>
                  <a:lnTo>
                    <a:pt x="858" y="1996"/>
                  </a:lnTo>
                  <a:lnTo>
                    <a:pt x="884" y="1941"/>
                  </a:lnTo>
                  <a:lnTo>
                    <a:pt x="851" y="1918"/>
                  </a:lnTo>
                  <a:lnTo>
                    <a:pt x="833" y="1894"/>
                  </a:lnTo>
                  <a:lnTo>
                    <a:pt x="799" y="1882"/>
                  </a:lnTo>
                  <a:lnTo>
                    <a:pt x="776" y="1865"/>
                  </a:lnTo>
                  <a:lnTo>
                    <a:pt x="769" y="1863"/>
                  </a:lnTo>
                  <a:lnTo>
                    <a:pt x="770" y="1843"/>
                  </a:lnTo>
                  <a:lnTo>
                    <a:pt x="755" y="1834"/>
                  </a:lnTo>
                  <a:lnTo>
                    <a:pt x="717" y="1846"/>
                  </a:lnTo>
                  <a:lnTo>
                    <a:pt x="689" y="1926"/>
                  </a:lnTo>
                  <a:lnTo>
                    <a:pt x="678" y="1912"/>
                  </a:lnTo>
                  <a:lnTo>
                    <a:pt x="630" y="1918"/>
                  </a:lnTo>
                  <a:lnTo>
                    <a:pt x="591" y="1963"/>
                  </a:lnTo>
                  <a:lnTo>
                    <a:pt x="584" y="1967"/>
                  </a:lnTo>
                  <a:lnTo>
                    <a:pt x="559" y="1974"/>
                  </a:lnTo>
                  <a:lnTo>
                    <a:pt x="551" y="1983"/>
                  </a:lnTo>
                  <a:lnTo>
                    <a:pt x="539" y="2026"/>
                  </a:lnTo>
                  <a:lnTo>
                    <a:pt x="505" y="2045"/>
                  </a:lnTo>
                  <a:lnTo>
                    <a:pt x="453" y="2023"/>
                  </a:lnTo>
                  <a:lnTo>
                    <a:pt x="450" y="2013"/>
                  </a:lnTo>
                  <a:lnTo>
                    <a:pt x="416" y="2015"/>
                  </a:lnTo>
                  <a:lnTo>
                    <a:pt x="373" y="2002"/>
                  </a:lnTo>
                  <a:lnTo>
                    <a:pt x="368" y="2008"/>
                  </a:lnTo>
                  <a:lnTo>
                    <a:pt x="366" y="2017"/>
                  </a:lnTo>
                  <a:lnTo>
                    <a:pt x="366" y="2023"/>
                  </a:lnTo>
                  <a:lnTo>
                    <a:pt x="367" y="2032"/>
                  </a:lnTo>
                  <a:lnTo>
                    <a:pt x="369" y="2044"/>
                  </a:lnTo>
                  <a:lnTo>
                    <a:pt x="380" y="2052"/>
                  </a:lnTo>
                  <a:lnTo>
                    <a:pt x="385" y="2057"/>
                  </a:lnTo>
                  <a:lnTo>
                    <a:pt x="391" y="2068"/>
                  </a:lnTo>
                  <a:lnTo>
                    <a:pt x="389" y="2077"/>
                  </a:lnTo>
                  <a:lnTo>
                    <a:pt x="381" y="2091"/>
                  </a:lnTo>
                  <a:lnTo>
                    <a:pt x="377" y="2083"/>
                  </a:lnTo>
                  <a:lnTo>
                    <a:pt x="365" y="2065"/>
                  </a:lnTo>
                  <a:lnTo>
                    <a:pt x="349" y="2046"/>
                  </a:lnTo>
                  <a:lnTo>
                    <a:pt x="311" y="2020"/>
                  </a:lnTo>
                  <a:lnTo>
                    <a:pt x="293" y="2002"/>
                  </a:lnTo>
                  <a:lnTo>
                    <a:pt x="272" y="1944"/>
                  </a:lnTo>
                  <a:lnTo>
                    <a:pt x="265" y="1907"/>
                  </a:lnTo>
                  <a:lnTo>
                    <a:pt x="264" y="1902"/>
                  </a:lnTo>
                  <a:lnTo>
                    <a:pt x="260" y="1883"/>
                  </a:lnTo>
                  <a:lnTo>
                    <a:pt x="257" y="1861"/>
                  </a:lnTo>
                  <a:lnTo>
                    <a:pt x="255" y="1793"/>
                  </a:lnTo>
                  <a:lnTo>
                    <a:pt x="266" y="1756"/>
                  </a:lnTo>
                  <a:lnTo>
                    <a:pt x="297" y="1704"/>
                  </a:lnTo>
                  <a:lnTo>
                    <a:pt x="315" y="1639"/>
                  </a:lnTo>
                  <a:lnTo>
                    <a:pt x="317" y="1625"/>
                  </a:lnTo>
                  <a:lnTo>
                    <a:pt x="312" y="1585"/>
                  </a:lnTo>
                  <a:lnTo>
                    <a:pt x="313" y="1577"/>
                  </a:lnTo>
                  <a:lnTo>
                    <a:pt x="297" y="1577"/>
                  </a:lnTo>
                  <a:lnTo>
                    <a:pt x="273" y="1578"/>
                  </a:lnTo>
                  <a:lnTo>
                    <a:pt x="249" y="1570"/>
                  </a:lnTo>
                  <a:lnTo>
                    <a:pt x="239" y="1548"/>
                  </a:lnTo>
                  <a:lnTo>
                    <a:pt x="260" y="1522"/>
                  </a:lnTo>
                  <a:lnTo>
                    <a:pt x="251" y="1513"/>
                  </a:lnTo>
                  <a:lnTo>
                    <a:pt x="228" y="1510"/>
                  </a:lnTo>
                  <a:lnTo>
                    <a:pt x="234" y="1491"/>
                  </a:lnTo>
                  <a:lnTo>
                    <a:pt x="209" y="1468"/>
                  </a:lnTo>
                  <a:lnTo>
                    <a:pt x="192" y="1439"/>
                  </a:lnTo>
                  <a:lnTo>
                    <a:pt x="182" y="1438"/>
                  </a:lnTo>
                  <a:lnTo>
                    <a:pt x="123" y="1374"/>
                  </a:lnTo>
                  <a:lnTo>
                    <a:pt x="114" y="1350"/>
                  </a:lnTo>
                  <a:lnTo>
                    <a:pt x="84" y="1324"/>
                  </a:lnTo>
                  <a:lnTo>
                    <a:pt x="95" y="1301"/>
                  </a:lnTo>
                  <a:lnTo>
                    <a:pt x="129" y="1277"/>
                  </a:lnTo>
                  <a:lnTo>
                    <a:pt x="126" y="1219"/>
                  </a:lnTo>
                  <a:lnTo>
                    <a:pt x="121" y="1203"/>
                  </a:lnTo>
                  <a:lnTo>
                    <a:pt x="101" y="1177"/>
                  </a:lnTo>
                  <a:lnTo>
                    <a:pt x="85" y="1149"/>
                  </a:lnTo>
                  <a:lnTo>
                    <a:pt x="45" y="1145"/>
                  </a:lnTo>
                  <a:lnTo>
                    <a:pt x="41" y="1129"/>
                  </a:lnTo>
                  <a:lnTo>
                    <a:pt x="9" y="1087"/>
                  </a:lnTo>
                  <a:lnTo>
                    <a:pt x="6" y="1077"/>
                  </a:lnTo>
                  <a:lnTo>
                    <a:pt x="5" y="1049"/>
                  </a:lnTo>
                  <a:lnTo>
                    <a:pt x="13" y="1011"/>
                  </a:lnTo>
                  <a:lnTo>
                    <a:pt x="0" y="982"/>
                  </a:lnTo>
                  <a:lnTo>
                    <a:pt x="12" y="958"/>
                  </a:lnTo>
                  <a:lnTo>
                    <a:pt x="38" y="941"/>
                  </a:lnTo>
                  <a:lnTo>
                    <a:pt x="38" y="919"/>
                  </a:lnTo>
                  <a:lnTo>
                    <a:pt x="59" y="907"/>
                  </a:lnTo>
                  <a:lnTo>
                    <a:pt x="68" y="881"/>
                  </a:lnTo>
                  <a:lnTo>
                    <a:pt x="93" y="857"/>
                  </a:lnTo>
                  <a:lnTo>
                    <a:pt x="116" y="846"/>
                  </a:lnTo>
                  <a:lnTo>
                    <a:pt x="117" y="843"/>
                  </a:lnTo>
                  <a:lnTo>
                    <a:pt x="74" y="807"/>
                  </a:lnTo>
                  <a:lnTo>
                    <a:pt x="96" y="809"/>
                  </a:lnTo>
                  <a:lnTo>
                    <a:pt x="111" y="805"/>
                  </a:lnTo>
                  <a:lnTo>
                    <a:pt x="128" y="786"/>
                  </a:lnTo>
                  <a:lnTo>
                    <a:pt x="161" y="805"/>
                  </a:lnTo>
                  <a:lnTo>
                    <a:pt x="197" y="809"/>
                  </a:lnTo>
                  <a:lnTo>
                    <a:pt x="233" y="821"/>
                  </a:lnTo>
                  <a:lnTo>
                    <a:pt x="236" y="816"/>
                  </a:lnTo>
                  <a:lnTo>
                    <a:pt x="233" y="783"/>
                  </a:lnTo>
                  <a:lnTo>
                    <a:pt x="225" y="759"/>
                  </a:lnTo>
                  <a:lnTo>
                    <a:pt x="213" y="741"/>
                  </a:lnTo>
                  <a:lnTo>
                    <a:pt x="221" y="730"/>
                  </a:lnTo>
                  <a:lnTo>
                    <a:pt x="217" y="720"/>
                  </a:lnTo>
                  <a:lnTo>
                    <a:pt x="221" y="708"/>
                  </a:lnTo>
                  <a:lnTo>
                    <a:pt x="216" y="702"/>
                  </a:lnTo>
                  <a:lnTo>
                    <a:pt x="258" y="695"/>
                  </a:lnTo>
                  <a:lnTo>
                    <a:pt x="279" y="681"/>
                  </a:lnTo>
                  <a:lnTo>
                    <a:pt x="319" y="700"/>
                  </a:lnTo>
                  <a:lnTo>
                    <a:pt x="336" y="682"/>
                  </a:lnTo>
                  <a:lnTo>
                    <a:pt x="337" y="666"/>
                  </a:lnTo>
                  <a:lnTo>
                    <a:pt x="326" y="660"/>
                  </a:lnTo>
                  <a:lnTo>
                    <a:pt x="321" y="645"/>
                  </a:lnTo>
                  <a:lnTo>
                    <a:pt x="309" y="633"/>
                  </a:lnTo>
                  <a:lnTo>
                    <a:pt x="311" y="612"/>
                  </a:lnTo>
                  <a:lnTo>
                    <a:pt x="302" y="604"/>
                  </a:lnTo>
                  <a:lnTo>
                    <a:pt x="299" y="589"/>
                  </a:lnTo>
                  <a:lnTo>
                    <a:pt x="295" y="568"/>
                  </a:lnTo>
                  <a:lnTo>
                    <a:pt x="290" y="552"/>
                  </a:lnTo>
                  <a:lnTo>
                    <a:pt x="285" y="545"/>
                  </a:lnTo>
                  <a:lnTo>
                    <a:pt x="275" y="539"/>
                  </a:lnTo>
                  <a:lnTo>
                    <a:pt x="258" y="538"/>
                  </a:lnTo>
                  <a:lnTo>
                    <a:pt x="240" y="534"/>
                  </a:lnTo>
                  <a:lnTo>
                    <a:pt x="242" y="525"/>
                  </a:lnTo>
                  <a:lnTo>
                    <a:pt x="235" y="498"/>
                  </a:lnTo>
                  <a:lnTo>
                    <a:pt x="224" y="486"/>
                  </a:lnTo>
                  <a:lnTo>
                    <a:pt x="216" y="484"/>
                  </a:lnTo>
                  <a:lnTo>
                    <a:pt x="201" y="481"/>
                  </a:lnTo>
                  <a:lnTo>
                    <a:pt x="193" y="474"/>
                  </a:lnTo>
                  <a:lnTo>
                    <a:pt x="187" y="463"/>
                  </a:lnTo>
                  <a:lnTo>
                    <a:pt x="182" y="448"/>
                  </a:lnTo>
                  <a:lnTo>
                    <a:pt x="175" y="442"/>
                  </a:lnTo>
                  <a:lnTo>
                    <a:pt x="170" y="441"/>
                  </a:lnTo>
                  <a:lnTo>
                    <a:pt x="161" y="437"/>
                  </a:lnTo>
                  <a:lnTo>
                    <a:pt x="152" y="427"/>
                  </a:lnTo>
                  <a:lnTo>
                    <a:pt x="140" y="406"/>
                  </a:lnTo>
                  <a:lnTo>
                    <a:pt x="131" y="393"/>
                  </a:lnTo>
                  <a:lnTo>
                    <a:pt x="126" y="377"/>
                  </a:lnTo>
                  <a:lnTo>
                    <a:pt x="123" y="334"/>
                  </a:lnTo>
                  <a:lnTo>
                    <a:pt x="126" y="285"/>
                  </a:lnTo>
                  <a:lnTo>
                    <a:pt x="133" y="213"/>
                  </a:lnTo>
                  <a:lnTo>
                    <a:pt x="135" y="190"/>
                  </a:lnTo>
                  <a:lnTo>
                    <a:pt x="145" y="181"/>
                  </a:lnTo>
                  <a:lnTo>
                    <a:pt x="163" y="178"/>
                  </a:lnTo>
                  <a:lnTo>
                    <a:pt x="170" y="172"/>
                  </a:lnTo>
                  <a:lnTo>
                    <a:pt x="175" y="165"/>
                  </a:lnTo>
                  <a:lnTo>
                    <a:pt x="182" y="162"/>
                  </a:lnTo>
                  <a:lnTo>
                    <a:pt x="186" y="153"/>
                  </a:lnTo>
                  <a:lnTo>
                    <a:pt x="187" y="142"/>
                  </a:lnTo>
                  <a:lnTo>
                    <a:pt x="183" y="126"/>
                  </a:lnTo>
                  <a:lnTo>
                    <a:pt x="181" y="118"/>
                  </a:lnTo>
                  <a:lnTo>
                    <a:pt x="182" y="111"/>
                  </a:lnTo>
                  <a:lnTo>
                    <a:pt x="192" y="105"/>
                  </a:lnTo>
                  <a:lnTo>
                    <a:pt x="197" y="95"/>
                  </a:lnTo>
                  <a:lnTo>
                    <a:pt x="189" y="82"/>
                  </a:lnTo>
                  <a:lnTo>
                    <a:pt x="180" y="75"/>
                  </a:lnTo>
                  <a:lnTo>
                    <a:pt x="188" y="66"/>
                  </a:lnTo>
                  <a:lnTo>
                    <a:pt x="204" y="57"/>
                  </a:lnTo>
                  <a:lnTo>
                    <a:pt x="216" y="53"/>
                  </a:lnTo>
                  <a:lnTo>
                    <a:pt x="223" y="52"/>
                  </a:lnTo>
                  <a:lnTo>
                    <a:pt x="233" y="53"/>
                  </a:lnTo>
                  <a:lnTo>
                    <a:pt x="245" y="53"/>
                  </a:lnTo>
                  <a:lnTo>
                    <a:pt x="253" y="54"/>
                  </a:lnTo>
                  <a:lnTo>
                    <a:pt x="261" y="49"/>
                  </a:lnTo>
                  <a:lnTo>
                    <a:pt x="270" y="45"/>
                  </a:lnTo>
                  <a:lnTo>
                    <a:pt x="276" y="41"/>
                  </a:lnTo>
                  <a:lnTo>
                    <a:pt x="281" y="37"/>
                  </a:lnTo>
                  <a:lnTo>
                    <a:pt x="288" y="35"/>
                  </a:lnTo>
                  <a:lnTo>
                    <a:pt x="299" y="25"/>
                  </a:lnTo>
                  <a:lnTo>
                    <a:pt x="307" y="13"/>
                  </a:lnTo>
                  <a:lnTo>
                    <a:pt x="320" y="0"/>
                  </a:lnTo>
                  <a:lnTo>
                    <a:pt x="329" y="3"/>
                  </a:lnTo>
                  <a:lnTo>
                    <a:pt x="343" y="3"/>
                  </a:lnTo>
                  <a:lnTo>
                    <a:pt x="345" y="0"/>
                  </a:lnTo>
                  <a:lnTo>
                    <a:pt x="378" y="84"/>
                  </a:lnTo>
                  <a:lnTo>
                    <a:pt x="385" y="83"/>
                  </a:lnTo>
                  <a:lnTo>
                    <a:pt x="336" y="1038"/>
                  </a:lnTo>
                  <a:lnTo>
                    <a:pt x="383" y="1037"/>
                  </a:lnTo>
                  <a:lnTo>
                    <a:pt x="374" y="1095"/>
                  </a:lnTo>
                  <a:lnTo>
                    <a:pt x="441" y="1122"/>
                  </a:lnTo>
                  <a:lnTo>
                    <a:pt x="408" y="1179"/>
                  </a:lnTo>
                  <a:lnTo>
                    <a:pt x="443" y="1183"/>
                  </a:lnTo>
                  <a:lnTo>
                    <a:pt x="445" y="1200"/>
                  </a:lnTo>
                  <a:lnTo>
                    <a:pt x="414" y="1210"/>
                  </a:lnTo>
                  <a:lnTo>
                    <a:pt x="420" y="1242"/>
                  </a:lnTo>
                  <a:lnTo>
                    <a:pt x="463" y="1243"/>
                  </a:lnTo>
                  <a:lnTo>
                    <a:pt x="458" y="1281"/>
                  </a:lnTo>
                  <a:lnTo>
                    <a:pt x="435" y="1294"/>
                  </a:lnTo>
                  <a:lnTo>
                    <a:pt x="447" y="1312"/>
                  </a:lnTo>
                  <a:lnTo>
                    <a:pt x="426" y="1319"/>
                  </a:lnTo>
                  <a:lnTo>
                    <a:pt x="403" y="1281"/>
                  </a:lnTo>
                  <a:lnTo>
                    <a:pt x="390" y="1290"/>
                  </a:lnTo>
                  <a:lnTo>
                    <a:pt x="403" y="1320"/>
                  </a:lnTo>
                  <a:lnTo>
                    <a:pt x="367" y="1361"/>
                  </a:lnTo>
                  <a:lnTo>
                    <a:pt x="391" y="1378"/>
                  </a:lnTo>
                  <a:lnTo>
                    <a:pt x="429" y="1327"/>
                  </a:lnTo>
                  <a:lnTo>
                    <a:pt x="471" y="1354"/>
                  </a:lnTo>
                  <a:lnTo>
                    <a:pt x="482" y="1363"/>
                  </a:lnTo>
                  <a:lnTo>
                    <a:pt x="525" y="1318"/>
                  </a:lnTo>
                  <a:lnTo>
                    <a:pt x="542" y="1354"/>
                  </a:lnTo>
                  <a:lnTo>
                    <a:pt x="575" y="1361"/>
                  </a:lnTo>
                  <a:lnTo>
                    <a:pt x="561" y="1283"/>
                  </a:lnTo>
                  <a:lnTo>
                    <a:pt x="547" y="1288"/>
                  </a:lnTo>
                  <a:lnTo>
                    <a:pt x="548" y="1265"/>
                  </a:lnTo>
                  <a:lnTo>
                    <a:pt x="569" y="1261"/>
                  </a:lnTo>
                  <a:lnTo>
                    <a:pt x="589" y="1365"/>
                  </a:lnTo>
                  <a:lnTo>
                    <a:pt x="625" y="1372"/>
                  </a:lnTo>
                  <a:lnTo>
                    <a:pt x="603" y="1317"/>
                  </a:lnTo>
                  <a:lnTo>
                    <a:pt x="611" y="1265"/>
                  </a:lnTo>
                  <a:lnTo>
                    <a:pt x="630" y="1254"/>
                  </a:lnTo>
                  <a:lnTo>
                    <a:pt x="667" y="1317"/>
                  </a:lnTo>
                  <a:lnTo>
                    <a:pt x="661" y="1362"/>
                  </a:lnTo>
                  <a:lnTo>
                    <a:pt x="689" y="1369"/>
                  </a:lnTo>
                  <a:lnTo>
                    <a:pt x="707" y="1319"/>
                  </a:lnTo>
                  <a:lnTo>
                    <a:pt x="667" y="1301"/>
                  </a:lnTo>
                  <a:lnTo>
                    <a:pt x="653" y="1279"/>
                  </a:lnTo>
                  <a:lnTo>
                    <a:pt x="662" y="1258"/>
                  </a:lnTo>
                  <a:lnTo>
                    <a:pt x="717" y="1301"/>
                  </a:lnTo>
                  <a:lnTo>
                    <a:pt x="759" y="1255"/>
                  </a:lnTo>
                  <a:lnTo>
                    <a:pt x="697" y="1243"/>
                  </a:lnTo>
                  <a:lnTo>
                    <a:pt x="710" y="1233"/>
                  </a:lnTo>
                  <a:lnTo>
                    <a:pt x="654" y="1195"/>
                  </a:lnTo>
                  <a:lnTo>
                    <a:pt x="675" y="1164"/>
                  </a:lnTo>
                  <a:lnTo>
                    <a:pt x="750" y="1164"/>
                  </a:lnTo>
                  <a:lnTo>
                    <a:pt x="779" y="1182"/>
                  </a:lnTo>
                  <a:lnTo>
                    <a:pt x="740" y="1216"/>
                  </a:lnTo>
                  <a:lnTo>
                    <a:pt x="783" y="1228"/>
                  </a:lnTo>
                  <a:lnTo>
                    <a:pt x="851" y="1191"/>
                  </a:lnTo>
                  <a:lnTo>
                    <a:pt x="819" y="1135"/>
                  </a:lnTo>
                  <a:lnTo>
                    <a:pt x="721" y="1149"/>
                  </a:lnTo>
                  <a:lnTo>
                    <a:pt x="733" y="1137"/>
                  </a:lnTo>
                  <a:lnTo>
                    <a:pt x="720" y="1115"/>
                  </a:lnTo>
                  <a:lnTo>
                    <a:pt x="753" y="1111"/>
                  </a:lnTo>
                  <a:lnTo>
                    <a:pt x="771" y="1075"/>
                  </a:lnTo>
                  <a:lnTo>
                    <a:pt x="756" y="1056"/>
                  </a:lnTo>
                  <a:lnTo>
                    <a:pt x="689" y="1062"/>
                  </a:lnTo>
                  <a:lnTo>
                    <a:pt x="708" y="1097"/>
                  </a:lnTo>
                  <a:lnTo>
                    <a:pt x="674" y="1104"/>
                  </a:lnTo>
                  <a:lnTo>
                    <a:pt x="681" y="1087"/>
                  </a:lnTo>
                  <a:lnTo>
                    <a:pt x="657" y="1066"/>
                  </a:lnTo>
                  <a:lnTo>
                    <a:pt x="631" y="1093"/>
                  </a:lnTo>
                  <a:lnTo>
                    <a:pt x="607" y="1072"/>
                  </a:lnTo>
                  <a:lnTo>
                    <a:pt x="643" y="1024"/>
                  </a:lnTo>
                  <a:lnTo>
                    <a:pt x="593" y="969"/>
                  </a:lnTo>
                  <a:lnTo>
                    <a:pt x="581" y="991"/>
                  </a:lnTo>
                  <a:lnTo>
                    <a:pt x="527" y="954"/>
                  </a:lnTo>
                  <a:lnTo>
                    <a:pt x="483" y="969"/>
                  </a:lnTo>
                  <a:lnTo>
                    <a:pt x="480" y="1005"/>
                  </a:lnTo>
                  <a:lnTo>
                    <a:pt x="465" y="957"/>
                  </a:lnTo>
                  <a:lnTo>
                    <a:pt x="426" y="969"/>
                  </a:lnTo>
                  <a:lnTo>
                    <a:pt x="446" y="982"/>
                  </a:lnTo>
                  <a:lnTo>
                    <a:pt x="431" y="1011"/>
                  </a:lnTo>
                  <a:lnTo>
                    <a:pt x="458" y="1068"/>
                  </a:lnTo>
                  <a:lnTo>
                    <a:pt x="426" y="1069"/>
                  </a:lnTo>
                  <a:lnTo>
                    <a:pt x="399" y="1039"/>
                  </a:lnTo>
                  <a:lnTo>
                    <a:pt x="407" y="993"/>
                  </a:lnTo>
                  <a:lnTo>
                    <a:pt x="368" y="973"/>
                  </a:lnTo>
                  <a:lnTo>
                    <a:pt x="355" y="990"/>
                  </a:lnTo>
                  <a:lnTo>
                    <a:pt x="377" y="1013"/>
                  </a:lnTo>
                  <a:lnTo>
                    <a:pt x="353" y="1009"/>
                  </a:lnTo>
                  <a:lnTo>
                    <a:pt x="336" y="1038"/>
                  </a:lnTo>
                  <a:lnTo>
                    <a:pt x="385" y="83"/>
                  </a:lnTo>
                  <a:close/>
                </a:path>
              </a:pathLst>
            </a:custGeom>
            <a:solidFill>
              <a:srgbClr val="ff6600"/>
            </a:solidFill>
            <a:ln w="14400">
              <a:solidFill>
                <a:srgbClr val="4f598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792520" y="3629520"/>
              <a:ext cx="1451880" cy="22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920" rIns="70920" tIns="35280" bIns="35280" anchor="b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RFK GF 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179280" y="2495160"/>
              <a:ext cx="1890720" cy="2583000"/>
              <a:chOff x="179280" y="2495160"/>
              <a:chExt cx="1890720" cy="2583000"/>
            </a:xfrm>
          </p:grpSpPr>
          <p:sp>
            <p:nvSpPr>
              <p:cNvPr id="354" name=""/>
              <p:cNvSpPr/>
              <p:nvPr/>
            </p:nvSpPr>
            <p:spPr>
              <a:xfrm>
                <a:off x="453600" y="3943440"/>
                <a:ext cx="1052640" cy="1134720"/>
              </a:xfrm>
              <a:custGeom>
                <a:avLst/>
                <a:gdLst/>
                <a:ahLst/>
                <a:rect l="l" t="t" r="r" b="b"/>
                <a:pathLst>
                  <a:path w="1392" h="1517">
                    <a:moveTo>
                      <a:pt x="924" y="51"/>
                    </a:moveTo>
                    <a:lnTo>
                      <a:pt x="924" y="63"/>
                    </a:lnTo>
                    <a:lnTo>
                      <a:pt x="932" y="64"/>
                    </a:lnTo>
                    <a:lnTo>
                      <a:pt x="945" y="56"/>
                    </a:lnTo>
                    <a:lnTo>
                      <a:pt x="966" y="60"/>
                    </a:lnTo>
                    <a:lnTo>
                      <a:pt x="967" y="52"/>
                    </a:lnTo>
                    <a:lnTo>
                      <a:pt x="960" y="24"/>
                    </a:lnTo>
                    <a:lnTo>
                      <a:pt x="968" y="0"/>
                    </a:lnTo>
                    <a:lnTo>
                      <a:pt x="1013" y="46"/>
                    </a:lnTo>
                    <a:lnTo>
                      <a:pt x="1019" y="57"/>
                    </a:lnTo>
                    <a:lnTo>
                      <a:pt x="1052" y="74"/>
                    </a:lnTo>
                    <a:lnTo>
                      <a:pt x="1053" y="98"/>
                    </a:lnTo>
                    <a:lnTo>
                      <a:pt x="1059" y="105"/>
                    </a:lnTo>
                    <a:lnTo>
                      <a:pt x="1088" y="116"/>
                    </a:lnTo>
                    <a:lnTo>
                      <a:pt x="1094" y="110"/>
                    </a:lnTo>
                    <a:lnTo>
                      <a:pt x="1103" y="111"/>
                    </a:lnTo>
                    <a:lnTo>
                      <a:pt x="1129" y="99"/>
                    </a:lnTo>
                    <a:lnTo>
                      <a:pt x="1135" y="102"/>
                    </a:lnTo>
                    <a:lnTo>
                      <a:pt x="1134" y="113"/>
                    </a:lnTo>
                    <a:lnTo>
                      <a:pt x="1148" y="120"/>
                    </a:lnTo>
                    <a:lnTo>
                      <a:pt x="1158" y="131"/>
                    </a:lnTo>
                    <a:lnTo>
                      <a:pt x="1160" y="144"/>
                    </a:lnTo>
                    <a:lnTo>
                      <a:pt x="1170" y="143"/>
                    </a:lnTo>
                    <a:lnTo>
                      <a:pt x="1187" y="159"/>
                    </a:lnTo>
                    <a:lnTo>
                      <a:pt x="1184" y="162"/>
                    </a:lnTo>
                    <a:lnTo>
                      <a:pt x="1187" y="183"/>
                    </a:lnTo>
                    <a:lnTo>
                      <a:pt x="1178" y="195"/>
                    </a:lnTo>
                    <a:lnTo>
                      <a:pt x="1178" y="207"/>
                    </a:lnTo>
                    <a:lnTo>
                      <a:pt x="1158" y="227"/>
                    </a:lnTo>
                    <a:lnTo>
                      <a:pt x="1160" y="242"/>
                    </a:lnTo>
                    <a:lnTo>
                      <a:pt x="1164" y="252"/>
                    </a:lnTo>
                    <a:lnTo>
                      <a:pt x="1188" y="254"/>
                    </a:lnTo>
                    <a:lnTo>
                      <a:pt x="1207" y="262"/>
                    </a:lnTo>
                    <a:lnTo>
                      <a:pt x="1220" y="257"/>
                    </a:lnTo>
                    <a:lnTo>
                      <a:pt x="1238" y="261"/>
                    </a:lnTo>
                    <a:lnTo>
                      <a:pt x="1249" y="273"/>
                    </a:lnTo>
                    <a:lnTo>
                      <a:pt x="1265" y="308"/>
                    </a:lnTo>
                    <a:lnTo>
                      <a:pt x="1283" y="315"/>
                    </a:lnTo>
                    <a:lnTo>
                      <a:pt x="1291" y="328"/>
                    </a:lnTo>
                    <a:lnTo>
                      <a:pt x="1275" y="352"/>
                    </a:lnTo>
                    <a:lnTo>
                      <a:pt x="1286" y="359"/>
                    </a:lnTo>
                    <a:lnTo>
                      <a:pt x="1298" y="382"/>
                    </a:lnTo>
                    <a:lnTo>
                      <a:pt x="1286" y="404"/>
                    </a:lnTo>
                    <a:lnTo>
                      <a:pt x="1279" y="414"/>
                    </a:lnTo>
                    <a:lnTo>
                      <a:pt x="1280" y="429"/>
                    </a:lnTo>
                    <a:lnTo>
                      <a:pt x="1289" y="442"/>
                    </a:lnTo>
                    <a:lnTo>
                      <a:pt x="1321" y="472"/>
                    </a:lnTo>
                    <a:lnTo>
                      <a:pt x="1362" y="560"/>
                    </a:lnTo>
                    <a:lnTo>
                      <a:pt x="1392" y="611"/>
                    </a:lnTo>
                    <a:lnTo>
                      <a:pt x="1375" y="621"/>
                    </a:lnTo>
                    <a:lnTo>
                      <a:pt x="1337" y="636"/>
                    </a:lnTo>
                    <a:lnTo>
                      <a:pt x="1297" y="634"/>
                    </a:lnTo>
                    <a:lnTo>
                      <a:pt x="1254" y="626"/>
                    </a:lnTo>
                    <a:lnTo>
                      <a:pt x="1237" y="636"/>
                    </a:lnTo>
                    <a:lnTo>
                      <a:pt x="1226" y="666"/>
                    </a:lnTo>
                    <a:lnTo>
                      <a:pt x="1218" y="688"/>
                    </a:lnTo>
                    <a:lnTo>
                      <a:pt x="1201" y="719"/>
                    </a:lnTo>
                    <a:lnTo>
                      <a:pt x="1194" y="744"/>
                    </a:lnTo>
                    <a:lnTo>
                      <a:pt x="1181" y="742"/>
                    </a:lnTo>
                    <a:lnTo>
                      <a:pt x="1166" y="752"/>
                    </a:lnTo>
                    <a:lnTo>
                      <a:pt x="1159" y="780"/>
                    </a:lnTo>
                    <a:lnTo>
                      <a:pt x="1158" y="824"/>
                    </a:lnTo>
                    <a:lnTo>
                      <a:pt x="1151" y="867"/>
                    </a:lnTo>
                    <a:lnTo>
                      <a:pt x="1152" y="899"/>
                    </a:lnTo>
                    <a:lnTo>
                      <a:pt x="1165" y="1072"/>
                    </a:lnTo>
                    <a:lnTo>
                      <a:pt x="1167" y="1076"/>
                    </a:lnTo>
                    <a:lnTo>
                      <a:pt x="1133" y="1116"/>
                    </a:lnTo>
                    <a:lnTo>
                      <a:pt x="1116" y="1126"/>
                    </a:lnTo>
                    <a:lnTo>
                      <a:pt x="1115" y="1138"/>
                    </a:lnTo>
                    <a:lnTo>
                      <a:pt x="1122" y="1170"/>
                    </a:lnTo>
                    <a:lnTo>
                      <a:pt x="1122" y="1186"/>
                    </a:lnTo>
                    <a:lnTo>
                      <a:pt x="1112" y="1221"/>
                    </a:lnTo>
                    <a:lnTo>
                      <a:pt x="1104" y="1248"/>
                    </a:lnTo>
                    <a:lnTo>
                      <a:pt x="1103" y="1250"/>
                    </a:lnTo>
                    <a:lnTo>
                      <a:pt x="1088" y="1241"/>
                    </a:lnTo>
                    <a:lnTo>
                      <a:pt x="1049" y="1242"/>
                    </a:lnTo>
                    <a:lnTo>
                      <a:pt x="1037" y="1251"/>
                    </a:lnTo>
                    <a:lnTo>
                      <a:pt x="1038" y="1280"/>
                    </a:lnTo>
                    <a:lnTo>
                      <a:pt x="1035" y="1283"/>
                    </a:lnTo>
                    <a:lnTo>
                      <a:pt x="1003" y="1288"/>
                    </a:lnTo>
                    <a:lnTo>
                      <a:pt x="998" y="1272"/>
                    </a:lnTo>
                    <a:lnTo>
                      <a:pt x="971" y="1260"/>
                    </a:lnTo>
                    <a:lnTo>
                      <a:pt x="959" y="1264"/>
                    </a:lnTo>
                    <a:lnTo>
                      <a:pt x="953" y="1290"/>
                    </a:lnTo>
                    <a:lnTo>
                      <a:pt x="945" y="1296"/>
                    </a:lnTo>
                    <a:lnTo>
                      <a:pt x="936" y="1295"/>
                    </a:lnTo>
                    <a:lnTo>
                      <a:pt x="930" y="1265"/>
                    </a:lnTo>
                    <a:lnTo>
                      <a:pt x="907" y="1275"/>
                    </a:lnTo>
                    <a:lnTo>
                      <a:pt x="889" y="1302"/>
                    </a:lnTo>
                    <a:lnTo>
                      <a:pt x="890" y="1312"/>
                    </a:lnTo>
                    <a:lnTo>
                      <a:pt x="907" y="1329"/>
                    </a:lnTo>
                    <a:lnTo>
                      <a:pt x="925" y="1389"/>
                    </a:lnTo>
                    <a:lnTo>
                      <a:pt x="929" y="1422"/>
                    </a:lnTo>
                    <a:lnTo>
                      <a:pt x="917" y="1422"/>
                    </a:lnTo>
                    <a:lnTo>
                      <a:pt x="911" y="1427"/>
                    </a:lnTo>
                    <a:lnTo>
                      <a:pt x="908" y="1440"/>
                    </a:lnTo>
                    <a:lnTo>
                      <a:pt x="902" y="1440"/>
                    </a:lnTo>
                    <a:lnTo>
                      <a:pt x="899" y="1454"/>
                    </a:lnTo>
                    <a:lnTo>
                      <a:pt x="906" y="1466"/>
                    </a:lnTo>
                    <a:lnTo>
                      <a:pt x="870" y="1490"/>
                    </a:lnTo>
                    <a:lnTo>
                      <a:pt x="865" y="1490"/>
                    </a:lnTo>
                    <a:lnTo>
                      <a:pt x="860" y="1478"/>
                    </a:lnTo>
                    <a:lnTo>
                      <a:pt x="849" y="1470"/>
                    </a:lnTo>
                    <a:lnTo>
                      <a:pt x="845" y="1475"/>
                    </a:lnTo>
                    <a:lnTo>
                      <a:pt x="830" y="1478"/>
                    </a:lnTo>
                    <a:lnTo>
                      <a:pt x="827" y="1469"/>
                    </a:lnTo>
                    <a:lnTo>
                      <a:pt x="817" y="1488"/>
                    </a:lnTo>
                    <a:lnTo>
                      <a:pt x="795" y="1494"/>
                    </a:lnTo>
                    <a:lnTo>
                      <a:pt x="794" y="1510"/>
                    </a:lnTo>
                    <a:lnTo>
                      <a:pt x="779" y="1517"/>
                    </a:lnTo>
                    <a:lnTo>
                      <a:pt x="774" y="1508"/>
                    </a:lnTo>
                    <a:lnTo>
                      <a:pt x="764" y="1505"/>
                    </a:lnTo>
                    <a:lnTo>
                      <a:pt x="763" y="1468"/>
                    </a:lnTo>
                    <a:lnTo>
                      <a:pt x="759" y="1462"/>
                    </a:lnTo>
                    <a:lnTo>
                      <a:pt x="723" y="1466"/>
                    </a:lnTo>
                    <a:lnTo>
                      <a:pt x="690" y="1454"/>
                    </a:lnTo>
                    <a:lnTo>
                      <a:pt x="691" y="1434"/>
                    </a:lnTo>
                    <a:lnTo>
                      <a:pt x="692" y="1431"/>
                    </a:lnTo>
                    <a:lnTo>
                      <a:pt x="704" y="1427"/>
                    </a:lnTo>
                    <a:lnTo>
                      <a:pt x="689" y="1422"/>
                    </a:lnTo>
                    <a:lnTo>
                      <a:pt x="684" y="1419"/>
                    </a:lnTo>
                    <a:lnTo>
                      <a:pt x="684" y="1412"/>
                    </a:lnTo>
                    <a:lnTo>
                      <a:pt x="673" y="1406"/>
                    </a:lnTo>
                    <a:lnTo>
                      <a:pt x="677" y="1394"/>
                    </a:lnTo>
                    <a:lnTo>
                      <a:pt x="675" y="1390"/>
                    </a:lnTo>
                    <a:lnTo>
                      <a:pt x="667" y="1390"/>
                    </a:lnTo>
                    <a:lnTo>
                      <a:pt x="661" y="1385"/>
                    </a:lnTo>
                    <a:lnTo>
                      <a:pt x="655" y="1372"/>
                    </a:lnTo>
                    <a:lnTo>
                      <a:pt x="644" y="1368"/>
                    </a:lnTo>
                    <a:lnTo>
                      <a:pt x="636" y="1359"/>
                    </a:lnTo>
                    <a:lnTo>
                      <a:pt x="636" y="1356"/>
                    </a:lnTo>
                    <a:lnTo>
                      <a:pt x="627" y="1360"/>
                    </a:lnTo>
                    <a:lnTo>
                      <a:pt x="621" y="1353"/>
                    </a:lnTo>
                    <a:lnTo>
                      <a:pt x="613" y="1353"/>
                    </a:lnTo>
                    <a:lnTo>
                      <a:pt x="607" y="1344"/>
                    </a:lnTo>
                    <a:lnTo>
                      <a:pt x="599" y="1342"/>
                    </a:lnTo>
                    <a:lnTo>
                      <a:pt x="597" y="1329"/>
                    </a:lnTo>
                    <a:lnTo>
                      <a:pt x="594" y="1326"/>
                    </a:lnTo>
                    <a:lnTo>
                      <a:pt x="585" y="1324"/>
                    </a:lnTo>
                    <a:lnTo>
                      <a:pt x="572" y="1325"/>
                    </a:lnTo>
                    <a:lnTo>
                      <a:pt x="560" y="1338"/>
                    </a:lnTo>
                    <a:lnTo>
                      <a:pt x="548" y="1328"/>
                    </a:lnTo>
                    <a:lnTo>
                      <a:pt x="540" y="1341"/>
                    </a:lnTo>
                    <a:lnTo>
                      <a:pt x="534" y="1335"/>
                    </a:lnTo>
                    <a:lnTo>
                      <a:pt x="528" y="1320"/>
                    </a:lnTo>
                    <a:lnTo>
                      <a:pt x="512" y="1320"/>
                    </a:lnTo>
                    <a:lnTo>
                      <a:pt x="506" y="1293"/>
                    </a:lnTo>
                    <a:lnTo>
                      <a:pt x="501" y="1293"/>
                    </a:lnTo>
                    <a:lnTo>
                      <a:pt x="497" y="1296"/>
                    </a:lnTo>
                    <a:lnTo>
                      <a:pt x="492" y="1307"/>
                    </a:lnTo>
                    <a:lnTo>
                      <a:pt x="482" y="1313"/>
                    </a:lnTo>
                    <a:lnTo>
                      <a:pt x="476" y="1305"/>
                    </a:lnTo>
                    <a:lnTo>
                      <a:pt x="465" y="1280"/>
                    </a:lnTo>
                    <a:lnTo>
                      <a:pt x="438" y="1232"/>
                    </a:lnTo>
                    <a:lnTo>
                      <a:pt x="422" y="1209"/>
                    </a:lnTo>
                    <a:lnTo>
                      <a:pt x="408" y="1209"/>
                    </a:lnTo>
                    <a:lnTo>
                      <a:pt x="399" y="1203"/>
                    </a:lnTo>
                    <a:lnTo>
                      <a:pt x="405" y="1198"/>
                    </a:lnTo>
                    <a:lnTo>
                      <a:pt x="414" y="1190"/>
                    </a:lnTo>
                    <a:lnTo>
                      <a:pt x="413" y="1184"/>
                    </a:lnTo>
                    <a:lnTo>
                      <a:pt x="405" y="1178"/>
                    </a:lnTo>
                    <a:lnTo>
                      <a:pt x="391" y="1170"/>
                    </a:lnTo>
                    <a:lnTo>
                      <a:pt x="373" y="1168"/>
                    </a:lnTo>
                    <a:lnTo>
                      <a:pt x="314" y="1151"/>
                    </a:lnTo>
                    <a:lnTo>
                      <a:pt x="300" y="1146"/>
                    </a:lnTo>
                    <a:lnTo>
                      <a:pt x="242" y="1115"/>
                    </a:lnTo>
                    <a:lnTo>
                      <a:pt x="228" y="1103"/>
                    </a:lnTo>
                    <a:lnTo>
                      <a:pt x="221" y="1098"/>
                    </a:lnTo>
                    <a:lnTo>
                      <a:pt x="209" y="1092"/>
                    </a:lnTo>
                    <a:lnTo>
                      <a:pt x="221" y="1079"/>
                    </a:lnTo>
                    <a:lnTo>
                      <a:pt x="219" y="1070"/>
                    </a:lnTo>
                    <a:lnTo>
                      <a:pt x="207" y="1054"/>
                    </a:lnTo>
                    <a:lnTo>
                      <a:pt x="212" y="1032"/>
                    </a:lnTo>
                    <a:lnTo>
                      <a:pt x="200" y="1024"/>
                    </a:lnTo>
                    <a:lnTo>
                      <a:pt x="199" y="995"/>
                    </a:lnTo>
                    <a:lnTo>
                      <a:pt x="198" y="995"/>
                    </a:lnTo>
                    <a:lnTo>
                      <a:pt x="186" y="970"/>
                    </a:lnTo>
                    <a:lnTo>
                      <a:pt x="161" y="974"/>
                    </a:lnTo>
                    <a:lnTo>
                      <a:pt x="150" y="962"/>
                    </a:lnTo>
                    <a:lnTo>
                      <a:pt x="144" y="936"/>
                    </a:lnTo>
                    <a:lnTo>
                      <a:pt x="116" y="908"/>
                    </a:lnTo>
                    <a:lnTo>
                      <a:pt x="91" y="876"/>
                    </a:lnTo>
                    <a:lnTo>
                      <a:pt x="73" y="868"/>
                    </a:lnTo>
                    <a:lnTo>
                      <a:pt x="54" y="840"/>
                    </a:lnTo>
                    <a:lnTo>
                      <a:pt x="36" y="832"/>
                    </a:lnTo>
                    <a:lnTo>
                      <a:pt x="27" y="833"/>
                    </a:lnTo>
                    <a:lnTo>
                      <a:pt x="18" y="809"/>
                    </a:lnTo>
                    <a:lnTo>
                      <a:pt x="24" y="792"/>
                    </a:lnTo>
                    <a:lnTo>
                      <a:pt x="26" y="777"/>
                    </a:lnTo>
                    <a:lnTo>
                      <a:pt x="33" y="776"/>
                    </a:lnTo>
                    <a:lnTo>
                      <a:pt x="43" y="782"/>
                    </a:lnTo>
                    <a:lnTo>
                      <a:pt x="56" y="780"/>
                    </a:lnTo>
                    <a:lnTo>
                      <a:pt x="62" y="768"/>
                    </a:lnTo>
                    <a:lnTo>
                      <a:pt x="63" y="730"/>
                    </a:lnTo>
                    <a:lnTo>
                      <a:pt x="67" y="723"/>
                    </a:lnTo>
                    <a:lnTo>
                      <a:pt x="65" y="718"/>
                    </a:lnTo>
                    <a:lnTo>
                      <a:pt x="53" y="706"/>
                    </a:lnTo>
                    <a:lnTo>
                      <a:pt x="17" y="705"/>
                    </a:lnTo>
                    <a:lnTo>
                      <a:pt x="1" y="700"/>
                    </a:lnTo>
                    <a:lnTo>
                      <a:pt x="0" y="690"/>
                    </a:lnTo>
                    <a:lnTo>
                      <a:pt x="6" y="672"/>
                    </a:lnTo>
                    <a:lnTo>
                      <a:pt x="23" y="641"/>
                    </a:lnTo>
                    <a:lnTo>
                      <a:pt x="35" y="608"/>
                    </a:lnTo>
                    <a:lnTo>
                      <a:pt x="47" y="591"/>
                    </a:lnTo>
                    <a:lnTo>
                      <a:pt x="45" y="573"/>
                    </a:lnTo>
                    <a:lnTo>
                      <a:pt x="35" y="564"/>
                    </a:lnTo>
                    <a:lnTo>
                      <a:pt x="33" y="558"/>
                    </a:lnTo>
                    <a:lnTo>
                      <a:pt x="36" y="551"/>
                    </a:lnTo>
                    <a:lnTo>
                      <a:pt x="55" y="531"/>
                    </a:lnTo>
                    <a:lnTo>
                      <a:pt x="56" y="524"/>
                    </a:lnTo>
                    <a:lnTo>
                      <a:pt x="35" y="528"/>
                    </a:lnTo>
                    <a:lnTo>
                      <a:pt x="25" y="539"/>
                    </a:lnTo>
                    <a:lnTo>
                      <a:pt x="20" y="538"/>
                    </a:lnTo>
                    <a:lnTo>
                      <a:pt x="14" y="521"/>
                    </a:lnTo>
                    <a:lnTo>
                      <a:pt x="30" y="521"/>
                    </a:lnTo>
                    <a:lnTo>
                      <a:pt x="51" y="500"/>
                    </a:lnTo>
                    <a:lnTo>
                      <a:pt x="85" y="512"/>
                    </a:lnTo>
                    <a:lnTo>
                      <a:pt x="98" y="524"/>
                    </a:lnTo>
                    <a:lnTo>
                      <a:pt x="103" y="518"/>
                    </a:lnTo>
                    <a:lnTo>
                      <a:pt x="139" y="510"/>
                    </a:lnTo>
                    <a:lnTo>
                      <a:pt x="164" y="491"/>
                    </a:lnTo>
                    <a:lnTo>
                      <a:pt x="185" y="480"/>
                    </a:lnTo>
                    <a:lnTo>
                      <a:pt x="193" y="467"/>
                    </a:lnTo>
                    <a:lnTo>
                      <a:pt x="198" y="455"/>
                    </a:lnTo>
                    <a:lnTo>
                      <a:pt x="194" y="446"/>
                    </a:lnTo>
                    <a:lnTo>
                      <a:pt x="199" y="430"/>
                    </a:lnTo>
                    <a:lnTo>
                      <a:pt x="198" y="420"/>
                    </a:lnTo>
                    <a:lnTo>
                      <a:pt x="216" y="416"/>
                    </a:lnTo>
                    <a:lnTo>
                      <a:pt x="259" y="420"/>
                    </a:lnTo>
                    <a:lnTo>
                      <a:pt x="266" y="417"/>
                    </a:lnTo>
                    <a:lnTo>
                      <a:pt x="270" y="402"/>
                    </a:lnTo>
                    <a:lnTo>
                      <a:pt x="287" y="353"/>
                    </a:lnTo>
                    <a:lnTo>
                      <a:pt x="305" y="344"/>
                    </a:lnTo>
                    <a:lnTo>
                      <a:pt x="306" y="327"/>
                    </a:lnTo>
                    <a:lnTo>
                      <a:pt x="318" y="306"/>
                    </a:lnTo>
                    <a:lnTo>
                      <a:pt x="360" y="261"/>
                    </a:lnTo>
                    <a:lnTo>
                      <a:pt x="372" y="242"/>
                    </a:lnTo>
                    <a:lnTo>
                      <a:pt x="404" y="248"/>
                    </a:lnTo>
                    <a:lnTo>
                      <a:pt x="425" y="227"/>
                    </a:lnTo>
                    <a:lnTo>
                      <a:pt x="452" y="218"/>
                    </a:lnTo>
                    <a:lnTo>
                      <a:pt x="473" y="232"/>
                    </a:lnTo>
                    <a:lnTo>
                      <a:pt x="522" y="224"/>
                    </a:lnTo>
                    <a:lnTo>
                      <a:pt x="564" y="237"/>
                    </a:lnTo>
                    <a:lnTo>
                      <a:pt x="571" y="239"/>
                    </a:lnTo>
                    <a:lnTo>
                      <a:pt x="583" y="225"/>
                    </a:lnTo>
                    <a:lnTo>
                      <a:pt x="585" y="188"/>
                    </a:lnTo>
                    <a:lnTo>
                      <a:pt x="618" y="186"/>
                    </a:lnTo>
                    <a:lnTo>
                      <a:pt x="620" y="142"/>
                    </a:lnTo>
                    <a:lnTo>
                      <a:pt x="620" y="138"/>
                    </a:lnTo>
                    <a:lnTo>
                      <a:pt x="637" y="134"/>
                    </a:lnTo>
                    <a:lnTo>
                      <a:pt x="651" y="136"/>
                    </a:lnTo>
                    <a:lnTo>
                      <a:pt x="665" y="160"/>
                    </a:lnTo>
                    <a:lnTo>
                      <a:pt x="681" y="160"/>
                    </a:lnTo>
                    <a:lnTo>
                      <a:pt x="686" y="167"/>
                    </a:lnTo>
                    <a:lnTo>
                      <a:pt x="727" y="150"/>
                    </a:lnTo>
                    <a:lnTo>
                      <a:pt x="746" y="161"/>
                    </a:lnTo>
                    <a:lnTo>
                      <a:pt x="758" y="190"/>
                    </a:lnTo>
                    <a:lnTo>
                      <a:pt x="834" y="190"/>
                    </a:lnTo>
                    <a:lnTo>
                      <a:pt x="837" y="184"/>
                    </a:lnTo>
                    <a:lnTo>
                      <a:pt x="852" y="186"/>
                    </a:lnTo>
                    <a:lnTo>
                      <a:pt x="853" y="178"/>
                    </a:lnTo>
                    <a:lnTo>
                      <a:pt x="835" y="171"/>
                    </a:lnTo>
                    <a:lnTo>
                      <a:pt x="835" y="155"/>
                    </a:lnTo>
                    <a:lnTo>
                      <a:pt x="852" y="148"/>
                    </a:lnTo>
                    <a:lnTo>
                      <a:pt x="861" y="134"/>
                    </a:lnTo>
                    <a:lnTo>
                      <a:pt x="881" y="110"/>
                    </a:lnTo>
                    <a:lnTo>
                      <a:pt x="871" y="93"/>
                    </a:lnTo>
                    <a:lnTo>
                      <a:pt x="873" y="76"/>
                    </a:lnTo>
                    <a:lnTo>
                      <a:pt x="866" y="53"/>
                    </a:lnTo>
                    <a:lnTo>
                      <a:pt x="879" y="32"/>
                    </a:lnTo>
                    <a:lnTo>
                      <a:pt x="895" y="39"/>
                    </a:lnTo>
                    <a:lnTo>
                      <a:pt x="917" y="35"/>
                    </a:lnTo>
                    <a:lnTo>
                      <a:pt x="924" y="51"/>
                    </a:lnTo>
                    <a:close/>
                  </a:path>
                </a:pathLst>
              </a:custGeom>
              <a:solidFill>
                <a:srgbClr val="ff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79280" y="3321720"/>
                <a:ext cx="1225080" cy="1113480"/>
              </a:xfrm>
              <a:custGeom>
                <a:avLst/>
                <a:gdLst/>
                <a:ahLst/>
                <a:rect l="l" t="t" r="r" b="b"/>
                <a:pathLst>
                  <a:path w="1620" h="1488">
                    <a:moveTo>
                      <a:pt x="720" y="22"/>
                    </a:moveTo>
                    <a:lnTo>
                      <a:pt x="737" y="26"/>
                    </a:lnTo>
                    <a:lnTo>
                      <a:pt x="744" y="32"/>
                    </a:lnTo>
                    <a:lnTo>
                      <a:pt x="755" y="54"/>
                    </a:lnTo>
                    <a:lnTo>
                      <a:pt x="774" y="68"/>
                    </a:lnTo>
                    <a:lnTo>
                      <a:pt x="775" y="74"/>
                    </a:lnTo>
                    <a:lnTo>
                      <a:pt x="786" y="81"/>
                    </a:lnTo>
                    <a:lnTo>
                      <a:pt x="793" y="78"/>
                    </a:lnTo>
                    <a:lnTo>
                      <a:pt x="799" y="90"/>
                    </a:lnTo>
                    <a:lnTo>
                      <a:pt x="803" y="87"/>
                    </a:lnTo>
                    <a:lnTo>
                      <a:pt x="812" y="90"/>
                    </a:lnTo>
                    <a:lnTo>
                      <a:pt x="823" y="84"/>
                    </a:lnTo>
                    <a:lnTo>
                      <a:pt x="829" y="87"/>
                    </a:lnTo>
                    <a:lnTo>
                      <a:pt x="835" y="105"/>
                    </a:lnTo>
                    <a:lnTo>
                      <a:pt x="844" y="98"/>
                    </a:lnTo>
                    <a:lnTo>
                      <a:pt x="845" y="87"/>
                    </a:lnTo>
                    <a:lnTo>
                      <a:pt x="850" y="77"/>
                    </a:lnTo>
                    <a:lnTo>
                      <a:pt x="876" y="58"/>
                    </a:lnTo>
                    <a:lnTo>
                      <a:pt x="926" y="33"/>
                    </a:lnTo>
                    <a:lnTo>
                      <a:pt x="935" y="45"/>
                    </a:lnTo>
                    <a:lnTo>
                      <a:pt x="955" y="35"/>
                    </a:lnTo>
                    <a:lnTo>
                      <a:pt x="966" y="52"/>
                    </a:lnTo>
                    <a:lnTo>
                      <a:pt x="1019" y="24"/>
                    </a:lnTo>
                    <a:lnTo>
                      <a:pt x="1024" y="45"/>
                    </a:lnTo>
                    <a:lnTo>
                      <a:pt x="1034" y="54"/>
                    </a:lnTo>
                    <a:lnTo>
                      <a:pt x="1040" y="71"/>
                    </a:lnTo>
                    <a:lnTo>
                      <a:pt x="1055" y="83"/>
                    </a:lnTo>
                    <a:lnTo>
                      <a:pt x="1067" y="100"/>
                    </a:lnTo>
                    <a:lnTo>
                      <a:pt x="1073" y="94"/>
                    </a:lnTo>
                    <a:lnTo>
                      <a:pt x="1078" y="90"/>
                    </a:lnTo>
                    <a:lnTo>
                      <a:pt x="1078" y="81"/>
                    </a:lnTo>
                    <a:lnTo>
                      <a:pt x="1087" y="81"/>
                    </a:lnTo>
                    <a:lnTo>
                      <a:pt x="1094" y="72"/>
                    </a:lnTo>
                    <a:lnTo>
                      <a:pt x="1102" y="82"/>
                    </a:lnTo>
                    <a:lnTo>
                      <a:pt x="1100" y="88"/>
                    </a:lnTo>
                    <a:lnTo>
                      <a:pt x="1110" y="86"/>
                    </a:lnTo>
                    <a:lnTo>
                      <a:pt x="1116" y="100"/>
                    </a:lnTo>
                    <a:lnTo>
                      <a:pt x="1133" y="98"/>
                    </a:lnTo>
                    <a:lnTo>
                      <a:pt x="1133" y="110"/>
                    </a:lnTo>
                    <a:lnTo>
                      <a:pt x="1142" y="125"/>
                    </a:lnTo>
                    <a:lnTo>
                      <a:pt x="1147" y="126"/>
                    </a:lnTo>
                    <a:lnTo>
                      <a:pt x="1150" y="113"/>
                    </a:lnTo>
                    <a:lnTo>
                      <a:pt x="1153" y="107"/>
                    </a:lnTo>
                    <a:lnTo>
                      <a:pt x="1192" y="76"/>
                    </a:lnTo>
                    <a:lnTo>
                      <a:pt x="1206" y="69"/>
                    </a:lnTo>
                    <a:lnTo>
                      <a:pt x="1224" y="63"/>
                    </a:lnTo>
                    <a:lnTo>
                      <a:pt x="1230" y="64"/>
                    </a:lnTo>
                    <a:lnTo>
                      <a:pt x="1230" y="63"/>
                    </a:lnTo>
                    <a:lnTo>
                      <a:pt x="1231" y="56"/>
                    </a:lnTo>
                    <a:lnTo>
                      <a:pt x="1243" y="44"/>
                    </a:lnTo>
                    <a:lnTo>
                      <a:pt x="1258" y="36"/>
                    </a:lnTo>
                    <a:lnTo>
                      <a:pt x="1279" y="9"/>
                    </a:lnTo>
                    <a:lnTo>
                      <a:pt x="1292" y="0"/>
                    </a:lnTo>
                    <a:lnTo>
                      <a:pt x="1303" y="11"/>
                    </a:lnTo>
                    <a:lnTo>
                      <a:pt x="1304" y="23"/>
                    </a:lnTo>
                    <a:lnTo>
                      <a:pt x="1318" y="32"/>
                    </a:lnTo>
                    <a:lnTo>
                      <a:pt x="1298" y="56"/>
                    </a:lnTo>
                    <a:lnTo>
                      <a:pt x="1303" y="69"/>
                    </a:lnTo>
                    <a:lnTo>
                      <a:pt x="1296" y="82"/>
                    </a:lnTo>
                    <a:lnTo>
                      <a:pt x="1297" y="86"/>
                    </a:lnTo>
                    <a:lnTo>
                      <a:pt x="1294" y="86"/>
                    </a:lnTo>
                    <a:lnTo>
                      <a:pt x="1295" y="93"/>
                    </a:lnTo>
                    <a:lnTo>
                      <a:pt x="1289" y="96"/>
                    </a:lnTo>
                    <a:lnTo>
                      <a:pt x="1291" y="98"/>
                    </a:lnTo>
                    <a:lnTo>
                      <a:pt x="1289" y="101"/>
                    </a:lnTo>
                    <a:lnTo>
                      <a:pt x="1292" y="102"/>
                    </a:lnTo>
                    <a:lnTo>
                      <a:pt x="1290" y="110"/>
                    </a:lnTo>
                    <a:lnTo>
                      <a:pt x="1285" y="110"/>
                    </a:lnTo>
                    <a:lnTo>
                      <a:pt x="1279" y="119"/>
                    </a:lnTo>
                    <a:lnTo>
                      <a:pt x="1284" y="124"/>
                    </a:lnTo>
                    <a:lnTo>
                      <a:pt x="1300" y="110"/>
                    </a:lnTo>
                    <a:lnTo>
                      <a:pt x="1345" y="105"/>
                    </a:lnTo>
                    <a:lnTo>
                      <a:pt x="1356" y="96"/>
                    </a:lnTo>
                    <a:lnTo>
                      <a:pt x="1388" y="82"/>
                    </a:lnTo>
                    <a:lnTo>
                      <a:pt x="1394" y="62"/>
                    </a:lnTo>
                    <a:lnTo>
                      <a:pt x="1404" y="53"/>
                    </a:lnTo>
                    <a:lnTo>
                      <a:pt x="1418" y="48"/>
                    </a:lnTo>
                    <a:lnTo>
                      <a:pt x="1428" y="51"/>
                    </a:lnTo>
                    <a:lnTo>
                      <a:pt x="1460" y="45"/>
                    </a:lnTo>
                    <a:lnTo>
                      <a:pt x="1464" y="50"/>
                    </a:lnTo>
                    <a:lnTo>
                      <a:pt x="1474" y="66"/>
                    </a:lnTo>
                    <a:lnTo>
                      <a:pt x="1482" y="112"/>
                    </a:lnTo>
                    <a:lnTo>
                      <a:pt x="1505" y="141"/>
                    </a:lnTo>
                    <a:lnTo>
                      <a:pt x="1484" y="164"/>
                    </a:lnTo>
                    <a:lnTo>
                      <a:pt x="1500" y="188"/>
                    </a:lnTo>
                    <a:lnTo>
                      <a:pt x="1516" y="213"/>
                    </a:lnTo>
                    <a:lnTo>
                      <a:pt x="1546" y="213"/>
                    </a:lnTo>
                    <a:lnTo>
                      <a:pt x="1561" y="220"/>
                    </a:lnTo>
                    <a:lnTo>
                      <a:pt x="1585" y="222"/>
                    </a:lnTo>
                    <a:lnTo>
                      <a:pt x="1620" y="256"/>
                    </a:lnTo>
                    <a:lnTo>
                      <a:pt x="1584" y="276"/>
                    </a:lnTo>
                    <a:lnTo>
                      <a:pt x="1567" y="281"/>
                    </a:lnTo>
                    <a:lnTo>
                      <a:pt x="1535" y="286"/>
                    </a:lnTo>
                    <a:lnTo>
                      <a:pt x="1524" y="294"/>
                    </a:lnTo>
                    <a:lnTo>
                      <a:pt x="1507" y="326"/>
                    </a:lnTo>
                    <a:lnTo>
                      <a:pt x="1498" y="352"/>
                    </a:lnTo>
                    <a:lnTo>
                      <a:pt x="1493" y="375"/>
                    </a:lnTo>
                    <a:lnTo>
                      <a:pt x="1492" y="411"/>
                    </a:lnTo>
                    <a:lnTo>
                      <a:pt x="1488" y="548"/>
                    </a:lnTo>
                    <a:lnTo>
                      <a:pt x="1481" y="585"/>
                    </a:lnTo>
                    <a:lnTo>
                      <a:pt x="1477" y="627"/>
                    </a:lnTo>
                    <a:lnTo>
                      <a:pt x="1488" y="664"/>
                    </a:lnTo>
                    <a:lnTo>
                      <a:pt x="1490" y="693"/>
                    </a:lnTo>
                    <a:lnTo>
                      <a:pt x="1505" y="746"/>
                    </a:lnTo>
                    <a:lnTo>
                      <a:pt x="1477" y="766"/>
                    </a:lnTo>
                    <a:lnTo>
                      <a:pt x="1474" y="774"/>
                    </a:lnTo>
                    <a:lnTo>
                      <a:pt x="1475" y="789"/>
                    </a:lnTo>
                    <a:lnTo>
                      <a:pt x="1475" y="790"/>
                    </a:lnTo>
                    <a:lnTo>
                      <a:pt x="1470" y="794"/>
                    </a:lnTo>
                    <a:lnTo>
                      <a:pt x="1454" y="791"/>
                    </a:lnTo>
                    <a:lnTo>
                      <a:pt x="1436" y="771"/>
                    </a:lnTo>
                    <a:lnTo>
                      <a:pt x="1428" y="776"/>
                    </a:lnTo>
                    <a:lnTo>
                      <a:pt x="1418" y="765"/>
                    </a:lnTo>
                    <a:lnTo>
                      <a:pt x="1405" y="760"/>
                    </a:lnTo>
                    <a:lnTo>
                      <a:pt x="1352" y="788"/>
                    </a:lnTo>
                    <a:lnTo>
                      <a:pt x="1316" y="789"/>
                    </a:lnTo>
                    <a:lnTo>
                      <a:pt x="1318" y="813"/>
                    </a:lnTo>
                    <a:lnTo>
                      <a:pt x="1321" y="816"/>
                    </a:lnTo>
                    <a:lnTo>
                      <a:pt x="1313" y="840"/>
                    </a:lnTo>
                    <a:lnTo>
                      <a:pt x="1320" y="868"/>
                    </a:lnTo>
                    <a:lnTo>
                      <a:pt x="1319" y="876"/>
                    </a:lnTo>
                    <a:lnTo>
                      <a:pt x="1298" y="872"/>
                    </a:lnTo>
                    <a:lnTo>
                      <a:pt x="1285" y="880"/>
                    </a:lnTo>
                    <a:lnTo>
                      <a:pt x="1277" y="879"/>
                    </a:lnTo>
                    <a:lnTo>
                      <a:pt x="1277" y="867"/>
                    </a:lnTo>
                    <a:lnTo>
                      <a:pt x="1270" y="851"/>
                    </a:lnTo>
                    <a:lnTo>
                      <a:pt x="1248" y="855"/>
                    </a:lnTo>
                    <a:lnTo>
                      <a:pt x="1232" y="848"/>
                    </a:lnTo>
                    <a:lnTo>
                      <a:pt x="1219" y="869"/>
                    </a:lnTo>
                    <a:lnTo>
                      <a:pt x="1226" y="892"/>
                    </a:lnTo>
                    <a:lnTo>
                      <a:pt x="1224" y="909"/>
                    </a:lnTo>
                    <a:lnTo>
                      <a:pt x="1234" y="926"/>
                    </a:lnTo>
                    <a:lnTo>
                      <a:pt x="1214" y="950"/>
                    </a:lnTo>
                    <a:lnTo>
                      <a:pt x="1205" y="964"/>
                    </a:lnTo>
                    <a:lnTo>
                      <a:pt x="1188" y="971"/>
                    </a:lnTo>
                    <a:lnTo>
                      <a:pt x="1188" y="987"/>
                    </a:lnTo>
                    <a:lnTo>
                      <a:pt x="1206" y="994"/>
                    </a:lnTo>
                    <a:lnTo>
                      <a:pt x="1205" y="1002"/>
                    </a:lnTo>
                    <a:lnTo>
                      <a:pt x="1190" y="1000"/>
                    </a:lnTo>
                    <a:lnTo>
                      <a:pt x="1187" y="1006"/>
                    </a:lnTo>
                    <a:lnTo>
                      <a:pt x="1111" y="1006"/>
                    </a:lnTo>
                    <a:lnTo>
                      <a:pt x="1099" y="977"/>
                    </a:lnTo>
                    <a:lnTo>
                      <a:pt x="1080" y="966"/>
                    </a:lnTo>
                    <a:lnTo>
                      <a:pt x="1039" y="983"/>
                    </a:lnTo>
                    <a:lnTo>
                      <a:pt x="1034" y="976"/>
                    </a:lnTo>
                    <a:lnTo>
                      <a:pt x="1018" y="976"/>
                    </a:lnTo>
                    <a:lnTo>
                      <a:pt x="1004" y="952"/>
                    </a:lnTo>
                    <a:lnTo>
                      <a:pt x="990" y="950"/>
                    </a:lnTo>
                    <a:lnTo>
                      <a:pt x="973" y="954"/>
                    </a:lnTo>
                    <a:lnTo>
                      <a:pt x="973" y="958"/>
                    </a:lnTo>
                    <a:lnTo>
                      <a:pt x="971" y="1002"/>
                    </a:lnTo>
                    <a:lnTo>
                      <a:pt x="938" y="1004"/>
                    </a:lnTo>
                    <a:lnTo>
                      <a:pt x="936" y="1041"/>
                    </a:lnTo>
                    <a:lnTo>
                      <a:pt x="924" y="1055"/>
                    </a:lnTo>
                    <a:lnTo>
                      <a:pt x="917" y="1053"/>
                    </a:lnTo>
                    <a:lnTo>
                      <a:pt x="875" y="1040"/>
                    </a:lnTo>
                    <a:lnTo>
                      <a:pt x="826" y="1048"/>
                    </a:lnTo>
                    <a:lnTo>
                      <a:pt x="805" y="1034"/>
                    </a:lnTo>
                    <a:lnTo>
                      <a:pt x="778" y="1043"/>
                    </a:lnTo>
                    <a:lnTo>
                      <a:pt x="757" y="1064"/>
                    </a:lnTo>
                    <a:lnTo>
                      <a:pt x="725" y="1058"/>
                    </a:lnTo>
                    <a:lnTo>
                      <a:pt x="713" y="1077"/>
                    </a:lnTo>
                    <a:lnTo>
                      <a:pt x="671" y="1122"/>
                    </a:lnTo>
                    <a:lnTo>
                      <a:pt x="659" y="1143"/>
                    </a:lnTo>
                    <a:lnTo>
                      <a:pt x="658" y="1160"/>
                    </a:lnTo>
                    <a:lnTo>
                      <a:pt x="640" y="1169"/>
                    </a:lnTo>
                    <a:lnTo>
                      <a:pt x="623" y="1218"/>
                    </a:lnTo>
                    <a:lnTo>
                      <a:pt x="619" y="1233"/>
                    </a:lnTo>
                    <a:lnTo>
                      <a:pt x="612" y="1236"/>
                    </a:lnTo>
                    <a:lnTo>
                      <a:pt x="569" y="1232"/>
                    </a:lnTo>
                    <a:lnTo>
                      <a:pt x="551" y="1236"/>
                    </a:lnTo>
                    <a:lnTo>
                      <a:pt x="552" y="1246"/>
                    </a:lnTo>
                    <a:lnTo>
                      <a:pt x="547" y="1262"/>
                    </a:lnTo>
                    <a:lnTo>
                      <a:pt x="551" y="1271"/>
                    </a:lnTo>
                    <a:lnTo>
                      <a:pt x="546" y="1283"/>
                    </a:lnTo>
                    <a:lnTo>
                      <a:pt x="538" y="1296"/>
                    </a:lnTo>
                    <a:lnTo>
                      <a:pt x="517" y="1307"/>
                    </a:lnTo>
                    <a:lnTo>
                      <a:pt x="492" y="1326"/>
                    </a:lnTo>
                    <a:lnTo>
                      <a:pt x="456" y="1334"/>
                    </a:lnTo>
                    <a:lnTo>
                      <a:pt x="451" y="1340"/>
                    </a:lnTo>
                    <a:lnTo>
                      <a:pt x="438" y="1328"/>
                    </a:lnTo>
                    <a:lnTo>
                      <a:pt x="404" y="1316"/>
                    </a:lnTo>
                    <a:lnTo>
                      <a:pt x="383" y="1337"/>
                    </a:lnTo>
                    <a:lnTo>
                      <a:pt x="367" y="1337"/>
                    </a:lnTo>
                    <a:lnTo>
                      <a:pt x="373" y="1354"/>
                    </a:lnTo>
                    <a:lnTo>
                      <a:pt x="378" y="1355"/>
                    </a:lnTo>
                    <a:lnTo>
                      <a:pt x="388" y="1344"/>
                    </a:lnTo>
                    <a:lnTo>
                      <a:pt x="409" y="1340"/>
                    </a:lnTo>
                    <a:lnTo>
                      <a:pt x="408" y="1347"/>
                    </a:lnTo>
                    <a:lnTo>
                      <a:pt x="389" y="1367"/>
                    </a:lnTo>
                    <a:lnTo>
                      <a:pt x="386" y="1374"/>
                    </a:lnTo>
                    <a:lnTo>
                      <a:pt x="388" y="1380"/>
                    </a:lnTo>
                    <a:lnTo>
                      <a:pt x="398" y="1389"/>
                    </a:lnTo>
                    <a:lnTo>
                      <a:pt x="400" y="1407"/>
                    </a:lnTo>
                    <a:lnTo>
                      <a:pt x="388" y="1424"/>
                    </a:lnTo>
                    <a:lnTo>
                      <a:pt x="376" y="1457"/>
                    </a:lnTo>
                    <a:lnTo>
                      <a:pt x="359" y="1488"/>
                    </a:lnTo>
                    <a:lnTo>
                      <a:pt x="346" y="1473"/>
                    </a:lnTo>
                    <a:lnTo>
                      <a:pt x="334" y="1484"/>
                    </a:lnTo>
                    <a:lnTo>
                      <a:pt x="323" y="1476"/>
                    </a:lnTo>
                    <a:lnTo>
                      <a:pt x="314" y="1448"/>
                    </a:lnTo>
                    <a:lnTo>
                      <a:pt x="300" y="1430"/>
                    </a:lnTo>
                    <a:lnTo>
                      <a:pt x="294" y="1416"/>
                    </a:lnTo>
                    <a:lnTo>
                      <a:pt x="283" y="1404"/>
                    </a:lnTo>
                    <a:lnTo>
                      <a:pt x="286" y="1391"/>
                    </a:lnTo>
                    <a:lnTo>
                      <a:pt x="293" y="1374"/>
                    </a:lnTo>
                    <a:lnTo>
                      <a:pt x="292" y="1364"/>
                    </a:lnTo>
                    <a:lnTo>
                      <a:pt x="275" y="1360"/>
                    </a:lnTo>
                    <a:lnTo>
                      <a:pt x="270" y="1335"/>
                    </a:lnTo>
                    <a:lnTo>
                      <a:pt x="276" y="1323"/>
                    </a:lnTo>
                    <a:lnTo>
                      <a:pt x="295" y="1317"/>
                    </a:lnTo>
                    <a:lnTo>
                      <a:pt x="307" y="1301"/>
                    </a:lnTo>
                    <a:lnTo>
                      <a:pt x="305" y="1287"/>
                    </a:lnTo>
                    <a:lnTo>
                      <a:pt x="316" y="1252"/>
                    </a:lnTo>
                    <a:lnTo>
                      <a:pt x="314" y="1239"/>
                    </a:lnTo>
                    <a:lnTo>
                      <a:pt x="308" y="1221"/>
                    </a:lnTo>
                    <a:lnTo>
                      <a:pt x="292" y="1217"/>
                    </a:lnTo>
                    <a:lnTo>
                      <a:pt x="277" y="1197"/>
                    </a:lnTo>
                    <a:lnTo>
                      <a:pt x="275" y="1197"/>
                    </a:lnTo>
                    <a:lnTo>
                      <a:pt x="259" y="1194"/>
                    </a:lnTo>
                    <a:lnTo>
                      <a:pt x="245" y="1173"/>
                    </a:lnTo>
                    <a:lnTo>
                      <a:pt x="230" y="1167"/>
                    </a:lnTo>
                    <a:lnTo>
                      <a:pt x="198" y="1163"/>
                    </a:lnTo>
                    <a:lnTo>
                      <a:pt x="180" y="1163"/>
                    </a:lnTo>
                    <a:lnTo>
                      <a:pt x="167" y="1157"/>
                    </a:lnTo>
                    <a:lnTo>
                      <a:pt x="143" y="1169"/>
                    </a:lnTo>
                    <a:lnTo>
                      <a:pt x="109" y="1175"/>
                    </a:lnTo>
                    <a:lnTo>
                      <a:pt x="92" y="1191"/>
                    </a:lnTo>
                    <a:lnTo>
                      <a:pt x="67" y="1193"/>
                    </a:lnTo>
                    <a:lnTo>
                      <a:pt x="43" y="1202"/>
                    </a:lnTo>
                    <a:lnTo>
                      <a:pt x="29" y="1198"/>
                    </a:lnTo>
                    <a:lnTo>
                      <a:pt x="17" y="1191"/>
                    </a:lnTo>
                    <a:lnTo>
                      <a:pt x="0" y="1170"/>
                    </a:lnTo>
                    <a:lnTo>
                      <a:pt x="31" y="1148"/>
                    </a:lnTo>
                    <a:lnTo>
                      <a:pt x="43" y="1132"/>
                    </a:lnTo>
                    <a:lnTo>
                      <a:pt x="64" y="1101"/>
                    </a:lnTo>
                    <a:lnTo>
                      <a:pt x="83" y="1088"/>
                    </a:lnTo>
                    <a:lnTo>
                      <a:pt x="85" y="1082"/>
                    </a:lnTo>
                    <a:lnTo>
                      <a:pt x="120" y="1026"/>
                    </a:lnTo>
                    <a:lnTo>
                      <a:pt x="148" y="1020"/>
                    </a:lnTo>
                    <a:lnTo>
                      <a:pt x="155" y="1016"/>
                    </a:lnTo>
                    <a:lnTo>
                      <a:pt x="161" y="1008"/>
                    </a:lnTo>
                    <a:lnTo>
                      <a:pt x="169" y="1006"/>
                    </a:lnTo>
                    <a:lnTo>
                      <a:pt x="168" y="994"/>
                    </a:lnTo>
                    <a:lnTo>
                      <a:pt x="178" y="987"/>
                    </a:lnTo>
                    <a:lnTo>
                      <a:pt x="210" y="982"/>
                    </a:lnTo>
                    <a:lnTo>
                      <a:pt x="218" y="964"/>
                    </a:lnTo>
                    <a:lnTo>
                      <a:pt x="215" y="939"/>
                    </a:lnTo>
                    <a:lnTo>
                      <a:pt x="223" y="920"/>
                    </a:lnTo>
                    <a:lnTo>
                      <a:pt x="234" y="886"/>
                    </a:lnTo>
                    <a:lnTo>
                      <a:pt x="244" y="884"/>
                    </a:lnTo>
                    <a:lnTo>
                      <a:pt x="254" y="899"/>
                    </a:lnTo>
                    <a:lnTo>
                      <a:pt x="266" y="909"/>
                    </a:lnTo>
                    <a:lnTo>
                      <a:pt x="282" y="902"/>
                    </a:lnTo>
                    <a:lnTo>
                      <a:pt x="306" y="905"/>
                    </a:lnTo>
                    <a:lnTo>
                      <a:pt x="332" y="897"/>
                    </a:lnTo>
                    <a:lnTo>
                      <a:pt x="350" y="893"/>
                    </a:lnTo>
                    <a:lnTo>
                      <a:pt x="365" y="903"/>
                    </a:lnTo>
                    <a:lnTo>
                      <a:pt x="384" y="906"/>
                    </a:lnTo>
                    <a:lnTo>
                      <a:pt x="403" y="900"/>
                    </a:lnTo>
                    <a:lnTo>
                      <a:pt x="416" y="902"/>
                    </a:lnTo>
                    <a:lnTo>
                      <a:pt x="426" y="911"/>
                    </a:lnTo>
                    <a:lnTo>
                      <a:pt x="438" y="917"/>
                    </a:lnTo>
                    <a:lnTo>
                      <a:pt x="463" y="904"/>
                    </a:lnTo>
                    <a:lnTo>
                      <a:pt x="473" y="912"/>
                    </a:lnTo>
                    <a:lnTo>
                      <a:pt x="497" y="918"/>
                    </a:lnTo>
                    <a:lnTo>
                      <a:pt x="517" y="914"/>
                    </a:lnTo>
                    <a:lnTo>
                      <a:pt x="540" y="912"/>
                    </a:lnTo>
                    <a:lnTo>
                      <a:pt x="547" y="900"/>
                    </a:lnTo>
                    <a:lnTo>
                      <a:pt x="546" y="892"/>
                    </a:lnTo>
                    <a:lnTo>
                      <a:pt x="530" y="881"/>
                    </a:lnTo>
                    <a:lnTo>
                      <a:pt x="493" y="855"/>
                    </a:lnTo>
                    <a:lnTo>
                      <a:pt x="478" y="852"/>
                    </a:lnTo>
                    <a:lnTo>
                      <a:pt x="460" y="857"/>
                    </a:lnTo>
                    <a:lnTo>
                      <a:pt x="452" y="852"/>
                    </a:lnTo>
                    <a:lnTo>
                      <a:pt x="466" y="827"/>
                    </a:lnTo>
                    <a:lnTo>
                      <a:pt x="496" y="813"/>
                    </a:lnTo>
                    <a:lnTo>
                      <a:pt x="532" y="808"/>
                    </a:lnTo>
                    <a:lnTo>
                      <a:pt x="551" y="794"/>
                    </a:lnTo>
                    <a:lnTo>
                      <a:pt x="550" y="783"/>
                    </a:lnTo>
                    <a:lnTo>
                      <a:pt x="538" y="774"/>
                    </a:lnTo>
                    <a:lnTo>
                      <a:pt x="516" y="771"/>
                    </a:lnTo>
                    <a:lnTo>
                      <a:pt x="493" y="758"/>
                    </a:lnTo>
                    <a:lnTo>
                      <a:pt x="492" y="736"/>
                    </a:lnTo>
                    <a:lnTo>
                      <a:pt x="484" y="722"/>
                    </a:lnTo>
                    <a:lnTo>
                      <a:pt x="486" y="713"/>
                    </a:lnTo>
                    <a:lnTo>
                      <a:pt x="509" y="702"/>
                    </a:lnTo>
                    <a:lnTo>
                      <a:pt x="516" y="693"/>
                    </a:lnTo>
                    <a:lnTo>
                      <a:pt x="526" y="686"/>
                    </a:lnTo>
                    <a:lnTo>
                      <a:pt x="533" y="669"/>
                    </a:lnTo>
                    <a:lnTo>
                      <a:pt x="558" y="657"/>
                    </a:lnTo>
                    <a:lnTo>
                      <a:pt x="564" y="648"/>
                    </a:lnTo>
                    <a:lnTo>
                      <a:pt x="557" y="629"/>
                    </a:lnTo>
                    <a:lnTo>
                      <a:pt x="545" y="615"/>
                    </a:lnTo>
                    <a:lnTo>
                      <a:pt x="516" y="618"/>
                    </a:lnTo>
                    <a:lnTo>
                      <a:pt x="463" y="621"/>
                    </a:lnTo>
                    <a:lnTo>
                      <a:pt x="460" y="606"/>
                    </a:lnTo>
                    <a:lnTo>
                      <a:pt x="464" y="594"/>
                    </a:lnTo>
                    <a:lnTo>
                      <a:pt x="484" y="576"/>
                    </a:lnTo>
                    <a:lnTo>
                      <a:pt x="472" y="557"/>
                    </a:lnTo>
                    <a:lnTo>
                      <a:pt x="451" y="538"/>
                    </a:lnTo>
                    <a:lnTo>
                      <a:pt x="433" y="537"/>
                    </a:lnTo>
                    <a:lnTo>
                      <a:pt x="425" y="530"/>
                    </a:lnTo>
                    <a:lnTo>
                      <a:pt x="414" y="495"/>
                    </a:lnTo>
                    <a:lnTo>
                      <a:pt x="421" y="484"/>
                    </a:lnTo>
                    <a:lnTo>
                      <a:pt x="437" y="483"/>
                    </a:lnTo>
                    <a:lnTo>
                      <a:pt x="440" y="478"/>
                    </a:lnTo>
                    <a:lnTo>
                      <a:pt x="445" y="443"/>
                    </a:lnTo>
                    <a:lnTo>
                      <a:pt x="450" y="428"/>
                    </a:lnTo>
                    <a:lnTo>
                      <a:pt x="440" y="414"/>
                    </a:lnTo>
                    <a:lnTo>
                      <a:pt x="468" y="405"/>
                    </a:lnTo>
                    <a:lnTo>
                      <a:pt x="486" y="402"/>
                    </a:lnTo>
                    <a:lnTo>
                      <a:pt x="496" y="394"/>
                    </a:lnTo>
                    <a:lnTo>
                      <a:pt x="506" y="357"/>
                    </a:lnTo>
                    <a:lnTo>
                      <a:pt x="516" y="348"/>
                    </a:lnTo>
                    <a:lnTo>
                      <a:pt x="499" y="300"/>
                    </a:lnTo>
                    <a:lnTo>
                      <a:pt x="492" y="290"/>
                    </a:lnTo>
                    <a:lnTo>
                      <a:pt x="485" y="254"/>
                    </a:lnTo>
                    <a:lnTo>
                      <a:pt x="473" y="237"/>
                    </a:lnTo>
                    <a:lnTo>
                      <a:pt x="456" y="228"/>
                    </a:lnTo>
                    <a:lnTo>
                      <a:pt x="443" y="213"/>
                    </a:lnTo>
                    <a:lnTo>
                      <a:pt x="440" y="206"/>
                    </a:lnTo>
                    <a:lnTo>
                      <a:pt x="446" y="200"/>
                    </a:lnTo>
                    <a:lnTo>
                      <a:pt x="463" y="197"/>
                    </a:lnTo>
                    <a:lnTo>
                      <a:pt x="472" y="183"/>
                    </a:lnTo>
                    <a:lnTo>
                      <a:pt x="467" y="158"/>
                    </a:lnTo>
                    <a:lnTo>
                      <a:pt x="466" y="131"/>
                    </a:lnTo>
                    <a:lnTo>
                      <a:pt x="464" y="131"/>
                    </a:lnTo>
                    <a:lnTo>
                      <a:pt x="457" y="116"/>
                    </a:lnTo>
                    <a:lnTo>
                      <a:pt x="463" y="98"/>
                    </a:lnTo>
                    <a:lnTo>
                      <a:pt x="472" y="94"/>
                    </a:lnTo>
                    <a:lnTo>
                      <a:pt x="504" y="99"/>
                    </a:lnTo>
                    <a:lnTo>
                      <a:pt x="511" y="110"/>
                    </a:lnTo>
                    <a:lnTo>
                      <a:pt x="510" y="118"/>
                    </a:lnTo>
                    <a:lnTo>
                      <a:pt x="523" y="123"/>
                    </a:lnTo>
                    <a:lnTo>
                      <a:pt x="532" y="131"/>
                    </a:lnTo>
                    <a:lnTo>
                      <a:pt x="559" y="99"/>
                    </a:lnTo>
                    <a:lnTo>
                      <a:pt x="606" y="100"/>
                    </a:lnTo>
                    <a:lnTo>
                      <a:pt x="614" y="96"/>
                    </a:lnTo>
                    <a:lnTo>
                      <a:pt x="630" y="95"/>
                    </a:lnTo>
                    <a:lnTo>
                      <a:pt x="646" y="75"/>
                    </a:lnTo>
                    <a:lnTo>
                      <a:pt x="658" y="74"/>
                    </a:lnTo>
                    <a:lnTo>
                      <a:pt x="673" y="63"/>
                    </a:lnTo>
                    <a:lnTo>
                      <a:pt x="691" y="57"/>
                    </a:lnTo>
                    <a:lnTo>
                      <a:pt x="702" y="40"/>
                    </a:lnTo>
                    <a:lnTo>
                      <a:pt x="720" y="22"/>
                    </a:lnTo>
                    <a:close/>
                  </a:path>
                </a:pathLst>
              </a:custGeom>
              <a:solidFill>
                <a:srgbClr val="ff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22000" y="2495160"/>
                <a:ext cx="1548000" cy="928080"/>
              </a:xfrm>
              <a:custGeom>
                <a:avLst/>
                <a:gdLst/>
                <a:ahLst/>
                <a:rect l="l" t="t" r="r" b="b"/>
                <a:pathLst>
                  <a:path w="2049" h="1243">
                    <a:moveTo>
                      <a:pt x="996" y="23"/>
                    </a:moveTo>
                    <a:lnTo>
                      <a:pt x="1037" y="5"/>
                    </a:lnTo>
                    <a:lnTo>
                      <a:pt x="1071" y="7"/>
                    </a:lnTo>
                    <a:lnTo>
                      <a:pt x="1116" y="0"/>
                    </a:lnTo>
                    <a:lnTo>
                      <a:pt x="1139" y="39"/>
                    </a:lnTo>
                    <a:lnTo>
                      <a:pt x="1154" y="65"/>
                    </a:lnTo>
                    <a:lnTo>
                      <a:pt x="1205" y="59"/>
                    </a:lnTo>
                    <a:lnTo>
                      <a:pt x="1222" y="79"/>
                    </a:lnTo>
                    <a:lnTo>
                      <a:pt x="1248" y="88"/>
                    </a:lnTo>
                    <a:lnTo>
                      <a:pt x="1277" y="88"/>
                    </a:lnTo>
                    <a:lnTo>
                      <a:pt x="1337" y="155"/>
                    </a:lnTo>
                    <a:lnTo>
                      <a:pt x="1388" y="204"/>
                    </a:lnTo>
                    <a:lnTo>
                      <a:pt x="1424" y="267"/>
                    </a:lnTo>
                    <a:lnTo>
                      <a:pt x="1472" y="305"/>
                    </a:lnTo>
                    <a:lnTo>
                      <a:pt x="1497" y="341"/>
                    </a:lnTo>
                    <a:lnTo>
                      <a:pt x="1535" y="382"/>
                    </a:lnTo>
                    <a:lnTo>
                      <a:pt x="1562" y="413"/>
                    </a:lnTo>
                    <a:lnTo>
                      <a:pt x="1602" y="408"/>
                    </a:lnTo>
                    <a:lnTo>
                      <a:pt x="1628" y="420"/>
                    </a:lnTo>
                    <a:lnTo>
                      <a:pt x="1664" y="449"/>
                    </a:lnTo>
                    <a:lnTo>
                      <a:pt x="1707" y="477"/>
                    </a:lnTo>
                    <a:lnTo>
                      <a:pt x="1732" y="498"/>
                    </a:lnTo>
                    <a:lnTo>
                      <a:pt x="1750" y="535"/>
                    </a:lnTo>
                    <a:lnTo>
                      <a:pt x="1779" y="543"/>
                    </a:lnTo>
                    <a:lnTo>
                      <a:pt x="1816" y="547"/>
                    </a:lnTo>
                    <a:lnTo>
                      <a:pt x="1839" y="567"/>
                    </a:lnTo>
                    <a:lnTo>
                      <a:pt x="1868" y="559"/>
                    </a:lnTo>
                    <a:lnTo>
                      <a:pt x="1896" y="562"/>
                    </a:lnTo>
                    <a:lnTo>
                      <a:pt x="1917" y="562"/>
                    </a:lnTo>
                    <a:lnTo>
                      <a:pt x="1931" y="559"/>
                    </a:lnTo>
                    <a:lnTo>
                      <a:pt x="1942" y="558"/>
                    </a:lnTo>
                    <a:lnTo>
                      <a:pt x="1954" y="558"/>
                    </a:lnTo>
                    <a:lnTo>
                      <a:pt x="1968" y="563"/>
                    </a:lnTo>
                    <a:lnTo>
                      <a:pt x="1986" y="570"/>
                    </a:lnTo>
                    <a:lnTo>
                      <a:pt x="2000" y="569"/>
                    </a:lnTo>
                    <a:lnTo>
                      <a:pt x="2004" y="567"/>
                    </a:lnTo>
                    <a:lnTo>
                      <a:pt x="1998" y="595"/>
                    </a:lnTo>
                    <a:lnTo>
                      <a:pt x="2007" y="630"/>
                    </a:lnTo>
                    <a:lnTo>
                      <a:pt x="1992" y="659"/>
                    </a:lnTo>
                    <a:lnTo>
                      <a:pt x="2008" y="694"/>
                    </a:lnTo>
                    <a:lnTo>
                      <a:pt x="1998" y="730"/>
                    </a:lnTo>
                    <a:lnTo>
                      <a:pt x="1989" y="757"/>
                    </a:lnTo>
                    <a:lnTo>
                      <a:pt x="1989" y="774"/>
                    </a:lnTo>
                    <a:lnTo>
                      <a:pt x="1998" y="784"/>
                    </a:lnTo>
                    <a:lnTo>
                      <a:pt x="2034" y="798"/>
                    </a:lnTo>
                    <a:lnTo>
                      <a:pt x="2049" y="804"/>
                    </a:lnTo>
                    <a:lnTo>
                      <a:pt x="2049" y="805"/>
                    </a:lnTo>
                    <a:lnTo>
                      <a:pt x="2039" y="850"/>
                    </a:lnTo>
                    <a:lnTo>
                      <a:pt x="2034" y="859"/>
                    </a:lnTo>
                    <a:lnTo>
                      <a:pt x="2020" y="871"/>
                    </a:lnTo>
                    <a:lnTo>
                      <a:pt x="2016" y="882"/>
                    </a:lnTo>
                    <a:lnTo>
                      <a:pt x="2015" y="903"/>
                    </a:lnTo>
                    <a:lnTo>
                      <a:pt x="2010" y="911"/>
                    </a:lnTo>
                    <a:lnTo>
                      <a:pt x="2006" y="916"/>
                    </a:lnTo>
                    <a:lnTo>
                      <a:pt x="2038" y="931"/>
                    </a:lnTo>
                    <a:lnTo>
                      <a:pt x="2027" y="949"/>
                    </a:lnTo>
                    <a:lnTo>
                      <a:pt x="2009" y="954"/>
                    </a:lnTo>
                    <a:lnTo>
                      <a:pt x="2003" y="949"/>
                    </a:lnTo>
                    <a:lnTo>
                      <a:pt x="1989" y="951"/>
                    </a:lnTo>
                    <a:lnTo>
                      <a:pt x="1984" y="946"/>
                    </a:lnTo>
                    <a:lnTo>
                      <a:pt x="1982" y="959"/>
                    </a:lnTo>
                    <a:lnTo>
                      <a:pt x="1992" y="1003"/>
                    </a:lnTo>
                    <a:lnTo>
                      <a:pt x="2006" y="1039"/>
                    </a:lnTo>
                    <a:lnTo>
                      <a:pt x="2003" y="1045"/>
                    </a:lnTo>
                    <a:lnTo>
                      <a:pt x="1998" y="1047"/>
                    </a:lnTo>
                    <a:lnTo>
                      <a:pt x="1971" y="1068"/>
                    </a:lnTo>
                    <a:lnTo>
                      <a:pt x="1977" y="1083"/>
                    </a:lnTo>
                    <a:lnTo>
                      <a:pt x="1958" y="1091"/>
                    </a:lnTo>
                    <a:lnTo>
                      <a:pt x="1977" y="1108"/>
                    </a:lnTo>
                    <a:lnTo>
                      <a:pt x="1978" y="1113"/>
                    </a:lnTo>
                    <a:lnTo>
                      <a:pt x="1959" y="1125"/>
                    </a:lnTo>
                    <a:lnTo>
                      <a:pt x="1948" y="1090"/>
                    </a:lnTo>
                    <a:lnTo>
                      <a:pt x="1926" y="1068"/>
                    </a:lnTo>
                    <a:lnTo>
                      <a:pt x="1910" y="1063"/>
                    </a:lnTo>
                    <a:lnTo>
                      <a:pt x="1882" y="1092"/>
                    </a:lnTo>
                    <a:lnTo>
                      <a:pt x="1862" y="1096"/>
                    </a:lnTo>
                    <a:lnTo>
                      <a:pt x="1858" y="1092"/>
                    </a:lnTo>
                    <a:lnTo>
                      <a:pt x="1856" y="1055"/>
                    </a:lnTo>
                    <a:lnTo>
                      <a:pt x="1828" y="1084"/>
                    </a:lnTo>
                    <a:lnTo>
                      <a:pt x="1821" y="1104"/>
                    </a:lnTo>
                    <a:lnTo>
                      <a:pt x="1806" y="1117"/>
                    </a:lnTo>
                    <a:lnTo>
                      <a:pt x="1805" y="1123"/>
                    </a:lnTo>
                    <a:lnTo>
                      <a:pt x="1794" y="1125"/>
                    </a:lnTo>
                    <a:lnTo>
                      <a:pt x="1775" y="1091"/>
                    </a:lnTo>
                    <a:lnTo>
                      <a:pt x="1772" y="1103"/>
                    </a:lnTo>
                    <a:lnTo>
                      <a:pt x="1769" y="1099"/>
                    </a:lnTo>
                    <a:lnTo>
                      <a:pt x="1763" y="1104"/>
                    </a:lnTo>
                    <a:lnTo>
                      <a:pt x="1763" y="1109"/>
                    </a:lnTo>
                    <a:lnTo>
                      <a:pt x="1774" y="1122"/>
                    </a:lnTo>
                    <a:lnTo>
                      <a:pt x="1770" y="1127"/>
                    </a:lnTo>
                    <a:lnTo>
                      <a:pt x="1766" y="1132"/>
                    </a:lnTo>
                    <a:lnTo>
                      <a:pt x="1760" y="1134"/>
                    </a:lnTo>
                    <a:lnTo>
                      <a:pt x="1752" y="1128"/>
                    </a:lnTo>
                    <a:lnTo>
                      <a:pt x="1738" y="1134"/>
                    </a:lnTo>
                    <a:lnTo>
                      <a:pt x="1732" y="1122"/>
                    </a:lnTo>
                    <a:lnTo>
                      <a:pt x="1742" y="1117"/>
                    </a:lnTo>
                    <a:lnTo>
                      <a:pt x="1730" y="1092"/>
                    </a:lnTo>
                    <a:lnTo>
                      <a:pt x="1725" y="1095"/>
                    </a:lnTo>
                    <a:lnTo>
                      <a:pt x="1725" y="1099"/>
                    </a:lnTo>
                    <a:lnTo>
                      <a:pt x="1714" y="1097"/>
                    </a:lnTo>
                    <a:lnTo>
                      <a:pt x="1712" y="1108"/>
                    </a:lnTo>
                    <a:lnTo>
                      <a:pt x="1707" y="1109"/>
                    </a:lnTo>
                    <a:lnTo>
                      <a:pt x="1698" y="1101"/>
                    </a:lnTo>
                    <a:lnTo>
                      <a:pt x="1688" y="1109"/>
                    </a:lnTo>
                    <a:lnTo>
                      <a:pt x="1683" y="1121"/>
                    </a:lnTo>
                    <a:lnTo>
                      <a:pt x="1682" y="1131"/>
                    </a:lnTo>
                    <a:lnTo>
                      <a:pt x="1659" y="1133"/>
                    </a:lnTo>
                    <a:lnTo>
                      <a:pt x="1656" y="1126"/>
                    </a:lnTo>
                    <a:lnTo>
                      <a:pt x="1637" y="1127"/>
                    </a:lnTo>
                    <a:lnTo>
                      <a:pt x="1630" y="1108"/>
                    </a:lnTo>
                    <a:lnTo>
                      <a:pt x="1610" y="1119"/>
                    </a:lnTo>
                    <a:lnTo>
                      <a:pt x="1606" y="1113"/>
                    </a:lnTo>
                    <a:lnTo>
                      <a:pt x="1599" y="1115"/>
                    </a:lnTo>
                    <a:lnTo>
                      <a:pt x="1593" y="1109"/>
                    </a:lnTo>
                    <a:lnTo>
                      <a:pt x="1586" y="1113"/>
                    </a:lnTo>
                    <a:lnTo>
                      <a:pt x="1581" y="1113"/>
                    </a:lnTo>
                    <a:lnTo>
                      <a:pt x="1576" y="1103"/>
                    </a:lnTo>
                    <a:lnTo>
                      <a:pt x="1566" y="1097"/>
                    </a:lnTo>
                    <a:lnTo>
                      <a:pt x="1557" y="1085"/>
                    </a:lnTo>
                    <a:lnTo>
                      <a:pt x="1552" y="1077"/>
                    </a:lnTo>
                    <a:lnTo>
                      <a:pt x="1533" y="1096"/>
                    </a:lnTo>
                    <a:lnTo>
                      <a:pt x="1518" y="1103"/>
                    </a:lnTo>
                    <a:lnTo>
                      <a:pt x="1499" y="1092"/>
                    </a:lnTo>
                    <a:lnTo>
                      <a:pt x="1458" y="1085"/>
                    </a:lnTo>
                    <a:lnTo>
                      <a:pt x="1416" y="1065"/>
                    </a:lnTo>
                    <a:lnTo>
                      <a:pt x="1389" y="1062"/>
                    </a:lnTo>
                    <a:lnTo>
                      <a:pt x="1384" y="1059"/>
                    </a:lnTo>
                    <a:lnTo>
                      <a:pt x="1364" y="1075"/>
                    </a:lnTo>
                    <a:lnTo>
                      <a:pt x="1344" y="1061"/>
                    </a:lnTo>
                    <a:lnTo>
                      <a:pt x="1326" y="1066"/>
                    </a:lnTo>
                    <a:lnTo>
                      <a:pt x="1323" y="1065"/>
                    </a:lnTo>
                    <a:lnTo>
                      <a:pt x="1322" y="1055"/>
                    </a:lnTo>
                    <a:lnTo>
                      <a:pt x="1312" y="1056"/>
                    </a:lnTo>
                    <a:lnTo>
                      <a:pt x="1311" y="1061"/>
                    </a:lnTo>
                    <a:lnTo>
                      <a:pt x="1308" y="1072"/>
                    </a:lnTo>
                    <a:lnTo>
                      <a:pt x="1308" y="1078"/>
                    </a:lnTo>
                    <a:lnTo>
                      <a:pt x="1305" y="1113"/>
                    </a:lnTo>
                    <a:lnTo>
                      <a:pt x="1301" y="1122"/>
                    </a:lnTo>
                    <a:lnTo>
                      <a:pt x="1288" y="1140"/>
                    </a:lnTo>
                    <a:lnTo>
                      <a:pt x="1271" y="1157"/>
                    </a:lnTo>
                    <a:lnTo>
                      <a:pt x="1258" y="1165"/>
                    </a:lnTo>
                    <a:lnTo>
                      <a:pt x="1250" y="1167"/>
                    </a:lnTo>
                    <a:lnTo>
                      <a:pt x="1221" y="1162"/>
                    </a:lnTo>
                    <a:lnTo>
                      <a:pt x="1205" y="1171"/>
                    </a:lnTo>
                    <a:lnTo>
                      <a:pt x="1188" y="1177"/>
                    </a:lnTo>
                    <a:lnTo>
                      <a:pt x="1127" y="1175"/>
                    </a:lnTo>
                    <a:lnTo>
                      <a:pt x="1106" y="1171"/>
                    </a:lnTo>
                    <a:lnTo>
                      <a:pt x="1071" y="1156"/>
                    </a:lnTo>
                    <a:lnTo>
                      <a:pt x="1055" y="1155"/>
                    </a:lnTo>
                    <a:lnTo>
                      <a:pt x="1043" y="1159"/>
                    </a:lnTo>
                    <a:lnTo>
                      <a:pt x="1032" y="1162"/>
                    </a:lnTo>
                    <a:lnTo>
                      <a:pt x="1000" y="1168"/>
                    </a:lnTo>
                    <a:lnTo>
                      <a:pt x="990" y="1165"/>
                    </a:lnTo>
                    <a:lnTo>
                      <a:pt x="976" y="1170"/>
                    </a:lnTo>
                    <a:lnTo>
                      <a:pt x="966" y="1179"/>
                    </a:lnTo>
                    <a:lnTo>
                      <a:pt x="960" y="1199"/>
                    </a:lnTo>
                    <a:lnTo>
                      <a:pt x="928" y="1213"/>
                    </a:lnTo>
                    <a:lnTo>
                      <a:pt x="917" y="1222"/>
                    </a:lnTo>
                    <a:lnTo>
                      <a:pt x="872" y="1227"/>
                    </a:lnTo>
                    <a:lnTo>
                      <a:pt x="856" y="1241"/>
                    </a:lnTo>
                    <a:lnTo>
                      <a:pt x="851" y="1236"/>
                    </a:lnTo>
                    <a:lnTo>
                      <a:pt x="857" y="1227"/>
                    </a:lnTo>
                    <a:lnTo>
                      <a:pt x="862" y="1227"/>
                    </a:lnTo>
                    <a:lnTo>
                      <a:pt x="864" y="1219"/>
                    </a:lnTo>
                    <a:lnTo>
                      <a:pt x="861" y="1218"/>
                    </a:lnTo>
                    <a:lnTo>
                      <a:pt x="863" y="1215"/>
                    </a:lnTo>
                    <a:lnTo>
                      <a:pt x="861" y="1213"/>
                    </a:lnTo>
                    <a:lnTo>
                      <a:pt x="867" y="1210"/>
                    </a:lnTo>
                    <a:lnTo>
                      <a:pt x="866" y="1203"/>
                    </a:lnTo>
                    <a:lnTo>
                      <a:pt x="869" y="1203"/>
                    </a:lnTo>
                    <a:lnTo>
                      <a:pt x="868" y="1199"/>
                    </a:lnTo>
                    <a:lnTo>
                      <a:pt x="875" y="1186"/>
                    </a:lnTo>
                    <a:lnTo>
                      <a:pt x="870" y="1173"/>
                    </a:lnTo>
                    <a:lnTo>
                      <a:pt x="890" y="1149"/>
                    </a:lnTo>
                    <a:lnTo>
                      <a:pt x="876" y="1140"/>
                    </a:lnTo>
                    <a:lnTo>
                      <a:pt x="875" y="1128"/>
                    </a:lnTo>
                    <a:lnTo>
                      <a:pt x="864" y="1117"/>
                    </a:lnTo>
                    <a:lnTo>
                      <a:pt x="851" y="1126"/>
                    </a:lnTo>
                    <a:lnTo>
                      <a:pt x="830" y="1153"/>
                    </a:lnTo>
                    <a:lnTo>
                      <a:pt x="815" y="1161"/>
                    </a:lnTo>
                    <a:lnTo>
                      <a:pt x="803" y="1173"/>
                    </a:lnTo>
                    <a:lnTo>
                      <a:pt x="802" y="1180"/>
                    </a:lnTo>
                    <a:lnTo>
                      <a:pt x="802" y="1181"/>
                    </a:lnTo>
                    <a:lnTo>
                      <a:pt x="796" y="1180"/>
                    </a:lnTo>
                    <a:lnTo>
                      <a:pt x="778" y="1186"/>
                    </a:lnTo>
                    <a:lnTo>
                      <a:pt x="764" y="1193"/>
                    </a:lnTo>
                    <a:lnTo>
                      <a:pt x="725" y="1224"/>
                    </a:lnTo>
                    <a:lnTo>
                      <a:pt x="722" y="1230"/>
                    </a:lnTo>
                    <a:lnTo>
                      <a:pt x="719" y="1243"/>
                    </a:lnTo>
                    <a:lnTo>
                      <a:pt x="714" y="1242"/>
                    </a:lnTo>
                    <a:lnTo>
                      <a:pt x="705" y="1227"/>
                    </a:lnTo>
                    <a:lnTo>
                      <a:pt x="705" y="1215"/>
                    </a:lnTo>
                    <a:lnTo>
                      <a:pt x="688" y="1217"/>
                    </a:lnTo>
                    <a:lnTo>
                      <a:pt x="682" y="1203"/>
                    </a:lnTo>
                    <a:lnTo>
                      <a:pt x="672" y="1205"/>
                    </a:lnTo>
                    <a:lnTo>
                      <a:pt x="674" y="1199"/>
                    </a:lnTo>
                    <a:lnTo>
                      <a:pt x="666" y="1189"/>
                    </a:lnTo>
                    <a:lnTo>
                      <a:pt x="659" y="1198"/>
                    </a:lnTo>
                    <a:lnTo>
                      <a:pt x="650" y="1198"/>
                    </a:lnTo>
                    <a:lnTo>
                      <a:pt x="650" y="1207"/>
                    </a:lnTo>
                    <a:lnTo>
                      <a:pt x="645" y="1211"/>
                    </a:lnTo>
                    <a:lnTo>
                      <a:pt x="639" y="1217"/>
                    </a:lnTo>
                    <a:lnTo>
                      <a:pt x="627" y="1200"/>
                    </a:lnTo>
                    <a:lnTo>
                      <a:pt x="612" y="1188"/>
                    </a:lnTo>
                    <a:lnTo>
                      <a:pt x="606" y="1171"/>
                    </a:lnTo>
                    <a:lnTo>
                      <a:pt x="596" y="1162"/>
                    </a:lnTo>
                    <a:lnTo>
                      <a:pt x="591" y="1141"/>
                    </a:lnTo>
                    <a:lnTo>
                      <a:pt x="538" y="1169"/>
                    </a:lnTo>
                    <a:lnTo>
                      <a:pt x="527" y="1152"/>
                    </a:lnTo>
                    <a:lnTo>
                      <a:pt x="507" y="1162"/>
                    </a:lnTo>
                    <a:lnTo>
                      <a:pt x="498" y="1150"/>
                    </a:lnTo>
                    <a:lnTo>
                      <a:pt x="448" y="1175"/>
                    </a:lnTo>
                    <a:lnTo>
                      <a:pt x="422" y="1194"/>
                    </a:lnTo>
                    <a:lnTo>
                      <a:pt x="417" y="1204"/>
                    </a:lnTo>
                    <a:lnTo>
                      <a:pt x="416" y="1215"/>
                    </a:lnTo>
                    <a:lnTo>
                      <a:pt x="407" y="1222"/>
                    </a:lnTo>
                    <a:lnTo>
                      <a:pt x="401" y="1204"/>
                    </a:lnTo>
                    <a:lnTo>
                      <a:pt x="395" y="1201"/>
                    </a:lnTo>
                    <a:lnTo>
                      <a:pt x="384" y="1207"/>
                    </a:lnTo>
                    <a:lnTo>
                      <a:pt x="375" y="1204"/>
                    </a:lnTo>
                    <a:lnTo>
                      <a:pt x="371" y="1207"/>
                    </a:lnTo>
                    <a:lnTo>
                      <a:pt x="365" y="1195"/>
                    </a:lnTo>
                    <a:lnTo>
                      <a:pt x="358" y="1198"/>
                    </a:lnTo>
                    <a:lnTo>
                      <a:pt x="347" y="1191"/>
                    </a:lnTo>
                    <a:lnTo>
                      <a:pt x="346" y="1185"/>
                    </a:lnTo>
                    <a:lnTo>
                      <a:pt x="327" y="1171"/>
                    </a:lnTo>
                    <a:lnTo>
                      <a:pt x="316" y="1149"/>
                    </a:lnTo>
                    <a:lnTo>
                      <a:pt x="309" y="1143"/>
                    </a:lnTo>
                    <a:lnTo>
                      <a:pt x="292" y="1139"/>
                    </a:lnTo>
                    <a:lnTo>
                      <a:pt x="315" y="1117"/>
                    </a:lnTo>
                    <a:lnTo>
                      <a:pt x="330" y="1092"/>
                    </a:lnTo>
                    <a:lnTo>
                      <a:pt x="329" y="1079"/>
                    </a:lnTo>
                    <a:lnTo>
                      <a:pt x="317" y="1063"/>
                    </a:lnTo>
                    <a:lnTo>
                      <a:pt x="308" y="1047"/>
                    </a:lnTo>
                    <a:lnTo>
                      <a:pt x="309" y="1033"/>
                    </a:lnTo>
                    <a:lnTo>
                      <a:pt x="322" y="1025"/>
                    </a:lnTo>
                    <a:lnTo>
                      <a:pt x="342" y="1027"/>
                    </a:lnTo>
                    <a:lnTo>
                      <a:pt x="358" y="1017"/>
                    </a:lnTo>
                    <a:lnTo>
                      <a:pt x="376" y="995"/>
                    </a:lnTo>
                    <a:lnTo>
                      <a:pt x="378" y="979"/>
                    </a:lnTo>
                    <a:lnTo>
                      <a:pt x="387" y="966"/>
                    </a:lnTo>
                    <a:lnTo>
                      <a:pt x="383" y="953"/>
                    </a:lnTo>
                    <a:lnTo>
                      <a:pt x="374" y="947"/>
                    </a:lnTo>
                    <a:lnTo>
                      <a:pt x="353" y="917"/>
                    </a:lnTo>
                    <a:lnTo>
                      <a:pt x="338" y="913"/>
                    </a:lnTo>
                    <a:lnTo>
                      <a:pt x="329" y="904"/>
                    </a:lnTo>
                    <a:lnTo>
                      <a:pt x="339" y="888"/>
                    </a:lnTo>
                    <a:lnTo>
                      <a:pt x="338" y="876"/>
                    </a:lnTo>
                    <a:lnTo>
                      <a:pt x="328" y="852"/>
                    </a:lnTo>
                    <a:lnTo>
                      <a:pt x="324" y="826"/>
                    </a:lnTo>
                    <a:lnTo>
                      <a:pt x="312" y="816"/>
                    </a:lnTo>
                    <a:lnTo>
                      <a:pt x="306" y="797"/>
                    </a:lnTo>
                    <a:lnTo>
                      <a:pt x="292" y="785"/>
                    </a:lnTo>
                    <a:lnTo>
                      <a:pt x="272" y="785"/>
                    </a:lnTo>
                    <a:lnTo>
                      <a:pt x="232" y="803"/>
                    </a:lnTo>
                    <a:lnTo>
                      <a:pt x="219" y="798"/>
                    </a:lnTo>
                    <a:lnTo>
                      <a:pt x="201" y="798"/>
                    </a:lnTo>
                    <a:lnTo>
                      <a:pt x="190" y="791"/>
                    </a:lnTo>
                    <a:lnTo>
                      <a:pt x="188" y="789"/>
                    </a:lnTo>
                    <a:lnTo>
                      <a:pt x="160" y="771"/>
                    </a:lnTo>
                    <a:lnTo>
                      <a:pt x="140" y="760"/>
                    </a:lnTo>
                    <a:lnTo>
                      <a:pt x="130" y="750"/>
                    </a:lnTo>
                    <a:lnTo>
                      <a:pt x="122" y="750"/>
                    </a:lnTo>
                    <a:lnTo>
                      <a:pt x="104" y="760"/>
                    </a:lnTo>
                    <a:lnTo>
                      <a:pt x="93" y="756"/>
                    </a:lnTo>
                    <a:lnTo>
                      <a:pt x="82" y="744"/>
                    </a:lnTo>
                    <a:lnTo>
                      <a:pt x="62" y="737"/>
                    </a:lnTo>
                    <a:lnTo>
                      <a:pt x="39" y="733"/>
                    </a:lnTo>
                    <a:lnTo>
                      <a:pt x="16" y="721"/>
                    </a:lnTo>
                    <a:lnTo>
                      <a:pt x="4" y="720"/>
                    </a:lnTo>
                    <a:lnTo>
                      <a:pt x="0" y="711"/>
                    </a:lnTo>
                    <a:lnTo>
                      <a:pt x="6" y="701"/>
                    </a:lnTo>
                    <a:lnTo>
                      <a:pt x="8" y="702"/>
                    </a:lnTo>
                    <a:lnTo>
                      <a:pt x="24" y="685"/>
                    </a:lnTo>
                    <a:lnTo>
                      <a:pt x="22" y="685"/>
                    </a:lnTo>
                    <a:lnTo>
                      <a:pt x="26" y="660"/>
                    </a:lnTo>
                    <a:lnTo>
                      <a:pt x="30" y="653"/>
                    </a:lnTo>
                    <a:lnTo>
                      <a:pt x="40" y="653"/>
                    </a:lnTo>
                    <a:lnTo>
                      <a:pt x="54" y="673"/>
                    </a:lnTo>
                    <a:lnTo>
                      <a:pt x="62" y="677"/>
                    </a:lnTo>
                    <a:lnTo>
                      <a:pt x="69" y="673"/>
                    </a:lnTo>
                    <a:lnTo>
                      <a:pt x="72" y="658"/>
                    </a:lnTo>
                    <a:lnTo>
                      <a:pt x="96" y="636"/>
                    </a:lnTo>
                    <a:lnTo>
                      <a:pt x="123" y="623"/>
                    </a:lnTo>
                    <a:lnTo>
                      <a:pt x="134" y="616"/>
                    </a:lnTo>
                    <a:lnTo>
                      <a:pt x="155" y="616"/>
                    </a:lnTo>
                    <a:lnTo>
                      <a:pt x="156" y="615"/>
                    </a:lnTo>
                    <a:lnTo>
                      <a:pt x="170" y="593"/>
                    </a:lnTo>
                    <a:lnTo>
                      <a:pt x="161" y="569"/>
                    </a:lnTo>
                    <a:lnTo>
                      <a:pt x="154" y="562"/>
                    </a:lnTo>
                    <a:lnTo>
                      <a:pt x="177" y="534"/>
                    </a:lnTo>
                    <a:lnTo>
                      <a:pt x="190" y="531"/>
                    </a:lnTo>
                    <a:lnTo>
                      <a:pt x="204" y="533"/>
                    </a:lnTo>
                    <a:lnTo>
                      <a:pt x="219" y="526"/>
                    </a:lnTo>
                    <a:lnTo>
                      <a:pt x="233" y="534"/>
                    </a:lnTo>
                    <a:lnTo>
                      <a:pt x="251" y="519"/>
                    </a:lnTo>
                    <a:lnTo>
                      <a:pt x="258" y="519"/>
                    </a:lnTo>
                    <a:lnTo>
                      <a:pt x="269" y="527"/>
                    </a:lnTo>
                    <a:lnTo>
                      <a:pt x="282" y="525"/>
                    </a:lnTo>
                    <a:lnTo>
                      <a:pt x="292" y="528"/>
                    </a:lnTo>
                    <a:lnTo>
                      <a:pt x="306" y="545"/>
                    </a:lnTo>
                    <a:lnTo>
                      <a:pt x="323" y="556"/>
                    </a:lnTo>
                    <a:lnTo>
                      <a:pt x="365" y="559"/>
                    </a:lnTo>
                    <a:lnTo>
                      <a:pt x="380" y="564"/>
                    </a:lnTo>
                    <a:lnTo>
                      <a:pt x="394" y="580"/>
                    </a:lnTo>
                    <a:lnTo>
                      <a:pt x="410" y="610"/>
                    </a:lnTo>
                    <a:lnTo>
                      <a:pt x="428" y="641"/>
                    </a:lnTo>
                    <a:lnTo>
                      <a:pt x="442" y="671"/>
                    </a:lnTo>
                    <a:lnTo>
                      <a:pt x="465" y="673"/>
                    </a:lnTo>
                    <a:lnTo>
                      <a:pt x="527" y="676"/>
                    </a:lnTo>
                    <a:lnTo>
                      <a:pt x="545" y="675"/>
                    </a:lnTo>
                    <a:lnTo>
                      <a:pt x="552" y="665"/>
                    </a:lnTo>
                    <a:lnTo>
                      <a:pt x="562" y="640"/>
                    </a:lnTo>
                    <a:lnTo>
                      <a:pt x="578" y="624"/>
                    </a:lnTo>
                    <a:lnTo>
                      <a:pt x="584" y="623"/>
                    </a:lnTo>
                    <a:lnTo>
                      <a:pt x="594" y="604"/>
                    </a:lnTo>
                    <a:lnTo>
                      <a:pt x="603" y="604"/>
                    </a:lnTo>
                    <a:lnTo>
                      <a:pt x="605" y="648"/>
                    </a:lnTo>
                    <a:lnTo>
                      <a:pt x="614" y="660"/>
                    </a:lnTo>
                    <a:lnTo>
                      <a:pt x="628" y="659"/>
                    </a:lnTo>
                    <a:lnTo>
                      <a:pt x="657" y="660"/>
                    </a:lnTo>
                    <a:lnTo>
                      <a:pt x="706" y="648"/>
                    </a:lnTo>
                    <a:lnTo>
                      <a:pt x="758" y="640"/>
                    </a:lnTo>
                    <a:lnTo>
                      <a:pt x="898" y="613"/>
                    </a:lnTo>
                    <a:lnTo>
                      <a:pt x="879" y="593"/>
                    </a:lnTo>
                    <a:lnTo>
                      <a:pt x="873" y="574"/>
                    </a:lnTo>
                    <a:lnTo>
                      <a:pt x="870" y="522"/>
                    </a:lnTo>
                    <a:lnTo>
                      <a:pt x="868" y="480"/>
                    </a:lnTo>
                    <a:lnTo>
                      <a:pt x="857" y="450"/>
                    </a:lnTo>
                    <a:lnTo>
                      <a:pt x="885" y="426"/>
                    </a:lnTo>
                    <a:lnTo>
                      <a:pt x="856" y="385"/>
                    </a:lnTo>
                    <a:lnTo>
                      <a:pt x="861" y="365"/>
                    </a:lnTo>
                    <a:lnTo>
                      <a:pt x="854" y="352"/>
                    </a:lnTo>
                    <a:lnTo>
                      <a:pt x="807" y="318"/>
                    </a:lnTo>
                    <a:lnTo>
                      <a:pt x="808" y="307"/>
                    </a:lnTo>
                    <a:lnTo>
                      <a:pt x="813" y="304"/>
                    </a:lnTo>
                    <a:lnTo>
                      <a:pt x="844" y="304"/>
                    </a:lnTo>
                    <a:lnTo>
                      <a:pt x="862" y="297"/>
                    </a:lnTo>
                    <a:lnTo>
                      <a:pt x="873" y="292"/>
                    </a:lnTo>
                    <a:lnTo>
                      <a:pt x="903" y="277"/>
                    </a:lnTo>
                    <a:lnTo>
                      <a:pt x="918" y="251"/>
                    </a:lnTo>
                    <a:lnTo>
                      <a:pt x="916" y="228"/>
                    </a:lnTo>
                    <a:lnTo>
                      <a:pt x="929" y="202"/>
                    </a:lnTo>
                    <a:lnTo>
                      <a:pt x="906" y="179"/>
                    </a:lnTo>
                    <a:lnTo>
                      <a:pt x="911" y="168"/>
                    </a:lnTo>
                    <a:lnTo>
                      <a:pt x="918" y="149"/>
                    </a:lnTo>
                    <a:lnTo>
                      <a:pt x="939" y="129"/>
                    </a:lnTo>
                    <a:lnTo>
                      <a:pt x="938" y="115"/>
                    </a:lnTo>
                    <a:lnTo>
                      <a:pt x="912" y="105"/>
                    </a:lnTo>
                    <a:lnTo>
                      <a:pt x="926" y="83"/>
                    </a:lnTo>
                    <a:lnTo>
                      <a:pt x="988" y="39"/>
                    </a:lnTo>
                    <a:lnTo>
                      <a:pt x="996" y="23"/>
                    </a:lnTo>
                    <a:close/>
                  </a:path>
                </a:pathLst>
              </a:custGeom>
              <a:solidFill>
                <a:srgbClr val="ffff66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418680" y="3732120"/>
              <a:ext cx="9018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Nyugat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unántúl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gionális 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"/>
            <p:cNvGrpSpPr/>
            <p:nvPr/>
          </p:nvGrpSpPr>
          <p:grpSpPr>
            <a:xfrm>
              <a:off x="1171800" y="2841120"/>
              <a:ext cx="1937880" cy="1683360"/>
              <a:chOff x="1171800" y="2841120"/>
              <a:chExt cx="1937880" cy="1683360"/>
            </a:xfrm>
          </p:grpSpPr>
          <p:sp>
            <p:nvSpPr>
              <p:cNvPr id="359" name=""/>
              <p:cNvSpPr/>
              <p:nvPr/>
            </p:nvSpPr>
            <p:spPr>
              <a:xfrm>
                <a:off x="1981440" y="2841120"/>
                <a:ext cx="1094760" cy="720360"/>
              </a:xfrm>
              <a:custGeom>
                <a:avLst/>
                <a:gdLst/>
                <a:ahLst/>
                <a:rect l="l" t="t" r="r" b="b"/>
                <a:pathLst>
                  <a:path w="1448" h="963">
                    <a:moveTo>
                      <a:pt x="1351" y="15"/>
                    </a:moveTo>
                    <a:lnTo>
                      <a:pt x="1369" y="19"/>
                    </a:lnTo>
                    <a:lnTo>
                      <a:pt x="1386" y="20"/>
                    </a:lnTo>
                    <a:lnTo>
                      <a:pt x="1396" y="26"/>
                    </a:lnTo>
                    <a:lnTo>
                      <a:pt x="1401" y="33"/>
                    </a:lnTo>
                    <a:lnTo>
                      <a:pt x="1406" y="49"/>
                    </a:lnTo>
                    <a:lnTo>
                      <a:pt x="1410" y="70"/>
                    </a:lnTo>
                    <a:lnTo>
                      <a:pt x="1413" y="85"/>
                    </a:lnTo>
                    <a:lnTo>
                      <a:pt x="1422" y="93"/>
                    </a:lnTo>
                    <a:lnTo>
                      <a:pt x="1420" y="114"/>
                    </a:lnTo>
                    <a:lnTo>
                      <a:pt x="1432" y="126"/>
                    </a:lnTo>
                    <a:lnTo>
                      <a:pt x="1437" y="141"/>
                    </a:lnTo>
                    <a:lnTo>
                      <a:pt x="1448" y="147"/>
                    </a:lnTo>
                    <a:lnTo>
                      <a:pt x="1447" y="163"/>
                    </a:lnTo>
                    <a:lnTo>
                      <a:pt x="1430" y="181"/>
                    </a:lnTo>
                    <a:lnTo>
                      <a:pt x="1390" y="162"/>
                    </a:lnTo>
                    <a:lnTo>
                      <a:pt x="1369" y="176"/>
                    </a:lnTo>
                    <a:lnTo>
                      <a:pt x="1327" y="183"/>
                    </a:lnTo>
                    <a:lnTo>
                      <a:pt x="1332" y="189"/>
                    </a:lnTo>
                    <a:lnTo>
                      <a:pt x="1328" y="201"/>
                    </a:lnTo>
                    <a:lnTo>
                      <a:pt x="1332" y="211"/>
                    </a:lnTo>
                    <a:lnTo>
                      <a:pt x="1324" y="222"/>
                    </a:lnTo>
                    <a:lnTo>
                      <a:pt x="1336" y="240"/>
                    </a:lnTo>
                    <a:lnTo>
                      <a:pt x="1344" y="264"/>
                    </a:lnTo>
                    <a:lnTo>
                      <a:pt x="1347" y="297"/>
                    </a:lnTo>
                    <a:lnTo>
                      <a:pt x="1344" y="302"/>
                    </a:lnTo>
                    <a:lnTo>
                      <a:pt x="1308" y="290"/>
                    </a:lnTo>
                    <a:lnTo>
                      <a:pt x="1272" y="286"/>
                    </a:lnTo>
                    <a:lnTo>
                      <a:pt x="1239" y="267"/>
                    </a:lnTo>
                    <a:lnTo>
                      <a:pt x="1222" y="286"/>
                    </a:lnTo>
                    <a:lnTo>
                      <a:pt x="1207" y="290"/>
                    </a:lnTo>
                    <a:lnTo>
                      <a:pt x="1185" y="288"/>
                    </a:lnTo>
                    <a:lnTo>
                      <a:pt x="1228" y="324"/>
                    </a:lnTo>
                    <a:lnTo>
                      <a:pt x="1227" y="327"/>
                    </a:lnTo>
                    <a:lnTo>
                      <a:pt x="1204" y="338"/>
                    </a:lnTo>
                    <a:lnTo>
                      <a:pt x="1179" y="362"/>
                    </a:lnTo>
                    <a:lnTo>
                      <a:pt x="1170" y="388"/>
                    </a:lnTo>
                    <a:lnTo>
                      <a:pt x="1149" y="400"/>
                    </a:lnTo>
                    <a:lnTo>
                      <a:pt x="1149" y="422"/>
                    </a:lnTo>
                    <a:lnTo>
                      <a:pt x="1123" y="439"/>
                    </a:lnTo>
                    <a:lnTo>
                      <a:pt x="1111" y="463"/>
                    </a:lnTo>
                    <a:lnTo>
                      <a:pt x="1084" y="470"/>
                    </a:lnTo>
                    <a:lnTo>
                      <a:pt x="1050" y="465"/>
                    </a:lnTo>
                    <a:lnTo>
                      <a:pt x="1014" y="468"/>
                    </a:lnTo>
                    <a:lnTo>
                      <a:pt x="1014" y="478"/>
                    </a:lnTo>
                    <a:lnTo>
                      <a:pt x="1009" y="483"/>
                    </a:lnTo>
                    <a:lnTo>
                      <a:pt x="976" y="474"/>
                    </a:lnTo>
                    <a:lnTo>
                      <a:pt x="966" y="464"/>
                    </a:lnTo>
                    <a:lnTo>
                      <a:pt x="952" y="464"/>
                    </a:lnTo>
                    <a:lnTo>
                      <a:pt x="927" y="476"/>
                    </a:lnTo>
                    <a:lnTo>
                      <a:pt x="914" y="476"/>
                    </a:lnTo>
                    <a:lnTo>
                      <a:pt x="897" y="506"/>
                    </a:lnTo>
                    <a:lnTo>
                      <a:pt x="891" y="508"/>
                    </a:lnTo>
                    <a:lnTo>
                      <a:pt x="876" y="496"/>
                    </a:lnTo>
                    <a:lnTo>
                      <a:pt x="837" y="508"/>
                    </a:lnTo>
                    <a:lnTo>
                      <a:pt x="835" y="504"/>
                    </a:lnTo>
                    <a:lnTo>
                      <a:pt x="829" y="513"/>
                    </a:lnTo>
                    <a:lnTo>
                      <a:pt x="840" y="538"/>
                    </a:lnTo>
                    <a:lnTo>
                      <a:pt x="843" y="566"/>
                    </a:lnTo>
                    <a:lnTo>
                      <a:pt x="841" y="572"/>
                    </a:lnTo>
                    <a:lnTo>
                      <a:pt x="814" y="568"/>
                    </a:lnTo>
                    <a:lnTo>
                      <a:pt x="826" y="580"/>
                    </a:lnTo>
                    <a:lnTo>
                      <a:pt x="830" y="591"/>
                    </a:lnTo>
                    <a:lnTo>
                      <a:pt x="824" y="597"/>
                    </a:lnTo>
                    <a:lnTo>
                      <a:pt x="825" y="610"/>
                    </a:lnTo>
                    <a:lnTo>
                      <a:pt x="801" y="621"/>
                    </a:lnTo>
                    <a:lnTo>
                      <a:pt x="807" y="625"/>
                    </a:lnTo>
                    <a:lnTo>
                      <a:pt x="800" y="633"/>
                    </a:lnTo>
                    <a:lnTo>
                      <a:pt x="789" y="636"/>
                    </a:lnTo>
                    <a:lnTo>
                      <a:pt x="781" y="627"/>
                    </a:lnTo>
                    <a:lnTo>
                      <a:pt x="763" y="633"/>
                    </a:lnTo>
                    <a:lnTo>
                      <a:pt x="760" y="638"/>
                    </a:lnTo>
                    <a:lnTo>
                      <a:pt x="757" y="660"/>
                    </a:lnTo>
                    <a:lnTo>
                      <a:pt x="735" y="680"/>
                    </a:lnTo>
                    <a:lnTo>
                      <a:pt x="733" y="691"/>
                    </a:lnTo>
                    <a:lnTo>
                      <a:pt x="717" y="708"/>
                    </a:lnTo>
                    <a:lnTo>
                      <a:pt x="705" y="704"/>
                    </a:lnTo>
                    <a:lnTo>
                      <a:pt x="690" y="687"/>
                    </a:lnTo>
                    <a:lnTo>
                      <a:pt x="676" y="699"/>
                    </a:lnTo>
                    <a:lnTo>
                      <a:pt x="673" y="714"/>
                    </a:lnTo>
                    <a:lnTo>
                      <a:pt x="655" y="733"/>
                    </a:lnTo>
                    <a:lnTo>
                      <a:pt x="656" y="740"/>
                    </a:lnTo>
                    <a:lnTo>
                      <a:pt x="684" y="762"/>
                    </a:lnTo>
                    <a:lnTo>
                      <a:pt x="691" y="772"/>
                    </a:lnTo>
                    <a:lnTo>
                      <a:pt x="686" y="776"/>
                    </a:lnTo>
                    <a:lnTo>
                      <a:pt x="680" y="772"/>
                    </a:lnTo>
                    <a:lnTo>
                      <a:pt x="648" y="783"/>
                    </a:lnTo>
                    <a:lnTo>
                      <a:pt x="632" y="778"/>
                    </a:lnTo>
                    <a:lnTo>
                      <a:pt x="615" y="808"/>
                    </a:lnTo>
                    <a:lnTo>
                      <a:pt x="609" y="810"/>
                    </a:lnTo>
                    <a:lnTo>
                      <a:pt x="598" y="818"/>
                    </a:lnTo>
                    <a:lnTo>
                      <a:pt x="574" y="807"/>
                    </a:lnTo>
                    <a:lnTo>
                      <a:pt x="561" y="795"/>
                    </a:lnTo>
                    <a:lnTo>
                      <a:pt x="554" y="781"/>
                    </a:lnTo>
                    <a:lnTo>
                      <a:pt x="553" y="772"/>
                    </a:lnTo>
                    <a:lnTo>
                      <a:pt x="517" y="759"/>
                    </a:lnTo>
                    <a:lnTo>
                      <a:pt x="508" y="748"/>
                    </a:lnTo>
                    <a:lnTo>
                      <a:pt x="499" y="717"/>
                    </a:lnTo>
                    <a:lnTo>
                      <a:pt x="499" y="704"/>
                    </a:lnTo>
                    <a:lnTo>
                      <a:pt x="471" y="697"/>
                    </a:lnTo>
                    <a:lnTo>
                      <a:pt x="458" y="676"/>
                    </a:lnTo>
                    <a:lnTo>
                      <a:pt x="430" y="678"/>
                    </a:lnTo>
                    <a:lnTo>
                      <a:pt x="435" y="694"/>
                    </a:lnTo>
                    <a:lnTo>
                      <a:pt x="435" y="714"/>
                    </a:lnTo>
                    <a:lnTo>
                      <a:pt x="426" y="726"/>
                    </a:lnTo>
                    <a:lnTo>
                      <a:pt x="417" y="727"/>
                    </a:lnTo>
                    <a:lnTo>
                      <a:pt x="405" y="722"/>
                    </a:lnTo>
                    <a:lnTo>
                      <a:pt x="384" y="735"/>
                    </a:lnTo>
                    <a:lnTo>
                      <a:pt x="368" y="734"/>
                    </a:lnTo>
                    <a:lnTo>
                      <a:pt x="366" y="723"/>
                    </a:lnTo>
                    <a:lnTo>
                      <a:pt x="356" y="718"/>
                    </a:lnTo>
                    <a:lnTo>
                      <a:pt x="328" y="726"/>
                    </a:lnTo>
                    <a:lnTo>
                      <a:pt x="325" y="733"/>
                    </a:lnTo>
                    <a:lnTo>
                      <a:pt x="328" y="771"/>
                    </a:lnTo>
                    <a:lnTo>
                      <a:pt x="319" y="780"/>
                    </a:lnTo>
                    <a:lnTo>
                      <a:pt x="327" y="799"/>
                    </a:lnTo>
                    <a:lnTo>
                      <a:pt x="326" y="810"/>
                    </a:lnTo>
                    <a:lnTo>
                      <a:pt x="308" y="837"/>
                    </a:lnTo>
                    <a:lnTo>
                      <a:pt x="291" y="844"/>
                    </a:lnTo>
                    <a:lnTo>
                      <a:pt x="277" y="872"/>
                    </a:lnTo>
                    <a:lnTo>
                      <a:pt x="278" y="880"/>
                    </a:lnTo>
                    <a:lnTo>
                      <a:pt x="290" y="902"/>
                    </a:lnTo>
                    <a:lnTo>
                      <a:pt x="273" y="916"/>
                    </a:lnTo>
                    <a:lnTo>
                      <a:pt x="256" y="914"/>
                    </a:lnTo>
                    <a:lnTo>
                      <a:pt x="225" y="936"/>
                    </a:lnTo>
                    <a:lnTo>
                      <a:pt x="214" y="946"/>
                    </a:lnTo>
                    <a:lnTo>
                      <a:pt x="218" y="960"/>
                    </a:lnTo>
                    <a:lnTo>
                      <a:pt x="189" y="951"/>
                    </a:lnTo>
                    <a:lnTo>
                      <a:pt x="162" y="963"/>
                    </a:lnTo>
                    <a:lnTo>
                      <a:pt x="157" y="954"/>
                    </a:lnTo>
                    <a:lnTo>
                      <a:pt x="135" y="944"/>
                    </a:lnTo>
                    <a:lnTo>
                      <a:pt x="122" y="955"/>
                    </a:lnTo>
                    <a:lnTo>
                      <a:pt x="117" y="954"/>
                    </a:lnTo>
                    <a:lnTo>
                      <a:pt x="118" y="940"/>
                    </a:lnTo>
                    <a:lnTo>
                      <a:pt x="114" y="924"/>
                    </a:lnTo>
                    <a:lnTo>
                      <a:pt x="103" y="907"/>
                    </a:lnTo>
                    <a:lnTo>
                      <a:pt x="88" y="895"/>
                    </a:lnTo>
                    <a:lnTo>
                      <a:pt x="105" y="884"/>
                    </a:lnTo>
                    <a:lnTo>
                      <a:pt x="105" y="862"/>
                    </a:lnTo>
                    <a:lnTo>
                      <a:pt x="94" y="860"/>
                    </a:lnTo>
                    <a:lnTo>
                      <a:pt x="85" y="852"/>
                    </a:lnTo>
                    <a:lnTo>
                      <a:pt x="75" y="852"/>
                    </a:lnTo>
                    <a:lnTo>
                      <a:pt x="64" y="848"/>
                    </a:lnTo>
                    <a:lnTo>
                      <a:pt x="48" y="861"/>
                    </a:lnTo>
                    <a:lnTo>
                      <a:pt x="10" y="842"/>
                    </a:lnTo>
                    <a:lnTo>
                      <a:pt x="19" y="806"/>
                    </a:lnTo>
                    <a:lnTo>
                      <a:pt x="31" y="780"/>
                    </a:lnTo>
                    <a:lnTo>
                      <a:pt x="25" y="740"/>
                    </a:lnTo>
                    <a:lnTo>
                      <a:pt x="20" y="728"/>
                    </a:lnTo>
                    <a:lnTo>
                      <a:pt x="7" y="730"/>
                    </a:lnTo>
                    <a:lnTo>
                      <a:pt x="1" y="720"/>
                    </a:lnTo>
                    <a:lnTo>
                      <a:pt x="20" y="708"/>
                    </a:lnTo>
                    <a:lnTo>
                      <a:pt x="19" y="703"/>
                    </a:lnTo>
                    <a:lnTo>
                      <a:pt x="0" y="686"/>
                    </a:lnTo>
                    <a:lnTo>
                      <a:pt x="19" y="678"/>
                    </a:lnTo>
                    <a:lnTo>
                      <a:pt x="13" y="663"/>
                    </a:lnTo>
                    <a:lnTo>
                      <a:pt x="40" y="642"/>
                    </a:lnTo>
                    <a:lnTo>
                      <a:pt x="45" y="640"/>
                    </a:lnTo>
                    <a:lnTo>
                      <a:pt x="48" y="634"/>
                    </a:lnTo>
                    <a:lnTo>
                      <a:pt x="34" y="598"/>
                    </a:lnTo>
                    <a:lnTo>
                      <a:pt x="24" y="554"/>
                    </a:lnTo>
                    <a:lnTo>
                      <a:pt x="26" y="541"/>
                    </a:lnTo>
                    <a:lnTo>
                      <a:pt x="31" y="546"/>
                    </a:lnTo>
                    <a:lnTo>
                      <a:pt x="45" y="544"/>
                    </a:lnTo>
                    <a:lnTo>
                      <a:pt x="51" y="549"/>
                    </a:lnTo>
                    <a:lnTo>
                      <a:pt x="69" y="544"/>
                    </a:lnTo>
                    <a:lnTo>
                      <a:pt x="80" y="526"/>
                    </a:lnTo>
                    <a:lnTo>
                      <a:pt x="48" y="511"/>
                    </a:lnTo>
                    <a:lnTo>
                      <a:pt x="52" y="506"/>
                    </a:lnTo>
                    <a:lnTo>
                      <a:pt x="57" y="498"/>
                    </a:lnTo>
                    <a:lnTo>
                      <a:pt x="58" y="477"/>
                    </a:lnTo>
                    <a:lnTo>
                      <a:pt x="62" y="466"/>
                    </a:lnTo>
                    <a:lnTo>
                      <a:pt x="76" y="454"/>
                    </a:lnTo>
                    <a:lnTo>
                      <a:pt x="81" y="445"/>
                    </a:lnTo>
                    <a:lnTo>
                      <a:pt x="91" y="400"/>
                    </a:lnTo>
                    <a:lnTo>
                      <a:pt x="91" y="399"/>
                    </a:lnTo>
                    <a:lnTo>
                      <a:pt x="76" y="393"/>
                    </a:lnTo>
                    <a:lnTo>
                      <a:pt x="40" y="379"/>
                    </a:lnTo>
                    <a:lnTo>
                      <a:pt x="31" y="369"/>
                    </a:lnTo>
                    <a:lnTo>
                      <a:pt x="31" y="352"/>
                    </a:lnTo>
                    <a:lnTo>
                      <a:pt x="40" y="325"/>
                    </a:lnTo>
                    <a:lnTo>
                      <a:pt x="50" y="289"/>
                    </a:lnTo>
                    <a:lnTo>
                      <a:pt x="34" y="254"/>
                    </a:lnTo>
                    <a:lnTo>
                      <a:pt x="49" y="225"/>
                    </a:lnTo>
                    <a:lnTo>
                      <a:pt x="40" y="190"/>
                    </a:lnTo>
                    <a:lnTo>
                      <a:pt x="46" y="162"/>
                    </a:lnTo>
                    <a:lnTo>
                      <a:pt x="56" y="157"/>
                    </a:lnTo>
                    <a:lnTo>
                      <a:pt x="93" y="156"/>
                    </a:lnTo>
                    <a:lnTo>
                      <a:pt x="120" y="123"/>
                    </a:lnTo>
                    <a:lnTo>
                      <a:pt x="134" y="127"/>
                    </a:lnTo>
                    <a:lnTo>
                      <a:pt x="147" y="132"/>
                    </a:lnTo>
                    <a:lnTo>
                      <a:pt x="176" y="146"/>
                    </a:lnTo>
                    <a:lnTo>
                      <a:pt x="183" y="146"/>
                    </a:lnTo>
                    <a:lnTo>
                      <a:pt x="193" y="144"/>
                    </a:lnTo>
                    <a:lnTo>
                      <a:pt x="206" y="133"/>
                    </a:lnTo>
                    <a:lnTo>
                      <a:pt x="228" y="128"/>
                    </a:lnTo>
                    <a:lnTo>
                      <a:pt x="253" y="126"/>
                    </a:lnTo>
                    <a:lnTo>
                      <a:pt x="279" y="124"/>
                    </a:lnTo>
                    <a:lnTo>
                      <a:pt x="303" y="128"/>
                    </a:lnTo>
                    <a:lnTo>
                      <a:pt x="322" y="133"/>
                    </a:lnTo>
                    <a:lnTo>
                      <a:pt x="344" y="139"/>
                    </a:lnTo>
                    <a:lnTo>
                      <a:pt x="384" y="150"/>
                    </a:lnTo>
                    <a:lnTo>
                      <a:pt x="433" y="163"/>
                    </a:lnTo>
                    <a:lnTo>
                      <a:pt x="498" y="159"/>
                    </a:lnTo>
                    <a:lnTo>
                      <a:pt x="542" y="165"/>
                    </a:lnTo>
                    <a:lnTo>
                      <a:pt x="573" y="176"/>
                    </a:lnTo>
                    <a:lnTo>
                      <a:pt x="609" y="171"/>
                    </a:lnTo>
                    <a:lnTo>
                      <a:pt x="649" y="158"/>
                    </a:lnTo>
                    <a:lnTo>
                      <a:pt x="699" y="151"/>
                    </a:lnTo>
                    <a:lnTo>
                      <a:pt x="734" y="140"/>
                    </a:lnTo>
                    <a:lnTo>
                      <a:pt x="778" y="111"/>
                    </a:lnTo>
                    <a:lnTo>
                      <a:pt x="816" y="114"/>
                    </a:lnTo>
                    <a:lnTo>
                      <a:pt x="843" y="135"/>
                    </a:lnTo>
                    <a:lnTo>
                      <a:pt x="870" y="133"/>
                    </a:lnTo>
                    <a:lnTo>
                      <a:pt x="900" y="115"/>
                    </a:lnTo>
                    <a:lnTo>
                      <a:pt x="942" y="102"/>
                    </a:lnTo>
                    <a:lnTo>
                      <a:pt x="985" y="110"/>
                    </a:lnTo>
                    <a:lnTo>
                      <a:pt x="1038" y="129"/>
                    </a:lnTo>
                    <a:lnTo>
                      <a:pt x="1093" y="128"/>
                    </a:lnTo>
                    <a:lnTo>
                      <a:pt x="1138" y="82"/>
                    </a:lnTo>
                    <a:lnTo>
                      <a:pt x="1168" y="63"/>
                    </a:lnTo>
                    <a:lnTo>
                      <a:pt x="1178" y="19"/>
                    </a:lnTo>
                    <a:lnTo>
                      <a:pt x="1203" y="4"/>
                    </a:lnTo>
                    <a:lnTo>
                      <a:pt x="1252" y="0"/>
                    </a:lnTo>
                    <a:lnTo>
                      <a:pt x="1288" y="1"/>
                    </a:lnTo>
                    <a:lnTo>
                      <a:pt x="1351" y="15"/>
                    </a:lnTo>
                    <a:close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142000" y="3187080"/>
                <a:ext cx="967680" cy="1337400"/>
              </a:xfrm>
              <a:custGeom>
                <a:avLst/>
                <a:gdLst/>
                <a:ahLst/>
                <a:rect l="l" t="t" r="r" b="b"/>
                <a:pathLst>
                  <a:path w="1278" h="1789">
                    <a:moveTo>
                      <a:pt x="836" y="2"/>
                    </a:moveTo>
                    <a:lnTo>
                      <a:pt x="870" y="7"/>
                    </a:lnTo>
                    <a:lnTo>
                      <a:pt x="897" y="0"/>
                    </a:lnTo>
                    <a:lnTo>
                      <a:pt x="910" y="29"/>
                    </a:lnTo>
                    <a:lnTo>
                      <a:pt x="902" y="67"/>
                    </a:lnTo>
                    <a:lnTo>
                      <a:pt x="903" y="95"/>
                    </a:lnTo>
                    <a:lnTo>
                      <a:pt x="906" y="105"/>
                    </a:lnTo>
                    <a:lnTo>
                      <a:pt x="938" y="147"/>
                    </a:lnTo>
                    <a:lnTo>
                      <a:pt x="942" y="163"/>
                    </a:lnTo>
                    <a:lnTo>
                      <a:pt x="982" y="167"/>
                    </a:lnTo>
                    <a:lnTo>
                      <a:pt x="998" y="195"/>
                    </a:lnTo>
                    <a:lnTo>
                      <a:pt x="1018" y="221"/>
                    </a:lnTo>
                    <a:lnTo>
                      <a:pt x="1023" y="237"/>
                    </a:lnTo>
                    <a:lnTo>
                      <a:pt x="1026" y="295"/>
                    </a:lnTo>
                    <a:lnTo>
                      <a:pt x="992" y="319"/>
                    </a:lnTo>
                    <a:lnTo>
                      <a:pt x="981" y="342"/>
                    </a:lnTo>
                    <a:lnTo>
                      <a:pt x="1011" y="368"/>
                    </a:lnTo>
                    <a:lnTo>
                      <a:pt x="1020" y="392"/>
                    </a:lnTo>
                    <a:lnTo>
                      <a:pt x="1079" y="456"/>
                    </a:lnTo>
                    <a:lnTo>
                      <a:pt x="1089" y="457"/>
                    </a:lnTo>
                    <a:lnTo>
                      <a:pt x="1106" y="486"/>
                    </a:lnTo>
                    <a:lnTo>
                      <a:pt x="1131" y="509"/>
                    </a:lnTo>
                    <a:lnTo>
                      <a:pt x="1125" y="528"/>
                    </a:lnTo>
                    <a:lnTo>
                      <a:pt x="1148" y="531"/>
                    </a:lnTo>
                    <a:lnTo>
                      <a:pt x="1157" y="540"/>
                    </a:lnTo>
                    <a:lnTo>
                      <a:pt x="1136" y="566"/>
                    </a:lnTo>
                    <a:lnTo>
                      <a:pt x="1146" y="588"/>
                    </a:lnTo>
                    <a:lnTo>
                      <a:pt x="1170" y="596"/>
                    </a:lnTo>
                    <a:lnTo>
                      <a:pt x="1194" y="595"/>
                    </a:lnTo>
                    <a:lnTo>
                      <a:pt x="1210" y="595"/>
                    </a:lnTo>
                    <a:lnTo>
                      <a:pt x="1209" y="603"/>
                    </a:lnTo>
                    <a:lnTo>
                      <a:pt x="1214" y="643"/>
                    </a:lnTo>
                    <a:lnTo>
                      <a:pt x="1212" y="657"/>
                    </a:lnTo>
                    <a:lnTo>
                      <a:pt x="1194" y="722"/>
                    </a:lnTo>
                    <a:lnTo>
                      <a:pt x="1163" y="774"/>
                    </a:lnTo>
                    <a:lnTo>
                      <a:pt x="1152" y="811"/>
                    </a:lnTo>
                    <a:lnTo>
                      <a:pt x="1154" y="879"/>
                    </a:lnTo>
                    <a:lnTo>
                      <a:pt x="1157" y="901"/>
                    </a:lnTo>
                    <a:lnTo>
                      <a:pt x="1161" y="920"/>
                    </a:lnTo>
                    <a:lnTo>
                      <a:pt x="1162" y="925"/>
                    </a:lnTo>
                    <a:lnTo>
                      <a:pt x="1169" y="962"/>
                    </a:lnTo>
                    <a:lnTo>
                      <a:pt x="1190" y="1020"/>
                    </a:lnTo>
                    <a:lnTo>
                      <a:pt x="1208" y="1038"/>
                    </a:lnTo>
                    <a:lnTo>
                      <a:pt x="1246" y="1064"/>
                    </a:lnTo>
                    <a:lnTo>
                      <a:pt x="1262" y="1083"/>
                    </a:lnTo>
                    <a:lnTo>
                      <a:pt x="1274" y="1101"/>
                    </a:lnTo>
                    <a:lnTo>
                      <a:pt x="1278" y="1109"/>
                    </a:lnTo>
                    <a:lnTo>
                      <a:pt x="1277" y="1131"/>
                    </a:lnTo>
                    <a:lnTo>
                      <a:pt x="1263" y="1154"/>
                    </a:lnTo>
                    <a:lnTo>
                      <a:pt x="1254" y="1175"/>
                    </a:lnTo>
                    <a:lnTo>
                      <a:pt x="1256" y="1194"/>
                    </a:lnTo>
                    <a:lnTo>
                      <a:pt x="1258" y="1223"/>
                    </a:lnTo>
                    <a:lnTo>
                      <a:pt x="1274" y="1265"/>
                    </a:lnTo>
                    <a:lnTo>
                      <a:pt x="1274" y="1286"/>
                    </a:lnTo>
                    <a:lnTo>
                      <a:pt x="1276" y="1322"/>
                    </a:lnTo>
                    <a:lnTo>
                      <a:pt x="1266" y="1350"/>
                    </a:lnTo>
                    <a:lnTo>
                      <a:pt x="1260" y="1350"/>
                    </a:lnTo>
                    <a:lnTo>
                      <a:pt x="1251" y="1367"/>
                    </a:lnTo>
                    <a:lnTo>
                      <a:pt x="1251" y="1380"/>
                    </a:lnTo>
                    <a:lnTo>
                      <a:pt x="1246" y="1385"/>
                    </a:lnTo>
                    <a:lnTo>
                      <a:pt x="1239" y="1391"/>
                    </a:lnTo>
                    <a:lnTo>
                      <a:pt x="1234" y="1404"/>
                    </a:lnTo>
                    <a:lnTo>
                      <a:pt x="1209" y="1439"/>
                    </a:lnTo>
                    <a:lnTo>
                      <a:pt x="1188" y="1430"/>
                    </a:lnTo>
                    <a:lnTo>
                      <a:pt x="1188" y="1424"/>
                    </a:lnTo>
                    <a:lnTo>
                      <a:pt x="1178" y="1425"/>
                    </a:lnTo>
                    <a:lnTo>
                      <a:pt x="1180" y="1434"/>
                    </a:lnTo>
                    <a:lnTo>
                      <a:pt x="1168" y="1437"/>
                    </a:lnTo>
                    <a:lnTo>
                      <a:pt x="1166" y="1430"/>
                    </a:lnTo>
                    <a:lnTo>
                      <a:pt x="1126" y="1451"/>
                    </a:lnTo>
                    <a:lnTo>
                      <a:pt x="1148" y="1477"/>
                    </a:lnTo>
                    <a:lnTo>
                      <a:pt x="1124" y="1505"/>
                    </a:lnTo>
                    <a:lnTo>
                      <a:pt x="1071" y="1550"/>
                    </a:lnTo>
                    <a:lnTo>
                      <a:pt x="1029" y="1579"/>
                    </a:lnTo>
                    <a:lnTo>
                      <a:pt x="1024" y="1585"/>
                    </a:lnTo>
                    <a:lnTo>
                      <a:pt x="1029" y="1613"/>
                    </a:lnTo>
                    <a:lnTo>
                      <a:pt x="1008" y="1614"/>
                    </a:lnTo>
                    <a:lnTo>
                      <a:pt x="971" y="1621"/>
                    </a:lnTo>
                    <a:lnTo>
                      <a:pt x="959" y="1629"/>
                    </a:lnTo>
                    <a:lnTo>
                      <a:pt x="944" y="1632"/>
                    </a:lnTo>
                    <a:lnTo>
                      <a:pt x="918" y="1643"/>
                    </a:lnTo>
                    <a:lnTo>
                      <a:pt x="935" y="1673"/>
                    </a:lnTo>
                    <a:lnTo>
                      <a:pt x="940" y="1682"/>
                    </a:lnTo>
                    <a:lnTo>
                      <a:pt x="939" y="1694"/>
                    </a:lnTo>
                    <a:lnTo>
                      <a:pt x="948" y="1709"/>
                    </a:lnTo>
                    <a:lnTo>
                      <a:pt x="940" y="1718"/>
                    </a:lnTo>
                    <a:lnTo>
                      <a:pt x="916" y="1730"/>
                    </a:lnTo>
                    <a:lnTo>
                      <a:pt x="891" y="1760"/>
                    </a:lnTo>
                    <a:lnTo>
                      <a:pt x="824" y="1789"/>
                    </a:lnTo>
                    <a:lnTo>
                      <a:pt x="812" y="1778"/>
                    </a:lnTo>
                    <a:lnTo>
                      <a:pt x="810" y="1747"/>
                    </a:lnTo>
                    <a:lnTo>
                      <a:pt x="802" y="1728"/>
                    </a:lnTo>
                    <a:lnTo>
                      <a:pt x="806" y="1717"/>
                    </a:lnTo>
                    <a:lnTo>
                      <a:pt x="814" y="1710"/>
                    </a:lnTo>
                    <a:lnTo>
                      <a:pt x="801" y="1695"/>
                    </a:lnTo>
                    <a:lnTo>
                      <a:pt x="797" y="1688"/>
                    </a:lnTo>
                    <a:lnTo>
                      <a:pt x="798" y="1667"/>
                    </a:lnTo>
                    <a:lnTo>
                      <a:pt x="786" y="1662"/>
                    </a:lnTo>
                    <a:lnTo>
                      <a:pt x="773" y="1665"/>
                    </a:lnTo>
                    <a:lnTo>
                      <a:pt x="743" y="1646"/>
                    </a:lnTo>
                    <a:lnTo>
                      <a:pt x="717" y="1593"/>
                    </a:lnTo>
                    <a:lnTo>
                      <a:pt x="713" y="1593"/>
                    </a:lnTo>
                    <a:lnTo>
                      <a:pt x="675" y="1620"/>
                    </a:lnTo>
                    <a:lnTo>
                      <a:pt x="647" y="1633"/>
                    </a:lnTo>
                    <a:lnTo>
                      <a:pt x="657" y="1674"/>
                    </a:lnTo>
                    <a:lnTo>
                      <a:pt x="646" y="1680"/>
                    </a:lnTo>
                    <a:lnTo>
                      <a:pt x="641" y="1668"/>
                    </a:lnTo>
                    <a:lnTo>
                      <a:pt x="626" y="1676"/>
                    </a:lnTo>
                    <a:lnTo>
                      <a:pt x="621" y="1667"/>
                    </a:lnTo>
                    <a:lnTo>
                      <a:pt x="610" y="1665"/>
                    </a:lnTo>
                    <a:lnTo>
                      <a:pt x="599" y="1673"/>
                    </a:lnTo>
                    <a:lnTo>
                      <a:pt x="594" y="1681"/>
                    </a:lnTo>
                    <a:lnTo>
                      <a:pt x="591" y="1680"/>
                    </a:lnTo>
                    <a:lnTo>
                      <a:pt x="570" y="1675"/>
                    </a:lnTo>
                    <a:lnTo>
                      <a:pt x="534" y="1659"/>
                    </a:lnTo>
                    <a:lnTo>
                      <a:pt x="522" y="1657"/>
                    </a:lnTo>
                    <a:lnTo>
                      <a:pt x="530" y="1623"/>
                    </a:lnTo>
                    <a:lnTo>
                      <a:pt x="524" y="1603"/>
                    </a:lnTo>
                    <a:lnTo>
                      <a:pt x="527" y="1575"/>
                    </a:lnTo>
                    <a:lnTo>
                      <a:pt x="512" y="1554"/>
                    </a:lnTo>
                    <a:lnTo>
                      <a:pt x="502" y="1620"/>
                    </a:lnTo>
                    <a:lnTo>
                      <a:pt x="490" y="1615"/>
                    </a:lnTo>
                    <a:lnTo>
                      <a:pt x="492" y="1586"/>
                    </a:lnTo>
                    <a:lnTo>
                      <a:pt x="483" y="1590"/>
                    </a:lnTo>
                    <a:lnTo>
                      <a:pt x="477" y="1586"/>
                    </a:lnTo>
                    <a:lnTo>
                      <a:pt x="474" y="1574"/>
                    </a:lnTo>
                    <a:lnTo>
                      <a:pt x="461" y="1581"/>
                    </a:lnTo>
                    <a:lnTo>
                      <a:pt x="453" y="1602"/>
                    </a:lnTo>
                    <a:lnTo>
                      <a:pt x="450" y="1605"/>
                    </a:lnTo>
                    <a:lnTo>
                      <a:pt x="423" y="1589"/>
                    </a:lnTo>
                    <a:lnTo>
                      <a:pt x="398" y="1580"/>
                    </a:lnTo>
                    <a:lnTo>
                      <a:pt x="387" y="1535"/>
                    </a:lnTo>
                    <a:lnTo>
                      <a:pt x="387" y="1533"/>
                    </a:lnTo>
                    <a:lnTo>
                      <a:pt x="381" y="1530"/>
                    </a:lnTo>
                    <a:lnTo>
                      <a:pt x="371" y="1527"/>
                    </a:lnTo>
                    <a:lnTo>
                      <a:pt x="324" y="1559"/>
                    </a:lnTo>
                    <a:lnTo>
                      <a:pt x="310" y="1583"/>
                    </a:lnTo>
                    <a:lnTo>
                      <a:pt x="304" y="1587"/>
                    </a:lnTo>
                    <a:lnTo>
                      <a:pt x="298" y="1577"/>
                    </a:lnTo>
                    <a:lnTo>
                      <a:pt x="278" y="1599"/>
                    </a:lnTo>
                    <a:lnTo>
                      <a:pt x="268" y="1603"/>
                    </a:lnTo>
                    <a:lnTo>
                      <a:pt x="251" y="1599"/>
                    </a:lnTo>
                    <a:lnTo>
                      <a:pt x="239" y="1607"/>
                    </a:lnTo>
                    <a:lnTo>
                      <a:pt x="226" y="1583"/>
                    </a:lnTo>
                    <a:lnTo>
                      <a:pt x="227" y="1566"/>
                    </a:lnTo>
                    <a:lnTo>
                      <a:pt x="221" y="1538"/>
                    </a:lnTo>
                    <a:lnTo>
                      <a:pt x="231" y="1482"/>
                    </a:lnTo>
                    <a:lnTo>
                      <a:pt x="219" y="1445"/>
                    </a:lnTo>
                    <a:lnTo>
                      <a:pt x="231" y="1434"/>
                    </a:lnTo>
                    <a:lnTo>
                      <a:pt x="210" y="1423"/>
                    </a:lnTo>
                    <a:lnTo>
                      <a:pt x="243" y="1394"/>
                    </a:lnTo>
                    <a:lnTo>
                      <a:pt x="244" y="1369"/>
                    </a:lnTo>
                    <a:lnTo>
                      <a:pt x="228" y="1338"/>
                    </a:lnTo>
                    <a:lnTo>
                      <a:pt x="224" y="1303"/>
                    </a:lnTo>
                    <a:lnTo>
                      <a:pt x="203" y="1280"/>
                    </a:lnTo>
                    <a:lnTo>
                      <a:pt x="207" y="1275"/>
                    </a:lnTo>
                    <a:lnTo>
                      <a:pt x="245" y="1220"/>
                    </a:lnTo>
                    <a:lnTo>
                      <a:pt x="243" y="1189"/>
                    </a:lnTo>
                    <a:lnTo>
                      <a:pt x="248" y="1171"/>
                    </a:lnTo>
                    <a:lnTo>
                      <a:pt x="269" y="1159"/>
                    </a:lnTo>
                    <a:lnTo>
                      <a:pt x="284" y="1141"/>
                    </a:lnTo>
                    <a:lnTo>
                      <a:pt x="297" y="1139"/>
                    </a:lnTo>
                    <a:lnTo>
                      <a:pt x="311" y="1130"/>
                    </a:lnTo>
                    <a:lnTo>
                      <a:pt x="306" y="1117"/>
                    </a:lnTo>
                    <a:lnTo>
                      <a:pt x="279" y="1127"/>
                    </a:lnTo>
                    <a:lnTo>
                      <a:pt x="237" y="1073"/>
                    </a:lnTo>
                    <a:lnTo>
                      <a:pt x="224" y="1015"/>
                    </a:lnTo>
                    <a:lnTo>
                      <a:pt x="225" y="1004"/>
                    </a:lnTo>
                    <a:lnTo>
                      <a:pt x="242" y="986"/>
                    </a:lnTo>
                    <a:lnTo>
                      <a:pt x="262" y="974"/>
                    </a:lnTo>
                    <a:lnTo>
                      <a:pt x="249" y="948"/>
                    </a:lnTo>
                    <a:lnTo>
                      <a:pt x="252" y="915"/>
                    </a:lnTo>
                    <a:lnTo>
                      <a:pt x="236" y="877"/>
                    </a:lnTo>
                    <a:lnTo>
                      <a:pt x="237" y="841"/>
                    </a:lnTo>
                    <a:lnTo>
                      <a:pt x="252" y="831"/>
                    </a:lnTo>
                    <a:lnTo>
                      <a:pt x="244" y="807"/>
                    </a:lnTo>
                    <a:lnTo>
                      <a:pt x="257" y="787"/>
                    </a:lnTo>
                    <a:lnTo>
                      <a:pt x="267" y="750"/>
                    </a:lnTo>
                    <a:lnTo>
                      <a:pt x="266" y="738"/>
                    </a:lnTo>
                    <a:lnTo>
                      <a:pt x="255" y="713"/>
                    </a:lnTo>
                    <a:lnTo>
                      <a:pt x="233" y="723"/>
                    </a:lnTo>
                    <a:lnTo>
                      <a:pt x="192" y="673"/>
                    </a:lnTo>
                    <a:lnTo>
                      <a:pt x="191" y="665"/>
                    </a:lnTo>
                    <a:lnTo>
                      <a:pt x="195" y="663"/>
                    </a:lnTo>
                    <a:lnTo>
                      <a:pt x="195" y="654"/>
                    </a:lnTo>
                    <a:lnTo>
                      <a:pt x="188" y="641"/>
                    </a:lnTo>
                    <a:lnTo>
                      <a:pt x="165" y="641"/>
                    </a:lnTo>
                    <a:lnTo>
                      <a:pt x="107" y="668"/>
                    </a:lnTo>
                    <a:lnTo>
                      <a:pt x="93" y="659"/>
                    </a:lnTo>
                    <a:lnTo>
                      <a:pt x="65" y="619"/>
                    </a:lnTo>
                    <a:lnTo>
                      <a:pt x="48" y="607"/>
                    </a:lnTo>
                    <a:lnTo>
                      <a:pt x="39" y="611"/>
                    </a:lnTo>
                    <a:lnTo>
                      <a:pt x="30" y="597"/>
                    </a:lnTo>
                    <a:lnTo>
                      <a:pt x="23" y="553"/>
                    </a:lnTo>
                    <a:lnTo>
                      <a:pt x="45" y="528"/>
                    </a:lnTo>
                    <a:lnTo>
                      <a:pt x="41" y="519"/>
                    </a:lnTo>
                    <a:lnTo>
                      <a:pt x="17" y="522"/>
                    </a:lnTo>
                    <a:lnTo>
                      <a:pt x="4" y="497"/>
                    </a:lnTo>
                    <a:lnTo>
                      <a:pt x="0" y="483"/>
                    </a:lnTo>
                    <a:lnTo>
                      <a:pt x="11" y="473"/>
                    </a:lnTo>
                    <a:lnTo>
                      <a:pt x="42" y="451"/>
                    </a:lnTo>
                    <a:lnTo>
                      <a:pt x="59" y="453"/>
                    </a:lnTo>
                    <a:lnTo>
                      <a:pt x="76" y="439"/>
                    </a:lnTo>
                    <a:lnTo>
                      <a:pt x="64" y="417"/>
                    </a:lnTo>
                    <a:lnTo>
                      <a:pt x="63" y="409"/>
                    </a:lnTo>
                    <a:lnTo>
                      <a:pt x="77" y="381"/>
                    </a:lnTo>
                    <a:lnTo>
                      <a:pt x="94" y="374"/>
                    </a:lnTo>
                    <a:lnTo>
                      <a:pt x="112" y="347"/>
                    </a:lnTo>
                    <a:lnTo>
                      <a:pt x="113" y="336"/>
                    </a:lnTo>
                    <a:lnTo>
                      <a:pt x="105" y="317"/>
                    </a:lnTo>
                    <a:lnTo>
                      <a:pt x="114" y="308"/>
                    </a:lnTo>
                    <a:lnTo>
                      <a:pt x="111" y="270"/>
                    </a:lnTo>
                    <a:lnTo>
                      <a:pt x="114" y="263"/>
                    </a:lnTo>
                    <a:lnTo>
                      <a:pt x="142" y="255"/>
                    </a:lnTo>
                    <a:lnTo>
                      <a:pt x="152" y="260"/>
                    </a:lnTo>
                    <a:lnTo>
                      <a:pt x="154" y="271"/>
                    </a:lnTo>
                    <a:lnTo>
                      <a:pt x="170" y="272"/>
                    </a:lnTo>
                    <a:lnTo>
                      <a:pt x="191" y="259"/>
                    </a:lnTo>
                    <a:lnTo>
                      <a:pt x="203" y="264"/>
                    </a:lnTo>
                    <a:lnTo>
                      <a:pt x="212" y="263"/>
                    </a:lnTo>
                    <a:lnTo>
                      <a:pt x="221" y="251"/>
                    </a:lnTo>
                    <a:lnTo>
                      <a:pt x="221" y="231"/>
                    </a:lnTo>
                    <a:lnTo>
                      <a:pt x="216" y="215"/>
                    </a:lnTo>
                    <a:lnTo>
                      <a:pt x="244" y="213"/>
                    </a:lnTo>
                    <a:lnTo>
                      <a:pt x="257" y="234"/>
                    </a:lnTo>
                    <a:lnTo>
                      <a:pt x="285" y="241"/>
                    </a:lnTo>
                    <a:lnTo>
                      <a:pt x="285" y="254"/>
                    </a:lnTo>
                    <a:lnTo>
                      <a:pt x="294" y="285"/>
                    </a:lnTo>
                    <a:lnTo>
                      <a:pt x="303" y="296"/>
                    </a:lnTo>
                    <a:lnTo>
                      <a:pt x="339" y="309"/>
                    </a:lnTo>
                    <a:lnTo>
                      <a:pt x="340" y="318"/>
                    </a:lnTo>
                    <a:lnTo>
                      <a:pt x="347" y="332"/>
                    </a:lnTo>
                    <a:lnTo>
                      <a:pt x="360" y="344"/>
                    </a:lnTo>
                    <a:lnTo>
                      <a:pt x="384" y="355"/>
                    </a:lnTo>
                    <a:lnTo>
                      <a:pt x="395" y="347"/>
                    </a:lnTo>
                    <a:lnTo>
                      <a:pt x="401" y="345"/>
                    </a:lnTo>
                    <a:lnTo>
                      <a:pt x="418" y="315"/>
                    </a:lnTo>
                    <a:lnTo>
                      <a:pt x="434" y="320"/>
                    </a:lnTo>
                    <a:lnTo>
                      <a:pt x="466" y="309"/>
                    </a:lnTo>
                    <a:lnTo>
                      <a:pt x="472" y="313"/>
                    </a:lnTo>
                    <a:lnTo>
                      <a:pt x="477" y="309"/>
                    </a:lnTo>
                    <a:lnTo>
                      <a:pt x="470" y="299"/>
                    </a:lnTo>
                    <a:lnTo>
                      <a:pt x="442" y="277"/>
                    </a:lnTo>
                    <a:lnTo>
                      <a:pt x="441" y="270"/>
                    </a:lnTo>
                    <a:lnTo>
                      <a:pt x="459" y="251"/>
                    </a:lnTo>
                    <a:lnTo>
                      <a:pt x="462" y="236"/>
                    </a:lnTo>
                    <a:lnTo>
                      <a:pt x="476" y="224"/>
                    </a:lnTo>
                    <a:lnTo>
                      <a:pt x="491" y="241"/>
                    </a:lnTo>
                    <a:lnTo>
                      <a:pt x="503" y="245"/>
                    </a:lnTo>
                    <a:lnTo>
                      <a:pt x="519" y="228"/>
                    </a:lnTo>
                    <a:lnTo>
                      <a:pt x="521" y="217"/>
                    </a:lnTo>
                    <a:lnTo>
                      <a:pt x="543" y="197"/>
                    </a:lnTo>
                    <a:lnTo>
                      <a:pt x="546" y="175"/>
                    </a:lnTo>
                    <a:lnTo>
                      <a:pt x="549" y="170"/>
                    </a:lnTo>
                    <a:lnTo>
                      <a:pt x="567" y="164"/>
                    </a:lnTo>
                    <a:lnTo>
                      <a:pt x="575" y="173"/>
                    </a:lnTo>
                    <a:lnTo>
                      <a:pt x="586" y="170"/>
                    </a:lnTo>
                    <a:lnTo>
                      <a:pt x="593" y="162"/>
                    </a:lnTo>
                    <a:lnTo>
                      <a:pt x="587" y="158"/>
                    </a:lnTo>
                    <a:lnTo>
                      <a:pt x="611" y="147"/>
                    </a:lnTo>
                    <a:lnTo>
                      <a:pt x="610" y="134"/>
                    </a:lnTo>
                    <a:lnTo>
                      <a:pt x="616" y="128"/>
                    </a:lnTo>
                    <a:lnTo>
                      <a:pt x="612" y="117"/>
                    </a:lnTo>
                    <a:lnTo>
                      <a:pt x="600" y="105"/>
                    </a:lnTo>
                    <a:lnTo>
                      <a:pt x="627" y="109"/>
                    </a:lnTo>
                    <a:lnTo>
                      <a:pt x="629" y="103"/>
                    </a:lnTo>
                    <a:lnTo>
                      <a:pt x="626" y="75"/>
                    </a:lnTo>
                    <a:lnTo>
                      <a:pt x="615" y="50"/>
                    </a:lnTo>
                    <a:lnTo>
                      <a:pt x="621" y="41"/>
                    </a:lnTo>
                    <a:lnTo>
                      <a:pt x="623" y="45"/>
                    </a:lnTo>
                    <a:lnTo>
                      <a:pt x="662" y="33"/>
                    </a:lnTo>
                    <a:lnTo>
                      <a:pt x="677" y="45"/>
                    </a:lnTo>
                    <a:lnTo>
                      <a:pt x="683" y="43"/>
                    </a:lnTo>
                    <a:lnTo>
                      <a:pt x="700" y="13"/>
                    </a:lnTo>
                    <a:lnTo>
                      <a:pt x="713" y="13"/>
                    </a:lnTo>
                    <a:lnTo>
                      <a:pt x="738" y="1"/>
                    </a:lnTo>
                    <a:lnTo>
                      <a:pt x="752" y="1"/>
                    </a:lnTo>
                    <a:lnTo>
                      <a:pt x="762" y="11"/>
                    </a:lnTo>
                    <a:lnTo>
                      <a:pt x="795" y="20"/>
                    </a:lnTo>
                    <a:lnTo>
                      <a:pt x="800" y="15"/>
                    </a:lnTo>
                    <a:lnTo>
                      <a:pt x="800" y="5"/>
                    </a:lnTo>
                    <a:lnTo>
                      <a:pt x="836" y="2"/>
                    </a:lnTo>
                    <a:close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171800" y="3326040"/>
                <a:ext cx="1207080" cy="1114560"/>
              </a:xfrm>
              <a:custGeom>
                <a:avLst/>
                <a:gdLst/>
                <a:ahLst/>
                <a:rect l="l" t="t" r="r" b="b"/>
                <a:pathLst>
                  <a:path w="1595" h="1489">
                    <a:moveTo>
                      <a:pt x="423" y="6"/>
                    </a:moveTo>
                    <a:lnTo>
                      <a:pt x="424" y="1"/>
                    </a:lnTo>
                    <a:lnTo>
                      <a:pt x="434" y="0"/>
                    </a:lnTo>
                    <a:lnTo>
                      <a:pt x="435" y="10"/>
                    </a:lnTo>
                    <a:lnTo>
                      <a:pt x="438" y="11"/>
                    </a:lnTo>
                    <a:lnTo>
                      <a:pt x="456" y="6"/>
                    </a:lnTo>
                    <a:lnTo>
                      <a:pt x="476" y="20"/>
                    </a:lnTo>
                    <a:lnTo>
                      <a:pt x="496" y="4"/>
                    </a:lnTo>
                    <a:lnTo>
                      <a:pt x="501" y="7"/>
                    </a:lnTo>
                    <a:lnTo>
                      <a:pt x="528" y="10"/>
                    </a:lnTo>
                    <a:lnTo>
                      <a:pt x="570" y="30"/>
                    </a:lnTo>
                    <a:lnTo>
                      <a:pt x="611" y="37"/>
                    </a:lnTo>
                    <a:lnTo>
                      <a:pt x="630" y="48"/>
                    </a:lnTo>
                    <a:lnTo>
                      <a:pt x="645" y="41"/>
                    </a:lnTo>
                    <a:lnTo>
                      <a:pt x="664" y="22"/>
                    </a:lnTo>
                    <a:lnTo>
                      <a:pt x="669" y="30"/>
                    </a:lnTo>
                    <a:lnTo>
                      <a:pt x="678" y="42"/>
                    </a:lnTo>
                    <a:lnTo>
                      <a:pt x="688" y="48"/>
                    </a:lnTo>
                    <a:lnTo>
                      <a:pt x="693" y="58"/>
                    </a:lnTo>
                    <a:lnTo>
                      <a:pt x="698" y="58"/>
                    </a:lnTo>
                    <a:lnTo>
                      <a:pt x="705" y="54"/>
                    </a:lnTo>
                    <a:lnTo>
                      <a:pt x="711" y="60"/>
                    </a:lnTo>
                    <a:lnTo>
                      <a:pt x="718" y="58"/>
                    </a:lnTo>
                    <a:lnTo>
                      <a:pt x="722" y="64"/>
                    </a:lnTo>
                    <a:lnTo>
                      <a:pt x="742" y="53"/>
                    </a:lnTo>
                    <a:lnTo>
                      <a:pt x="749" y="72"/>
                    </a:lnTo>
                    <a:lnTo>
                      <a:pt x="768" y="71"/>
                    </a:lnTo>
                    <a:lnTo>
                      <a:pt x="771" y="78"/>
                    </a:lnTo>
                    <a:lnTo>
                      <a:pt x="794" y="76"/>
                    </a:lnTo>
                    <a:lnTo>
                      <a:pt x="795" y="66"/>
                    </a:lnTo>
                    <a:lnTo>
                      <a:pt x="800" y="54"/>
                    </a:lnTo>
                    <a:lnTo>
                      <a:pt x="810" y="46"/>
                    </a:lnTo>
                    <a:lnTo>
                      <a:pt x="819" y="54"/>
                    </a:lnTo>
                    <a:lnTo>
                      <a:pt x="824" y="53"/>
                    </a:lnTo>
                    <a:lnTo>
                      <a:pt x="826" y="42"/>
                    </a:lnTo>
                    <a:lnTo>
                      <a:pt x="837" y="44"/>
                    </a:lnTo>
                    <a:lnTo>
                      <a:pt x="837" y="40"/>
                    </a:lnTo>
                    <a:lnTo>
                      <a:pt x="842" y="37"/>
                    </a:lnTo>
                    <a:lnTo>
                      <a:pt x="854" y="62"/>
                    </a:lnTo>
                    <a:lnTo>
                      <a:pt x="844" y="67"/>
                    </a:lnTo>
                    <a:lnTo>
                      <a:pt x="850" y="79"/>
                    </a:lnTo>
                    <a:lnTo>
                      <a:pt x="864" y="73"/>
                    </a:lnTo>
                    <a:lnTo>
                      <a:pt x="872" y="79"/>
                    </a:lnTo>
                    <a:lnTo>
                      <a:pt x="878" y="77"/>
                    </a:lnTo>
                    <a:lnTo>
                      <a:pt x="882" y="72"/>
                    </a:lnTo>
                    <a:lnTo>
                      <a:pt x="886" y="67"/>
                    </a:lnTo>
                    <a:lnTo>
                      <a:pt x="875" y="54"/>
                    </a:lnTo>
                    <a:lnTo>
                      <a:pt x="875" y="49"/>
                    </a:lnTo>
                    <a:lnTo>
                      <a:pt x="881" y="44"/>
                    </a:lnTo>
                    <a:lnTo>
                      <a:pt x="884" y="48"/>
                    </a:lnTo>
                    <a:lnTo>
                      <a:pt x="887" y="36"/>
                    </a:lnTo>
                    <a:lnTo>
                      <a:pt x="906" y="70"/>
                    </a:lnTo>
                    <a:lnTo>
                      <a:pt x="917" y="68"/>
                    </a:lnTo>
                    <a:lnTo>
                      <a:pt x="918" y="62"/>
                    </a:lnTo>
                    <a:lnTo>
                      <a:pt x="933" y="49"/>
                    </a:lnTo>
                    <a:lnTo>
                      <a:pt x="940" y="29"/>
                    </a:lnTo>
                    <a:lnTo>
                      <a:pt x="968" y="0"/>
                    </a:lnTo>
                    <a:lnTo>
                      <a:pt x="970" y="37"/>
                    </a:lnTo>
                    <a:lnTo>
                      <a:pt x="974" y="41"/>
                    </a:lnTo>
                    <a:lnTo>
                      <a:pt x="994" y="37"/>
                    </a:lnTo>
                    <a:lnTo>
                      <a:pt x="1022" y="8"/>
                    </a:lnTo>
                    <a:lnTo>
                      <a:pt x="1038" y="13"/>
                    </a:lnTo>
                    <a:lnTo>
                      <a:pt x="1060" y="35"/>
                    </a:lnTo>
                    <a:lnTo>
                      <a:pt x="1071" y="70"/>
                    </a:lnTo>
                    <a:lnTo>
                      <a:pt x="1077" y="80"/>
                    </a:lnTo>
                    <a:lnTo>
                      <a:pt x="1090" y="78"/>
                    </a:lnTo>
                    <a:lnTo>
                      <a:pt x="1095" y="90"/>
                    </a:lnTo>
                    <a:lnTo>
                      <a:pt x="1101" y="130"/>
                    </a:lnTo>
                    <a:lnTo>
                      <a:pt x="1089" y="156"/>
                    </a:lnTo>
                    <a:lnTo>
                      <a:pt x="1080" y="192"/>
                    </a:lnTo>
                    <a:lnTo>
                      <a:pt x="1118" y="211"/>
                    </a:lnTo>
                    <a:lnTo>
                      <a:pt x="1134" y="198"/>
                    </a:lnTo>
                    <a:lnTo>
                      <a:pt x="1145" y="202"/>
                    </a:lnTo>
                    <a:lnTo>
                      <a:pt x="1155" y="202"/>
                    </a:lnTo>
                    <a:lnTo>
                      <a:pt x="1164" y="210"/>
                    </a:lnTo>
                    <a:lnTo>
                      <a:pt x="1175" y="212"/>
                    </a:lnTo>
                    <a:lnTo>
                      <a:pt x="1175" y="234"/>
                    </a:lnTo>
                    <a:lnTo>
                      <a:pt x="1158" y="245"/>
                    </a:lnTo>
                    <a:lnTo>
                      <a:pt x="1173" y="257"/>
                    </a:lnTo>
                    <a:lnTo>
                      <a:pt x="1184" y="274"/>
                    </a:lnTo>
                    <a:lnTo>
                      <a:pt x="1188" y="290"/>
                    </a:lnTo>
                    <a:lnTo>
                      <a:pt x="1187" y="304"/>
                    </a:lnTo>
                    <a:lnTo>
                      <a:pt x="1192" y="305"/>
                    </a:lnTo>
                    <a:lnTo>
                      <a:pt x="1205" y="294"/>
                    </a:lnTo>
                    <a:lnTo>
                      <a:pt x="1227" y="304"/>
                    </a:lnTo>
                    <a:lnTo>
                      <a:pt x="1232" y="313"/>
                    </a:lnTo>
                    <a:lnTo>
                      <a:pt x="1259" y="301"/>
                    </a:lnTo>
                    <a:lnTo>
                      <a:pt x="1288" y="310"/>
                    </a:lnTo>
                    <a:lnTo>
                      <a:pt x="1301" y="335"/>
                    </a:lnTo>
                    <a:lnTo>
                      <a:pt x="1325" y="332"/>
                    </a:lnTo>
                    <a:lnTo>
                      <a:pt x="1329" y="341"/>
                    </a:lnTo>
                    <a:lnTo>
                      <a:pt x="1307" y="366"/>
                    </a:lnTo>
                    <a:lnTo>
                      <a:pt x="1314" y="410"/>
                    </a:lnTo>
                    <a:lnTo>
                      <a:pt x="1323" y="424"/>
                    </a:lnTo>
                    <a:lnTo>
                      <a:pt x="1332" y="420"/>
                    </a:lnTo>
                    <a:lnTo>
                      <a:pt x="1349" y="432"/>
                    </a:lnTo>
                    <a:lnTo>
                      <a:pt x="1377" y="472"/>
                    </a:lnTo>
                    <a:lnTo>
                      <a:pt x="1391" y="481"/>
                    </a:lnTo>
                    <a:lnTo>
                      <a:pt x="1449" y="454"/>
                    </a:lnTo>
                    <a:lnTo>
                      <a:pt x="1472" y="454"/>
                    </a:lnTo>
                    <a:lnTo>
                      <a:pt x="1479" y="467"/>
                    </a:lnTo>
                    <a:lnTo>
                      <a:pt x="1479" y="476"/>
                    </a:lnTo>
                    <a:lnTo>
                      <a:pt x="1475" y="478"/>
                    </a:lnTo>
                    <a:lnTo>
                      <a:pt x="1476" y="486"/>
                    </a:lnTo>
                    <a:lnTo>
                      <a:pt x="1517" y="536"/>
                    </a:lnTo>
                    <a:lnTo>
                      <a:pt x="1539" y="526"/>
                    </a:lnTo>
                    <a:lnTo>
                      <a:pt x="1550" y="551"/>
                    </a:lnTo>
                    <a:lnTo>
                      <a:pt x="1551" y="563"/>
                    </a:lnTo>
                    <a:lnTo>
                      <a:pt x="1541" y="600"/>
                    </a:lnTo>
                    <a:lnTo>
                      <a:pt x="1528" y="620"/>
                    </a:lnTo>
                    <a:lnTo>
                      <a:pt x="1536" y="644"/>
                    </a:lnTo>
                    <a:lnTo>
                      <a:pt x="1521" y="654"/>
                    </a:lnTo>
                    <a:lnTo>
                      <a:pt x="1520" y="690"/>
                    </a:lnTo>
                    <a:lnTo>
                      <a:pt x="1536" y="728"/>
                    </a:lnTo>
                    <a:lnTo>
                      <a:pt x="1533" y="761"/>
                    </a:lnTo>
                    <a:lnTo>
                      <a:pt x="1546" y="787"/>
                    </a:lnTo>
                    <a:lnTo>
                      <a:pt x="1526" y="799"/>
                    </a:lnTo>
                    <a:lnTo>
                      <a:pt x="1509" y="817"/>
                    </a:lnTo>
                    <a:lnTo>
                      <a:pt x="1508" y="828"/>
                    </a:lnTo>
                    <a:lnTo>
                      <a:pt x="1521" y="886"/>
                    </a:lnTo>
                    <a:lnTo>
                      <a:pt x="1563" y="940"/>
                    </a:lnTo>
                    <a:lnTo>
                      <a:pt x="1590" y="930"/>
                    </a:lnTo>
                    <a:lnTo>
                      <a:pt x="1595" y="943"/>
                    </a:lnTo>
                    <a:lnTo>
                      <a:pt x="1581" y="952"/>
                    </a:lnTo>
                    <a:lnTo>
                      <a:pt x="1568" y="954"/>
                    </a:lnTo>
                    <a:lnTo>
                      <a:pt x="1553" y="972"/>
                    </a:lnTo>
                    <a:lnTo>
                      <a:pt x="1532" y="984"/>
                    </a:lnTo>
                    <a:lnTo>
                      <a:pt x="1527" y="1002"/>
                    </a:lnTo>
                    <a:lnTo>
                      <a:pt x="1529" y="1033"/>
                    </a:lnTo>
                    <a:lnTo>
                      <a:pt x="1491" y="1088"/>
                    </a:lnTo>
                    <a:lnTo>
                      <a:pt x="1446" y="1051"/>
                    </a:lnTo>
                    <a:lnTo>
                      <a:pt x="1324" y="1043"/>
                    </a:lnTo>
                    <a:lnTo>
                      <a:pt x="1206" y="1147"/>
                    </a:lnTo>
                    <a:lnTo>
                      <a:pt x="1038" y="1253"/>
                    </a:lnTo>
                    <a:lnTo>
                      <a:pt x="929" y="1296"/>
                    </a:lnTo>
                    <a:lnTo>
                      <a:pt x="656" y="1432"/>
                    </a:lnTo>
                    <a:lnTo>
                      <a:pt x="429" y="1489"/>
                    </a:lnTo>
                    <a:lnTo>
                      <a:pt x="399" y="1438"/>
                    </a:lnTo>
                    <a:lnTo>
                      <a:pt x="358" y="1350"/>
                    </a:lnTo>
                    <a:lnTo>
                      <a:pt x="326" y="1320"/>
                    </a:lnTo>
                    <a:lnTo>
                      <a:pt x="317" y="1307"/>
                    </a:lnTo>
                    <a:lnTo>
                      <a:pt x="316" y="1292"/>
                    </a:lnTo>
                    <a:lnTo>
                      <a:pt x="323" y="1282"/>
                    </a:lnTo>
                    <a:lnTo>
                      <a:pt x="335" y="1260"/>
                    </a:lnTo>
                    <a:lnTo>
                      <a:pt x="323" y="1237"/>
                    </a:lnTo>
                    <a:lnTo>
                      <a:pt x="312" y="1230"/>
                    </a:lnTo>
                    <a:lnTo>
                      <a:pt x="328" y="1206"/>
                    </a:lnTo>
                    <a:lnTo>
                      <a:pt x="320" y="1193"/>
                    </a:lnTo>
                    <a:lnTo>
                      <a:pt x="302" y="1186"/>
                    </a:lnTo>
                    <a:lnTo>
                      <a:pt x="286" y="1151"/>
                    </a:lnTo>
                    <a:lnTo>
                      <a:pt x="275" y="1139"/>
                    </a:lnTo>
                    <a:lnTo>
                      <a:pt x="257" y="1135"/>
                    </a:lnTo>
                    <a:lnTo>
                      <a:pt x="244" y="1140"/>
                    </a:lnTo>
                    <a:lnTo>
                      <a:pt x="225" y="1132"/>
                    </a:lnTo>
                    <a:lnTo>
                      <a:pt x="201" y="1130"/>
                    </a:lnTo>
                    <a:lnTo>
                      <a:pt x="197" y="1120"/>
                    </a:lnTo>
                    <a:lnTo>
                      <a:pt x="195" y="1105"/>
                    </a:lnTo>
                    <a:lnTo>
                      <a:pt x="215" y="1085"/>
                    </a:lnTo>
                    <a:lnTo>
                      <a:pt x="215" y="1073"/>
                    </a:lnTo>
                    <a:lnTo>
                      <a:pt x="224" y="1061"/>
                    </a:lnTo>
                    <a:lnTo>
                      <a:pt x="221" y="1040"/>
                    </a:lnTo>
                    <a:lnTo>
                      <a:pt x="224" y="1037"/>
                    </a:lnTo>
                    <a:lnTo>
                      <a:pt x="207" y="1021"/>
                    </a:lnTo>
                    <a:lnTo>
                      <a:pt x="197" y="1022"/>
                    </a:lnTo>
                    <a:lnTo>
                      <a:pt x="195" y="1009"/>
                    </a:lnTo>
                    <a:lnTo>
                      <a:pt x="185" y="998"/>
                    </a:lnTo>
                    <a:lnTo>
                      <a:pt x="171" y="991"/>
                    </a:lnTo>
                    <a:lnTo>
                      <a:pt x="172" y="980"/>
                    </a:lnTo>
                    <a:lnTo>
                      <a:pt x="166" y="977"/>
                    </a:lnTo>
                    <a:lnTo>
                      <a:pt x="140" y="989"/>
                    </a:lnTo>
                    <a:lnTo>
                      <a:pt x="131" y="988"/>
                    </a:lnTo>
                    <a:lnTo>
                      <a:pt x="125" y="994"/>
                    </a:lnTo>
                    <a:lnTo>
                      <a:pt x="96" y="983"/>
                    </a:lnTo>
                    <a:lnTo>
                      <a:pt x="90" y="976"/>
                    </a:lnTo>
                    <a:lnTo>
                      <a:pt x="89" y="952"/>
                    </a:lnTo>
                    <a:lnTo>
                      <a:pt x="56" y="935"/>
                    </a:lnTo>
                    <a:lnTo>
                      <a:pt x="50" y="924"/>
                    </a:lnTo>
                    <a:lnTo>
                      <a:pt x="5" y="878"/>
                    </a:lnTo>
                    <a:lnTo>
                      <a:pt x="2" y="875"/>
                    </a:lnTo>
                    <a:lnTo>
                      <a:pt x="0" y="851"/>
                    </a:lnTo>
                    <a:lnTo>
                      <a:pt x="36" y="850"/>
                    </a:lnTo>
                    <a:lnTo>
                      <a:pt x="89" y="822"/>
                    </a:lnTo>
                    <a:lnTo>
                      <a:pt x="102" y="827"/>
                    </a:lnTo>
                    <a:lnTo>
                      <a:pt x="112" y="838"/>
                    </a:lnTo>
                    <a:lnTo>
                      <a:pt x="120" y="833"/>
                    </a:lnTo>
                    <a:lnTo>
                      <a:pt x="138" y="853"/>
                    </a:lnTo>
                    <a:lnTo>
                      <a:pt x="154" y="856"/>
                    </a:lnTo>
                    <a:lnTo>
                      <a:pt x="159" y="852"/>
                    </a:lnTo>
                    <a:lnTo>
                      <a:pt x="159" y="851"/>
                    </a:lnTo>
                    <a:lnTo>
                      <a:pt x="158" y="836"/>
                    </a:lnTo>
                    <a:lnTo>
                      <a:pt x="161" y="828"/>
                    </a:lnTo>
                    <a:lnTo>
                      <a:pt x="189" y="808"/>
                    </a:lnTo>
                    <a:lnTo>
                      <a:pt x="174" y="755"/>
                    </a:lnTo>
                    <a:lnTo>
                      <a:pt x="172" y="726"/>
                    </a:lnTo>
                    <a:lnTo>
                      <a:pt x="161" y="689"/>
                    </a:lnTo>
                    <a:lnTo>
                      <a:pt x="165" y="647"/>
                    </a:lnTo>
                    <a:lnTo>
                      <a:pt x="172" y="610"/>
                    </a:lnTo>
                    <a:lnTo>
                      <a:pt x="176" y="473"/>
                    </a:lnTo>
                    <a:lnTo>
                      <a:pt x="177" y="437"/>
                    </a:lnTo>
                    <a:lnTo>
                      <a:pt x="182" y="414"/>
                    </a:lnTo>
                    <a:lnTo>
                      <a:pt x="191" y="388"/>
                    </a:lnTo>
                    <a:lnTo>
                      <a:pt x="208" y="356"/>
                    </a:lnTo>
                    <a:lnTo>
                      <a:pt x="219" y="348"/>
                    </a:lnTo>
                    <a:lnTo>
                      <a:pt x="251" y="343"/>
                    </a:lnTo>
                    <a:lnTo>
                      <a:pt x="268" y="338"/>
                    </a:lnTo>
                    <a:lnTo>
                      <a:pt x="304" y="318"/>
                    </a:lnTo>
                    <a:lnTo>
                      <a:pt x="269" y="284"/>
                    </a:lnTo>
                    <a:lnTo>
                      <a:pt x="245" y="282"/>
                    </a:lnTo>
                    <a:lnTo>
                      <a:pt x="230" y="275"/>
                    </a:lnTo>
                    <a:lnTo>
                      <a:pt x="200" y="275"/>
                    </a:lnTo>
                    <a:lnTo>
                      <a:pt x="184" y="250"/>
                    </a:lnTo>
                    <a:lnTo>
                      <a:pt x="168" y="226"/>
                    </a:lnTo>
                    <a:lnTo>
                      <a:pt x="189" y="203"/>
                    </a:lnTo>
                    <a:lnTo>
                      <a:pt x="166" y="174"/>
                    </a:lnTo>
                    <a:lnTo>
                      <a:pt x="158" y="128"/>
                    </a:lnTo>
                    <a:lnTo>
                      <a:pt x="148" y="112"/>
                    </a:lnTo>
                    <a:lnTo>
                      <a:pt x="144" y="107"/>
                    </a:lnTo>
                    <a:lnTo>
                      <a:pt x="155" y="104"/>
                    </a:lnTo>
                    <a:lnTo>
                      <a:pt x="167" y="100"/>
                    </a:lnTo>
                    <a:lnTo>
                      <a:pt x="183" y="101"/>
                    </a:lnTo>
                    <a:lnTo>
                      <a:pt x="218" y="116"/>
                    </a:lnTo>
                    <a:lnTo>
                      <a:pt x="239" y="120"/>
                    </a:lnTo>
                    <a:lnTo>
                      <a:pt x="300" y="122"/>
                    </a:lnTo>
                    <a:lnTo>
                      <a:pt x="317" y="116"/>
                    </a:lnTo>
                    <a:lnTo>
                      <a:pt x="333" y="107"/>
                    </a:lnTo>
                    <a:lnTo>
                      <a:pt x="362" y="112"/>
                    </a:lnTo>
                    <a:lnTo>
                      <a:pt x="370" y="110"/>
                    </a:lnTo>
                    <a:lnTo>
                      <a:pt x="383" y="102"/>
                    </a:lnTo>
                    <a:lnTo>
                      <a:pt x="400" y="85"/>
                    </a:lnTo>
                    <a:lnTo>
                      <a:pt x="413" y="67"/>
                    </a:lnTo>
                    <a:lnTo>
                      <a:pt x="417" y="58"/>
                    </a:lnTo>
                    <a:lnTo>
                      <a:pt x="420" y="23"/>
                    </a:lnTo>
                    <a:lnTo>
                      <a:pt x="420" y="17"/>
                    </a:lnTo>
                    <a:lnTo>
                      <a:pt x="423" y="6"/>
                    </a:lnTo>
                    <a:close/>
                  </a:path>
                </a:pathLst>
              </a:custGeom>
              <a:solidFill>
                <a:srgbClr val="00ccff"/>
              </a:solidFill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1693080" y="3387960"/>
              <a:ext cx="1031040" cy="3049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Közép-dunántúli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egionális 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43000" y="4824360"/>
              <a:ext cx="21124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él-dunántúli regionáli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GE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28840" y="2425320"/>
              <a:ext cx="6732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890960" y="2151000"/>
              <a:ext cx="8254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iskolc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340160" y="5178600"/>
              <a:ext cx="6804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03720" y="4973760"/>
              <a:ext cx="7552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zeg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93360" y="3596400"/>
              <a:ext cx="6876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5280" y="3387960"/>
              <a:ext cx="12398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zombathel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19360" y="3802680"/>
              <a:ext cx="6912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725480" y="3801960"/>
              <a:ext cx="130968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zékesfehérvá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345760" y="5316480"/>
              <a:ext cx="6732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31760" y="5316480"/>
              <a:ext cx="96516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Péc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91840" y="2563560"/>
              <a:ext cx="68040" cy="69480"/>
            </a:xfrm>
            <a:prstGeom prst="octagon">
              <a:avLst>
                <a:gd name="adj" fmla="val 29287"/>
              </a:avLst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" bIns="3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374080" y="2357280"/>
              <a:ext cx="19951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Nyíregyház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20800" y="2976840"/>
              <a:ext cx="15127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0560" rIns="70560" tIns="35280" bIns="35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imes New Roman"/>
                </a:rPr>
                <a:t>Budapes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6156360" y="3645000"/>
            <a:ext cx="279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Forrásokkal történő    központi gazdálkodá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a2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Eredményesebb, ellenőrizhetőbb működ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a2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Erők és eszközök hatékonyabb alkalmazás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a29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a29e"/>
                </a:solidFill>
                <a:latin typeface="Times New Roman"/>
              </a:rPr>
              <a:t>Racionális ingatlangazdálkodás, ellátás és beszerzé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40B-95EE-4D47-8438-4753BAAF625F}" type="slidenum">
              <a:t>40</a:t>
            </a:fld>
          </a:p>
        </p:txBody>
      </p:sp>
    </p:spTree>
  </p:cSld>
  <p:transition spd="slow">
    <p:split dir="out" orient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Zala Megyei Rendőr-főkapitányság 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2009. évi kiemelt célkitűzései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és feladatai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3571-A116-4D9B-831D-E4ED742D08A2}" type="slidenum">
              <a:t>41</a:t>
            </a:fld>
          </a:p>
        </p:txBody>
      </p:sp>
    </p:spTree>
  </p:cSld>
  <p:transition spd="slow">
    <p:split dir="out" orient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Times New Roman"/>
              </a:rPr>
              <a:t>Köszönet az együttműködőkne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Times New Roman"/>
              </a:rPr>
              <a:t>és munkánk valamennyi segítőjének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Times New Roman"/>
              </a:rPr>
              <a:t>Köszönet a Zala Megyei Rendőr-főkapitányság és helyi szervei valamennyi vezetőjének és munkatársána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29e"/>
                </a:solidFill>
                <a:latin typeface="Times New Roman"/>
              </a:rPr>
              <a:t>a 2008-ban végzett munkájáért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DF61-D659-4494-9DCA-57E4E180F6C9}" type="slidenum">
              <a:t>42</a:t>
            </a:fld>
          </a:p>
        </p:txBody>
      </p:sp>
    </p:spTree>
  </p:cSld>
  <p:transition spd="slow">
    <p:split dir="out" orient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68360" y="2565360"/>
            <a:ext cx="820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a29e"/>
                </a:solidFill>
                <a:latin typeface="Times New Roman"/>
              </a:rPr>
              <a:t>Köszönöm a figyelmük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578-87E6-4D1C-B79D-33271AB7BA87}" type="slidenum">
              <a:t>43</a:t>
            </a:fld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állomány nemek szerinti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megoszlása</a:t>
            </a:r>
            <a:br>
              <a:rPr sz="3600"/>
            </a:b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2008.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797040" y="1917720"/>
          <a:ext cx="7867440" cy="4280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7040" y="1917720"/>
                    <a:ext cx="7867440" cy="42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7956720" y="189000"/>
            <a:ext cx="95220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5C98-86AE-4204-BD38-47D6E85A3F46}" type="slidenum">
              <a:t>5</a:t>
            </a:fld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személyi állomány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létszámemelkedése</a:t>
            </a:r>
            <a:r>
              <a:rPr b="0" lang="en-US" sz="40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a29e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1" name=""/>
          <p:cNvGraphicFramePr/>
          <p:nvPr/>
        </p:nvGraphicFramePr>
        <p:xfrm>
          <a:off x="250920" y="1700280"/>
          <a:ext cx="8688240" cy="4538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700280"/>
                    <a:ext cx="868824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9CB-ED8C-408B-BA98-A0E81E6589F1}" type="slidenum">
              <a:t>6</a:t>
            </a:fld>
          </a:p>
        </p:txBody>
      </p: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megújuló Rendőrség, </a:t>
            </a:r>
            <a:br>
              <a:rPr sz="3600"/>
            </a:b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külső-belső bizalom megerősítése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2492280"/>
            <a:ext cx="829152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a29e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Etikai Kó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a29e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 „</a:t>
            </a: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Biztonság, Bizalom, Becsület”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a29e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Külső-belső kommunikáció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a29e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Védőbástya Pro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a29e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„</a:t>
            </a:r>
            <a:r>
              <a:rPr b="1" lang="en-US" sz="2000" spc="-1" strike="noStrike">
                <a:solidFill>
                  <a:srgbClr val="00a29e"/>
                </a:solidFill>
                <a:latin typeface="Times New Roman"/>
              </a:rPr>
              <a:t>Törvényesség, Tisztesség, Tolerancia, Találékonyság, Tudomány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ABE2-5981-4985-B782-47E31CD8EA86}" type="slidenum">
              <a:t>7</a:t>
            </a:fld>
          </a:p>
        </p:txBody>
      </p: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z ismertté vált bűncselekmények alakulása</a:t>
            </a:r>
            <a:endParaRPr b="0" lang="en-US" sz="3600" spc="-1" strike="noStrike">
              <a:solidFill>
                <a:srgbClr val="00a29e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4360" y="1916280"/>
          <a:ext cx="778644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916280"/>
                    <a:ext cx="778644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7380360" y="4365720"/>
            <a:ext cx="576360" cy="276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29e"/>
                </a:solidFill>
                <a:latin typeface="Times New Roman"/>
              </a:rPr>
              <a:t>2,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940360" y="4365720"/>
            <a:ext cx="576360" cy="276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29e"/>
                </a:solidFill>
                <a:latin typeface="Times New Roman"/>
              </a:rPr>
              <a:t>2,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43280" y="4365720"/>
            <a:ext cx="576360" cy="276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29e"/>
                </a:solidFill>
                <a:latin typeface="Times New Roman"/>
              </a:rPr>
              <a:t>2,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4365720"/>
            <a:ext cx="576000" cy="276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29e"/>
                </a:solidFill>
                <a:latin typeface="Times New Roman"/>
              </a:rPr>
              <a:t>2,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8000" y="4365720"/>
            <a:ext cx="576360" cy="276480"/>
          </a:xfrm>
          <a:prstGeom prst="rect">
            <a:avLst/>
          </a:pr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29e"/>
                </a:solidFill>
                <a:latin typeface="Times New Roman"/>
              </a:rPr>
              <a:t>2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0D0B-29EA-403D-A4C5-598DD09727D2}" type="slidenum">
              <a:t>8</a:t>
            </a:fld>
          </a:p>
        </p:txBody>
      </p: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50000">
              <a:srgbClr val="ffffff"/>
            </a:gs>
            <a:gs pos="100000">
              <a:srgbClr val="cbcbc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9e"/>
                </a:solidFill>
                <a:latin typeface="Times New Roman"/>
              </a:rPr>
              <a:t>A bűncselekmény/lakosság arány megyénként</a:t>
            </a:r>
            <a:r>
              <a:rPr b="1" lang="en-US" sz="3600" spc="-1" strike="noStrike">
                <a:solidFill>
                  <a:srgbClr val="00a29e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028000" y="189000"/>
            <a:ext cx="952560" cy="12668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611280" y="1413000"/>
            <a:ext cx="7777080" cy="515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1DC-05BE-4BC0-8662-0DBB549028F4}" type="slidenum">
              <a:t>9</a:t>
            </a:fld>
          </a:p>
        </p:txBody>
      </p: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0:01:21Z</dcterms:created>
  <dc:creator>ORFK</dc:creator>
  <dc:description/>
  <dc:language>en-US</dc:language>
  <cp:lastModifiedBy>User</cp:lastModifiedBy>
  <dcterms:modified xsi:type="dcterms:W3CDTF">2009-03-13T10:23:51Z</dcterms:modified>
  <cp:revision>156</cp:revision>
  <dc:subject/>
  <dc:title>A ZALA MEGYEI RENDŐR-FŐKAPITÁNYSÁG  2007. ÉVI TEVÉKENYSÉGE </dc:title>
</cp:coreProperties>
</file>